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" name="header-slide-wholepage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RSASecurity_logo-slides" descr=""/>
            <p:cNvPicPr/>
            <p:nvPr/>
          </p:nvPicPr>
          <p:blipFill>
            <a:blip r:embed="rId3"/>
            <a:stretch/>
          </p:blipFill>
          <p:spPr>
            <a:xfrm>
              <a:off x="228600" y="6006960"/>
              <a:ext cx="8589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440"/>
            <a:ext cx="9144000" cy="6855120"/>
            <a:chOff x="0" y="1440"/>
            <a:chExt cx="9144000" cy="6855120"/>
          </a:xfrm>
        </p:grpSpPr>
        <p:pic>
          <p:nvPicPr>
            <p:cNvPr id="42" name="header-title-wholepage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685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403200" y="5872320"/>
              <a:ext cx="1047600" cy="7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PKCS #5 v2.0:</a:t>
            </a:r>
            <a:br>
              <a:rPr sz="4800"/>
            </a:b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Password-Based Cryptography Standard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t Kaliski, RSA Laborat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KCS Workshop, 29 September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KCS #5 v2.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ssword-Based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Cryptography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Standar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ublished March 1999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ral techniqu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xtended v1.5 and new KDF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xtended v1.5 and new modular encryption schem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ew modular message authentication schem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ew schemes are recommended for new applic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Key Derivation Fun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spcBef>
                <a:spcPts val="1500"/>
              </a:spcBef>
              <a:spcAft>
                <a:spcPts val="1199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BKDF2 (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dkLe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spcAft>
                <a:spcPts val="1199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. Compute blocks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1c1c1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…,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1c1c1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by iterated construction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0" algn="ctr">
              <a:spcBef>
                <a:spcPts val="624"/>
              </a:spcBef>
              <a:spcAft>
                <a:spcPts val="1199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4d5981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|| Int 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) 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4d5981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4d5981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 , …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U</a:t>
            </a:r>
            <a:r>
              <a:rPr b="1" i="1" lang="en-US" sz="2000" spc="-1" strike="noStrike" baseline="-25000">
                <a:solidFill>
                  <a:srgbClr val="4d5981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U</a:t>
            </a:r>
            <a:r>
              <a:rPr b="1" i="1" lang="en-US" sz="2000" spc="-1" strike="noStrike" baseline="-25000">
                <a:solidFill>
                  <a:srgbClr val="4d5981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4d5981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br>
              <a:rPr sz="2000"/>
            </a:b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4d5981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4d5981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\xor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4d5981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\xor </a:t>
            </a:r>
            <a:r>
              <a:rPr b="1" lang="en-US" sz="2000" spc="-1" strike="noStrike">
                <a:solidFill>
                  <a:srgbClr val="4d5981"/>
                </a:solidFill>
                <a:latin typeface="Symbol"/>
                <a:ea typeface="Symbol"/>
              </a:rPr>
              <a:t>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\xor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U</a:t>
            </a:r>
            <a:r>
              <a:rPr b="1" i="1" lang="en-US" sz="2000" spc="-1" strike="noStrike" baseline="-25000">
                <a:solidFill>
                  <a:srgbClr val="4d5981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spcAft>
                <a:spcPts val="1199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. Output first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dkLe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octets of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1c1c1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||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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||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1c1c1c"/>
                </a:solidFill>
                <a:latin typeface="Arial"/>
              </a:rPr>
              <a:t>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spcAft>
                <a:spcPts val="1199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is underlying pseudorandom func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ivation for PBKDF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elt-and-suspenders” approach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11360" indent="-2725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U</a:t>
            </a:r>
            <a:r>
              <a:rPr b="1" i="1" lang="en-US" sz="2000" spc="-1" strike="noStrike" baseline="-25000">
                <a:solidFill>
                  <a:srgbClr val="4d5981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values are computed recursively to remove a degree of parallelis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94040" indent="-22068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ifferent than PKCS ’98 proposal, which computed them independently as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U</a:t>
            </a:r>
            <a:r>
              <a:rPr b="1" i="1" lang="en-US" sz="2000" spc="-1" strike="noStrike" baseline="-25000">
                <a:solidFill>
                  <a:srgbClr val="4d5981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|| Int 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 || Int 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11360" indent="-2725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XOR reduces concerns about the recursion degenerating into a small set of valu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20680" indent="-2206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(Potentially) provably secure under reasonable assumptions on pseudorandom function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20680" indent="-2206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ariable length through varying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Encryption Sche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916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ncryption oper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0916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. Select salt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iteration count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key length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dkLe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0916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. Apply KDF to derive ke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09160" indent="0" algn="ctr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DK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= KDF (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dkLe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0916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3. Apply underlying encryption schem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09160" indent="0" algn="ctr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= Enc</a:t>
            </a:r>
            <a:r>
              <a:rPr b="1" i="1" lang="en-US" sz="2400" spc="-1" strike="noStrike" baseline="-25000">
                <a:solidFill>
                  <a:srgbClr val="1c1c1c"/>
                </a:solidFill>
                <a:latin typeface="Arial"/>
              </a:rPr>
              <a:t>DK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74280" indent="-2581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arameters such as IV selected as part of underlying schem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0916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cryption is simila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ssage Authentication Sche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AC generation oper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2068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. Select salt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iteration count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key length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dkLe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2068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. Apply KDF to derive ke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20680" indent="0" algn="ctr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DK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= KDF (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dkLe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2068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3. Apply underlying message authentication schem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20680" indent="0" algn="ctr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= MAC</a:t>
            </a:r>
            <a:r>
              <a:rPr b="1" i="1" lang="en-US" sz="2400" spc="-1" strike="noStrike" baseline="-25000">
                <a:solidFill>
                  <a:srgbClr val="1c1c1c"/>
                </a:solidFill>
                <a:latin typeface="Arial"/>
              </a:rPr>
              <a:t>DK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2068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AC verification is simila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ressing the Limit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lgorithm restriction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rbitrary (iterated) pseudorandom func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rbitrary underlying encryption schem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oretical deficienci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formal model / (potential) security proof for KDF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nstruction still has “entropy bottleneck”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but can support wider hash func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ot a practical problem for password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Large maximum length for key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pporting Techniqu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seudorandom function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MAC-SHA-1 where message is index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ncryption schem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ES, DES-EDE3, RC2, RC5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ll in CBC mode with PKCS #5 v1.5 padding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ES-EDE2, DESX, RC4 could potentially be add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ssage authentication schem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MAC-SHA-1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N.1 Synta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Key derivation func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nly PBKDF2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ncryption schem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BES1 and PBES2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ssage authentication scheme (and pseudorandom function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BMAC1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BKDF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Generic OID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d-pbkdf2 ::= pkcs-5.12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rameter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BKDF2-params ::= SEQUENCE {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salt CHOICE {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  specified OCTET STRING,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  otherSource AlgID {{PBKDF2-SaltSources}} },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iterationCount INTEGER (1..MAX),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keyLength INTEGER (1..MAX) OPTIONAL,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prf AlgID {{PBKDF2-PRFs}}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  DEFAULT algid-hmacWithSHA1 }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BES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pecific OIDs as in v1.5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beWithMD2AndDES-CBC ::= pkcs-5.1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beWithMD5AndDES-CBC ::= pkcs-5.3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beWithSHA1AndRC2-CBC ::= pkcs-5.11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rameter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BEParameter ::= SEQUENCE {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salt OCTET STRING SIZE (8),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iterationCount INTEGER }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5 v1.5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5 v2.0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Generating sal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ossible future work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BES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Generic OID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d-pbes2 ::= pkcs-5.13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rameter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BES2-params ::= SEQUENCE {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kdf AlgID {{PBES2-KDFs}},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enc AlgID {{PBES2-Encs}} }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BMAC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Generic OID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d-pbmac1 ::= pkcs-5.14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rameter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BMAC1-params ::=  SEQUENCE {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kdf AlgID {{PBMAC1-KDFs}},</a:t>
            </a:r>
            <a:br>
              <a:rPr sz="2000"/>
            </a:b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 mac AlgID {{PBMAC1-MACs}} }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erating Sal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imary purpose of salt is to increase difficulty of precomputation attack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ary purpose is to separate keys generated at different tim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random salt assures the one who generated it that these goals are achieved, but not necessarily the one who receives i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.e., the party decrypting a ciphertext or verifying a MAC is not assured that separate keys were employ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loiting Ambigu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9800" indent="-1998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ppose a password is employed for two algorithms with different key lengths, and the salt does not distinguish between them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99800" indent="-1998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n for a given salt, the key for one algorithm will be a prefix of the key for the oth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99800" indent="-1998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ppose also that an opponent can solve for the shorter key by a chosen ciphertext attack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99800" indent="-1998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n the opponent can also solve for the longer key by guessing the rest of it: “divide-and-conquer”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99800" indent="-1998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milar concerns for other kinds of interac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lt Recommend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f interactions are not a concern (e.g., password is always employed with the same algorithm), then a random salt is sufficien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t least 64 bits recommend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f they are, then the salt should also contain some structure, e.g., an algorithm identifier and/or a sequence number that can be checked by the party receiving the ke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ssible Future 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tructure for salt valu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basically, key derivation parameters for KDF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epper” variants where part of salt is secre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veral references in literatur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ublic-key password-based techniqu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assword-based entity authentication and key establishmen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assword-based private-key downloading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ryptography with a password ..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cryp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essage authentic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dentification, key establishmen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as some peculiar problem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asswords are not conventional key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or are they very “random”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eral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ssword-based key derivation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0" algn="ctr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PBKDF 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password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al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coun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alt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prevents dictionary attack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count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complicates search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key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is applied to conventional cryptosystem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KCS #5 v1.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ssword-Based Encryption Standar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ublished November 1993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wo encryption schem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D2 with DES-CBC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D5 with DES-CBC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KCS #5 v1.5 Encryption Sche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916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ncryption oper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0916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. Generate salt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0916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. Hash with password to derive key, IV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74280" indent="0" algn="ctr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IV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Hash</a:t>
            </a:r>
            <a:r>
              <a:rPr b="1" i="1" lang="en-US" sz="2000" spc="-1" strike="noStrike" baseline="30000">
                <a:solidFill>
                  <a:srgbClr val="4d5981"/>
                </a:solidFill>
                <a:latin typeface="Arial"/>
              </a:rPr>
              <a:t>count</a:t>
            </a:r>
            <a:r>
              <a:rPr b="1" lang="en-US" sz="2000" spc="-1" strike="noStrike" baseline="30000">
                <a:solidFill>
                  <a:srgbClr val="4d598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0916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3. Pad message and encrypt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74280" indent="0" algn="ctr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E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pad</a:t>
            </a:r>
            <a:br>
              <a:rPr sz="2000"/>
            </a:b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DES-CBC 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IV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EM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09160" indent="-2091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count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sent to recipien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0916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cryption is simila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mitations of v1.5 Sche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lgorithm restriction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nly two hash functio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nly one underlying encryption schem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ncludes padding, assumes CBC mod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oretical deficienci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o formal model or security proof for KDF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nstruction has “entropy bottleneck”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xed maximum length for key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hancements Before v2.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 Data Security extension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HA-1 hash func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C2-CBC encryp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12 password-based schem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KCS Workshops ’97, ’9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scussion of PKCS #5 improvements, proposed draf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clusion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1. New key derivation function to be specifi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2. Modular encryption, message authentication schem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arameters for underlying scheme (e.g., IV) managed separatel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Burt Kaliski</dc:creator>
  <dc:description/>
  <dc:language>en-US</dc:language>
  <cp:lastModifiedBy>Burt Kaliski</cp:lastModifiedBy>
  <cp:lastPrinted>1998-08-07T15:04:05Z</cp:lastPrinted>
  <dcterms:modified xsi:type="dcterms:W3CDTF">1999-09-28T16:49:24Z</dcterms:modified>
  <cp:revision>191</cp:revision>
  <dc:subject/>
  <dc:title>PKCS #5 v2.0: Password-Based Cryptography Standard</dc:title>
</cp:coreProperties>
</file>