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907588" cy="6858000"/>
  <p:notesSz cx="67278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50760" y="786960"/>
            <a:ext cx="7963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11280" y="679320"/>
            <a:ext cx="864216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10560" y="6464160"/>
            <a:ext cx="1495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runo Struif, GMD-TK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676360" y="6515280"/>
            <a:ext cx="714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72973F3-84D1-4013-B87E-9FCE8BCCA0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14400" y="533520"/>
            <a:ext cx="1522440" cy="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martCard-Techni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8763120" y="380880"/>
            <a:ext cx="753840" cy="8384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59080" y="3886200"/>
            <a:ext cx="7018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1828800"/>
            <a:ext cx="8409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German Digital Signature Card and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fice Identity Card 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and 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KCS #15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57560" y="4114800"/>
            <a:ext cx="707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runo Stru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G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German National Research Center for Information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Darmsta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762120" y="1981080"/>
            <a:ext cx="8381880" cy="4114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User Authentication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KCS15 describes PINs and passwords, but no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iometric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The German Digital Signature law allows biometric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t is technically already feasible to implement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iometric feature matching algorithms in c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SO/IEC will add an amendment to 7816-4 with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respect to biometric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VERIFY Command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43000" y="2057400"/>
            <a:ext cx="7543800" cy="4038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590920" y="2209680"/>
          <a:ext cx="6072120" cy="217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209680"/>
                    <a:ext cx="6072120" cy="21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1386000" y="4572000"/>
            <a:ext cx="6174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If a digital signature is made on a private PC,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then the PIN is presented as plain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If a digital signature is made on a public customer service terminal,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then the PIN shall be presented as cryptogram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followed by a cryptographic check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71600" y="1981080"/>
            <a:ext cx="7086600" cy="4267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86520" y="2057400"/>
            <a:ext cx="6714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15Authentication  ::= CHOI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in    PKCS15AuthenticationObject { PKCSPinAttributes 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io   PKCS15AuthenticationObject { PKCSBioAttributes 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15BioAttributes  ::= SEQUEN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Flags            PKCS15BioFlag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Subject         PKCS15BioSubjec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Type             PKCS15BioType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Reference     [0] PKCSReference DEFAULT 0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lastBioChange   GeneralizedTime  OPTIONAL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path                    PKCS15Path OPTIONAL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...  -- For future extensions }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05120" y="1905120"/>
            <a:ext cx="5715000" cy="4343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356920" y="1981080"/>
            <a:ext cx="4214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15BioFlags  ::= BIT STRING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0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local                     (1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change-disabled   (2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unblock-disabled (3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initialized             (4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5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6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7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disable-allowed     (8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authentic               (9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enciphered           (10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3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28800" y="2133720"/>
            <a:ext cx="6705720" cy="3962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9000" y="2133720"/>
            <a:ext cx="5708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BioSubject  ::= CHOI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fingerPrint                [0] Finger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voicePrint                  [1] Voice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irisPrint                     [2] Iris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facePrint                    [3] Face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tinaPrint                 [4] Retina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handGeometry          [5] HandGeometry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writeDynamics          [6] WriteDynamic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keystrokeDynamics  [7] KeystrokeDynamic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lipDynamics              [8] LipDynamic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... -- For future extension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4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19320" y="2057400"/>
            <a:ext cx="7391160" cy="3962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92880" y="2438280"/>
            <a:ext cx="6674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FingerPrint ::=  SEQUEN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handID      HandID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fingerID    FingerI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}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HandID ::= ENUMERATED {righthand (0), lefthand (1) }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FingerID ::= ENUMRATED { thumb(0), pointer finger (1)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middle finger (2), ring finger (3), little finger (4)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Access to object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523880" y="1752480"/>
            <a:ext cx="7467840" cy="4114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05720" y="2209680"/>
            <a:ext cx="1676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63760" y="2438280"/>
            <a:ext cx="141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ublic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05720" y="3352680"/>
            <a:ext cx="1676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24160" y="3581280"/>
            <a:ext cx="149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rivate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05720" y="4495680"/>
            <a:ext cx="1676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768000" y="4724280"/>
            <a:ext cx="16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Entity Object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724280" y="251460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66320" y="231444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ccess is 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76920" y="37339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15920" y="2895480"/>
            <a:ext cx="1945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Object has to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res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(PIN, passwor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iometr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29200" y="48769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15920" y="4648320"/>
            <a:ext cx="2369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has to be perfor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Management of Access Right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90720" y="1600200"/>
            <a:ext cx="7924680" cy="4724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23880" y="2286000"/>
            <a:ext cx="160020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47560" y="1828800"/>
            <a:ext cx="175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Elementary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3880" y="31240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187160" y="2057400"/>
            <a:ext cx="4551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M =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C = EXT AUTH (asym)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HA = ´x.01´ or ´x.02´ and User A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M = 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C = EXT AUTH (asym)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HA = ´x.01´ and 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X = Prefix denoting the AID or the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ssigning the role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4876920"/>
            <a:ext cx="359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M = Access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C = Security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HA = Cert. Holder Author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(Prefix, Role 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M = Secure Messa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Hashing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62320" y="1752480"/>
            <a:ext cx="5867280" cy="441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3048120" y="2286000"/>
          <a:ext cx="4429080" cy="323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86000"/>
                    <a:ext cx="442908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600200" y="1752480"/>
            <a:ext cx="6553080" cy="441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ertificate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666520" y="20574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KCS15 distinguish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x509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x509Attribute 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spki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pgp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wtls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x9-68Certificates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ut no cvCertificat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52480" y="1828800"/>
            <a:ext cx="5410440" cy="3352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General Configuration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2514600"/>
            <a:ext cx="1904760" cy="190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3581280"/>
            <a:ext cx="914400" cy="83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3962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98560" y="2971800"/>
            <a:ext cx="99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r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11480" y="20574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943600" y="2666880"/>
            <a:ext cx="990720" cy="609480"/>
            <a:chOff x="5943600" y="2666880"/>
            <a:chExt cx="990720" cy="609480"/>
          </a:xfrm>
        </p:grpSpPr>
        <p:sp>
          <p:nvSpPr>
            <p:cNvPr id="54" name=""/>
            <p:cNvSpPr/>
            <p:nvPr/>
          </p:nvSpPr>
          <p:spPr>
            <a:xfrm>
              <a:off x="5943600" y="2666880"/>
              <a:ext cx="990720" cy="60948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6240" y="2819160"/>
              <a:ext cx="152280" cy="15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249600" y="281916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C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943600" y="3505320"/>
            <a:ext cx="990360" cy="609480"/>
            <a:chOff x="5943600" y="3505320"/>
            <a:chExt cx="990360" cy="609480"/>
          </a:xfrm>
        </p:grpSpPr>
        <p:sp>
          <p:nvSpPr>
            <p:cNvPr id="58" name=""/>
            <p:cNvSpPr/>
            <p:nvPr/>
          </p:nvSpPr>
          <p:spPr>
            <a:xfrm>
              <a:off x="5943600" y="3505320"/>
              <a:ext cx="990360" cy="60948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95880" y="3657600"/>
              <a:ext cx="152280" cy="151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49240" y="365760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C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943600" y="4343400"/>
            <a:ext cx="990720" cy="609480"/>
            <a:chOff x="5943600" y="4343400"/>
            <a:chExt cx="990720" cy="609480"/>
          </a:xfrm>
        </p:grpSpPr>
        <p:sp>
          <p:nvSpPr>
            <p:cNvPr id="62" name=""/>
            <p:cNvSpPr/>
            <p:nvPr/>
          </p:nvSpPr>
          <p:spPr>
            <a:xfrm>
              <a:off x="5943600" y="4343400"/>
              <a:ext cx="990720" cy="60948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95880" y="4495680"/>
              <a:ext cx="15264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49600" y="449568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C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362320" y="2895480"/>
            <a:ext cx="15238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30440" y="302436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37339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8680" y="3429000"/>
            <a:ext cx="102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KCS#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43720" y="1981080"/>
            <a:ext cx="149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ifferent 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with PKCS#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34640" y="2957400"/>
            <a:ext cx="1756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mart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roviding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ame servic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but possib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 a different wa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9840" y="5334120"/>
            <a:ext cx="81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63de8"/>
                </a:solidFill>
                <a:latin typeface="Times New Roman"/>
              </a:rPr>
              <a:t>- If a PC application knows to deal with a card application, no directory files are necess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63de8"/>
                </a:solidFill>
                <a:latin typeface="Times New Roman"/>
              </a:rPr>
              <a:t>- If a PC application does not know how to deal with a card application, it needs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Verifiable Certificate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5280" y="1447920"/>
            <a:ext cx="7467840" cy="4800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47920" y="1676520"/>
            <a:ext cx="6933960" cy="761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PI      CAR        CHR      CHA      OID        PK       SIG.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205740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297180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96252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80060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56272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632448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21360" y="2514600"/>
            <a:ext cx="7095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PI = Certificate Profile 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AR = Certification Authority Reference (Authority Key Identif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HR = Certificate Holder Reference (Subject Key Identif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HA = Certificate Holder Authorisation (Authority || Role Identif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OID  = Object Identifier of PK Algorit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PK = Public Key of Certificate Hol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SIG.CA = Signature of Certificate Issuing 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371600" y="1752480"/>
            <a:ext cx="7327800" cy="4178520"/>
          </a:xfrm>
          <a:prstGeom prst="rect">
            <a:avLst/>
          </a:prstGeom>
          <a:solidFill>
            <a:srgbClr val="eaec5e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96520" y="1828800"/>
            <a:ext cx="6720840" cy="39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Template tags for all securit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e.g. user authentication service, digital signature servic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ntity authentication service, key cipherment servi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Instruction set mapping ISM (regular comman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ommand to perform (if command is different form that in IS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Object Id of the algorith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Algorithm reference (as used by the c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Key reference (as used by the c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Key file id (some cards select the key file containing the key to be us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ertificate file id (if present then the file contains the certificat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ertificate reference (used e.g. if the certificate is not stored in the c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ertificate qualifier (e.g. X.509 certificate,  ICC certific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PIN usage policy (present if the security service is PIN protect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83120" y="914400"/>
            <a:ext cx="4905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ecurity Service</a:t>
            </a:r>
            <a:r>
              <a:rPr b="1" lang="de-DE" sz="16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Descri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ecurity Service Descriptor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of supported algorithms, DSI schemas, hash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of user authentication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where to find certif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of implementation vari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upport of 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990720" y="1752480"/>
            <a:ext cx="7848360" cy="4267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SD construction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33720" y="19461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065240" y="1890720"/>
            <a:ext cx="72324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For each security service provided by the card exists one or more SSD 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Inside an SSS template is one DO mandatory: the DO „command to perform“</a:t>
            </a:r>
            <a:br>
              <a:rPr sz="1600"/>
            </a:b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Use e.g. for VERIFY: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 - command class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reference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length is present possibly with padding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resentation form is present: plain value or with SM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Use e.g. for CHANGE RD: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command class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reference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usage option is present, e.g. old PIN required/not required in the command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length is present possibly with padding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resentation form is present: plain value or with SM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990720" y="1752480"/>
            <a:ext cx="7848360" cy="4267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SD construction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33720" y="19461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747080" y="2514600"/>
            <a:ext cx="64245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Use e.g. for digital signature function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the MANAGE SECURITY ENVIRONMENT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to perform is presente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the HASH command, if needed, is presente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The PERFORM SECURITY OPERATION comman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is presented for the digital signature compu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- Different methods for Dig. Sig. Input construction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can be denoted by the DO OID or the DO AlgI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E.g. PKCS#1 or ISO 9796-2 r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The FIDs of related certificate files are gi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990720" y="1981080"/>
            <a:ext cx="8001000" cy="4114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Working with PKCS#15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90360" y="2133360"/>
            <a:ext cx="78483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he usage of PKCS#15 require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DF(PKCS15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ODF) for getting the pointer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ODF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AODF) for getting the PIN informatio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AODF)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 (PrKDF) for getting the signature key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PrKDF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CDF) for getting the certificate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CDF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PuKDF) for getting the root CA PuK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PuK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762120" y="1828800"/>
            <a:ext cx="8305560" cy="4038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Working with PKCS#15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o do this all is not very efficient. Therefor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 the information once from the card a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store it under a card reference, e.g. the ICC Serial Number ICCSN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keep the information outside the card and store in the card th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card profile identifier pointing to the outside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Open problem: there is no indication whether the PKCS15 files ar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ocrd-oriented o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trans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7962840" cy="66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File Structure of DF.SIG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362320" y="1295280"/>
            <a:ext cx="4800600" cy="5105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352680" y="1447920"/>
          <a:ext cx="3270240" cy="482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447920"/>
                    <a:ext cx="3270240" cy="48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38080" y="1905120"/>
            <a:ext cx="8077320" cy="4038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Is PKCS#15 powerful enough?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46520" y="1981080"/>
            <a:ext cx="7727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ome challen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cards may have a hash function or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cards may support different signature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cards may support a different set of Digital Signature Input form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 card may be configurated in such a way that it allow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either after PIN presentation an unlimited number of D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or requires PIN presentation before each 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 card may support ETSI PIN management commands instead of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ISO-command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 card may support a proprietary command for a certai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security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86000" y="1981080"/>
            <a:ext cx="5181480" cy="3733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71800" y="2666880"/>
            <a:ext cx="388620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276720" y="3048120"/>
            <a:ext cx="3431520" cy="1396800"/>
            <a:chOff x="3276720" y="3048120"/>
            <a:chExt cx="3431520" cy="1396800"/>
          </a:xfrm>
        </p:grpSpPr>
        <p:sp>
          <p:nvSpPr>
            <p:cNvPr id="79" name=""/>
            <p:cNvSpPr/>
            <p:nvPr/>
          </p:nvSpPr>
          <p:spPr>
            <a:xfrm>
              <a:off x="5676840" y="3771720"/>
              <a:ext cx="1031400" cy="559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11520" y="3178080"/>
              <a:ext cx="76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3979800" y="3469680"/>
              <a:ext cx="609120" cy="40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02120" y="354636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68600" y="3386880"/>
              <a:ext cx="419040" cy="53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03520" y="3326760"/>
              <a:ext cx="847440" cy="438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85960" y="3048120"/>
              <a:ext cx="812520" cy="50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05040" y="3914640"/>
              <a:ext cx="812520" cy="501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76720" y="388620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24200" y="3876480"/>
              <a:ext cx="1031760" cy="55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49680" y="4035240"/>
              <a:ext cx="761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1280" y="4019400"/>
              <a:ext cx="966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64240" y="3940200"/>
              <a:ext cx="76140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DFs/EFs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1523880"/>
            <a:ext cx="7391520" cy="4648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1828800"/>
            <a:ext cx="5867640" cy="403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133720" y="2286000"/>
            <a:ext cx="5511600" cy="1517760"/>
            <a:chOff x="2133720" y="2286000"/>
            <a:chExt cx="5511600" cy="1517760"/>
          </a:xfrm>
        </p:grpSpPr>
        <p:sp>
          <p:nvSpPr>
            <p:cNvPr id="96" name=""/>
            <p:cNvSpPr/>
            <p:nvPr/>
          </p:nvSpPr>
          <p:spPr>
            <a:xfrm>
              <a:off x="4343400" y="2286000"/>
              <a:ext cx="1031760" cy="559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362480" y="324504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76680" y="324504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600600" y="324504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33720" y="324504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247920" y="324504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63960" y="287028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3951360" y="2765520"/>
              <a:ext cx="58104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58520" y="2768040"/>
              <a:ext cx="523800" cy="49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63280" y="2635560"/>
              <a:ext cx="1505160" cy="64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979720" y="2670480"/>
              <a:ext cx="140976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60680" y="2444760"/>
              <a:ext cx="108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63680" y="339732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40080" y="341640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02160" y="339732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40400" y="3407040"/>
              <a:ext cx="90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78640" y="341640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2450520" y="4038480"/>
            <a:ext cx="3998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EF(ODF) - Object Directoty File - point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PrKDFs) - Private Key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PuKDFs) - Public Key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SKDFs) - Secret Key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CDFs) - Certificate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DODFs) - Data Object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19320" y="1676520"/>
            <a:ext cx="7467480" cy="4419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ross-References 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1828800"/>
            <a:ext cx="586728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590920" y="2057400"/>
            <a:ext cx="4754160" cy="3611160"/>
            <a:chOff x="2590920" y="2057400"/>
            <a:chExt cx="4754160" cy="3611160"/>
          </a:xfrm>
        </p:grpSpPr>
        <p:sp>
          <p:nvSpPr>
            <p:cNvPr id="118" name=""/>
            <p:cNvSpPr/>
            <p:nvPr/>
          </p:nvSpPr>
          <p:spPr>
            <a:xfrm>
              <a:off x="6065280" y="2742840"/>
              <a:ext cx="1279800" cy="63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65280" y="4561560"/>
              <a:ext cx="1096920" cy="71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25200" y="3533400"/>
              <a:ext cx="1279800" cy="71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45040" y="3454560"/>
              <a:ext cx="1279800" cy="368640"/>
            </a:xfrm>
            <a:custGeom>
              <a:avLst/>
              <a:gdLst/>
              <a:ahLst/>
              <a:rect l="l" t="t" r="r" b="b"/>
              <a:pathLst>
                <a:path w="2016" h="672">
                  <a:moveTo>
                    <a:pt x="0" y="0"/>
                  </a:moveTo>
                  <a:cubicBezTo>
                    <a:pt x="480" y="240"/>
                    <a:pt x="960" y="480"/>
                    <a:pt x="1296" y="576"/>
                  </a:cubicBezTo>
                  <a:cubicBezTo>
                    <a:pt x="1632" y="672"/>
                    <a:pt x="1896" y="576"/>
                    <a:pt x="2016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45040" y="3771000"/>
              <a:ext cx="1919880" cy="1186200"/>
            </a:xfrm>
            <a:custGeom>
              <a:avLst/>
              <a:gdLst/>
              <a:ahLst/>
              <a:rect l="l" t="t" r="r" b="b"/>
              <a:pathLst>
                <a:path w="3024" h="2160">
                  <a:moveTo>
                    <a:pt x="0" y="0"/>
                  </a:moveTo>
                  <a:cubicBezTo>
                    <a:pt x="636" y="60"/>
                    <a:pt x="1272" y="120"/>
                    <a:pt x="1584" y="432"/>
                  </a:cubicBezTo>
                  <a:cubicBezTo>
                    <a:pt x="1896" y="744"/>
                    <a:pt x="1632" y="1584"/>
                    <a:pt x="1872" y="1872"/>
                  </a:cubicBezTo>
                  <a:cubicBezTo>
                    <a:pt x="2112" y="2160"/>
                    <a:pt x="2568" y="2160"/>
                    <a:pt x="3024" y="2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45040" y="4073760"/>
              <a:ext cx="1005480" cy="1410120"/>
            </a:xfrm>
            <a:custGeom>
              <a:avLst/>
              <a:gdLst/>
              <a:ahLst/>
              <a:rect l="l" t="t" r="r" b="b"/>
              <a:pathLst>
                <a:path w="1584" h="2568">
                  <a:moveTo>
                    <a:pt x="0" y="24"/>
                  </a:moveTo>
                  <a:cubicBezTo>
                    <a:pt x="408" y="12"/>
                    <a:pt x="816" y="0"/>
                    <a:pt x="864" y="312"/>
                  </a:cubicBezTo>
                  <a:cubicBezTo>
                    <a:pt x="912" y="624"/>
                    <a:pt x="264" y="1536"/>
                    <a:pt x="288" y="1896"/>
                  </a:cubicBezTo>
                  <a:cubicBezTo>
                    <a:pt x="312" y="2256"/>
                    <a:pt x="792" y="2376"/>
                    <a:pt x="1008" y="2472"/>
                  </a:cubicBezTo>
                  <a:cubicBezTo>
                    <a:pt x="1224" y="2568"/>
                    <a:pt x="1404" y="2520"/>
                    <a:pt x="1584" y="24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50880" y="5036400"/>
              <a:ext cx="1096920" cy="63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D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71120" y="3365280"/>
              <a:ext cx="273960" cy="1371240"/>
            </a:xfrm>
            <a:custGeom>
              <a:avLst/>
              <a:gdLst/>
              <a:ahLst/>
              <a:rect l="l" t="t" r="r" b="b"/>
              <a:pathLst>
                <a:path w="432" h="2160">
                  <a:moveTo>
                    <a:pt x="0" y="0"/>
                  </a:moveTo>
                  <a:cubicBezTo>
                    <a:pt x="216" y="468"/>
                    <a:pt x="432" y="936"/>
                    <a:pt x="432" y="1296"/>
                  </a:cubicBezTo>
                  <a:cubicBezTo>
                    <a:pt x="432" y="1656"/>
                    <a:pt x="216" y="1908"/>
                    <a:pt x="0" y="2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13920" y="3382920"/>
              <a:ext cx="289440" cy="548280"/>
            </a:xfrm>
            <a:custGeom>
              <a:avLst/>
              <a:gdLst/>
              <a:ahLst/>
              <a:rect l="l" t="t" r="r" b="b"/>
              <a:pathLst>
                <a:path w="456" h="864">
                  <a:moveTo>
                    <a:pt x="0" y="0"/>
                  </a:moveTo>
                  <a:cubicBezTo>
                    <a:pt x="204" y="288"/>
                    <a:pt x="408" y="576"/>
                    <a:pt x="432" y="720"/>
                  </a:cubicBezTo>
                  <a:cubicBezTo>
                    <a:pt x="456" y="864"/>
                    <a:pt x="192" y="840"/>
                    <a:pt x="144" y="8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64880" y="4268880"/>
              <a:ext cx="9140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90920" y="2642400"/>
              <a:ext cx="1554120" cy="165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PuK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PrK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C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AO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DO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328248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90920" y="355680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90920" y="384012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90920" y="291672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68000" y="2102760"/>
              <a:ext cx="1279800" cy="63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EF(Pu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45040" y="2651400"/>
              <a:ext cx="1096920" cy="198000"/>
            </a:xfrm>
            <a:custGeom>
              <a:avLst/>
              <a:gdLst/>
              <a:ahLst/>
              <a:rect l="l" t="t" r="r" b="b"/>
              <a:pathLst>
                <a:path w="1728" h="312">
                  <a:moveTo>
                    <a:pt x="0" y="144"/>
                  </a:moveTo>
                  <a:cubicBezTo>
                    <a:pt x="504" y="228"/>
                    <a:pt x="1008" y="312"/>
                    <a:pt x="1296" y="288"/>
                  </a:cubicBezTo>
                  <a:cubicBezTo>
                    <a:pt x="1584" y="264"/>
                    <a:pt x="1656" y="132"/>
                    <a:pt x="172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65280" y="2057400"/>
              <a:ext cx="1005480" cy="685440"/>
            </a:xfrm>
            <a:custGeom>
              <a:avLst/>
              <a:gdLst/>
              <a:ahLst/>
              <a:rect l="l" t="t" r="r" b="b"/>
              <a:pathLst>
                <a:path w="1536" h="1080">
                  <a:moveTo>
                    <a:pt x="0" y="216"/>
                  </a:moveTo>
                  <a:cubicBezTo>
                    <a:pt x="312" y="108"/>
                    <a:pt x="624" y="0"/>
                    <a:pt x="864" y="72"/>
                  </a:cubicBezTo>
                  <a:cubicBezTo>
                    <a:pt x="1104" y="144"/>
                    <a:pt x="1344" y="480"/>
                    <a:pt x="1440" y="648"/>
                  </a:cubicBezTo>
                  <a:cubicBezTo>
                    <a:pt x="1536" y="816"/>
                    <a:pt x="1488" y="948"/>
                    <a:pt x="1440" y="10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145040" y="3029400"/>
              <a:ext cx="1919880" cy="7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33760" y="2742840"/>
              <a:ext cx="273960" cy="914040"/>
            </a:xfrm>
            <a:custGeom>
              <a:avLst/>
              <a:gdLst/>
              <a:ahLst/>
              <a:rect l="l" t="t" r="r" b="b"/>
              <a:pathLst>
                <a:path w="432" h="1440">
                  <a:moveTo>
                    <a:pt x="432" y="0"/>
                  </a:moveTo>
                  <a:cubicBezTo>
                    <a:pt x="216" y="168"/>
                    <a:pt x="0" y="336"/>
                    <a:pt x="0" y="576"/>
                  </a:cubicBezTo>
                  <a:cubicBezTo>
                    <a:pt x="0" y="816"/>
                    <a:pt x="216" y="1128"/>
                    <a:pt x="432" y="14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3880" y="1981080"/>
            <a:ext cx="6705720" cy="3886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3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2209680"/>
            <a:ext cx="6172200" cy="342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981080" y="2286000"/>
            <a:ext cx="5661000" cy="3098880"/>
            <a:chOff x="1981080" y="2286000"/>
            <a:chExt cx="5661000" cy="3098880"/>
          </a:xfrm>
        </p:grpSpPr>
        <p:sp>
          <p:nvSpPr>
            <p:cNvPr id="142" name=""/>
            <p:cNvSpPr/>
            <p:nvPr/>
          </p:nvSpPr>
          <p:spPr>
            <a:xfrm>
              <a:off x="6610320" y="300996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45000" y="241596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824360" y="2708280"/>
              <a:ext cx="698400" cy="46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35600" y="278424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01360" y="2625480"/>
              <a:ext cx="438120" cy="55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36280" y="2564640"/>
              <a:ext cx="847800" cy="438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19440" y="2286000"/>
              <a:ext cx="812880" cy="50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38520" y="3152520"/>
              <a:ext cx="812880" cy="501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57680" y="3114720"/>
              <a:ext cx="103212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3160" y="3273480"/>
              <a:ext cx="761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7360" y="3178080"/>
              <a:ext cx="76212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DFs/EFs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90760" y="314964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0984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2440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4832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8108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5280" y="410832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11680" y="3720240"/>
              <a:ext cx="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798720" y="3628800"/>
              <a:ext cx="58104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87880" y="3612960"/>
              <a:ext cx="542880" cy="5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11720" y="3498840"/>
              <a:ext cx="1504800" cy="64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827080" y="3533760"/>
              <a:ext cx="140976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24240" y="3308400"/>
              <a:ext cx="1044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11040" y="426060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87440" y="427968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49520" y="426060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87760" y="4270320"/>
              <a:ext cx="90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26000" y="427968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4840" y="4984560"/>
              <a:ext cx="3092400" cy="400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00320" y="5060880"/>
              <a:ext cx="145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eal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352320" y="4667040"/>
              <a:ext cx="15876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20240" y="4667040"/>
              <a:ext cx="16524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457160" y="4673520"/>
              <a:ext cx="15876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25080" y="4673520"/>
              <a:ext cx="16524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568840" y="4653720"/>
              <a:ext cx="164880" cy="33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43600" y="4654440"/>
              <a:ext cx="17136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19320" y="1600200"/>
            <a:ext cx="7467480" cy="4495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4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2057400"/>
            <a:ext cx="678204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676520" y="2362320"/>
            <a:ext cx="6425640" cy="3326760"/>
            <a:chOff x="1676520" y="2362320"/>
            <a:chExt cx="6425640" cy="3326760"/>
          </a:xfrm>
        </p:grpSpPr>
        <p:sp>
          <p:nvSpPr>
            <p:cNvPr id="182" name=""/>
            <p:cNvSpPr/>
            <p:nvPr/>
          </p:nvSpPr>
          <p:spPr>
            <a:xfrm>
              <a:off x="5059800" y="2492280"/>
              <a:ext cx="74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4453560" y="2784240"/>
              <a:ext cx="681840" cy="46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41400" y="2860560"/>
              <a:ext cx="0" cy="36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99240" y="2701800"/>
              <a:ext cx="452880" cy="52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34960" y="2362320"/>
              <a:ext cx="793800" cy="50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8840" y="3228840"/>
              <a:ext cx="793440" cy="50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69440" y="3203280"/>
              <a:ext cx="100764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72040" y="3349440"/>
              <a:ext cx="744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05880" y="3362040"/>
              <a:ext cx="74376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F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34720" y="3225600"/>
              <a:ext cx="100764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60200" y="418464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11760" y="417816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59720" y="419076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76520" y="4184640"/>
              <a:ext cx="100764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15120" y="418464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43760" y="3796560"/>
              <a:ext cx="0" cy="37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451680" y="3704400"/>
              <a:ext cx="56736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10240" y="3688560"/>
              <a:ext cx="530280" cy="51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31200" y="3574800"/>
              <a:ext cx="1469880" cy="64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2502360" y="3609720"/>
              <a:ext cx="137700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44080" y="3384360"/>
              <a:ext cx="101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03240" y="4336920"/>
              <a:ext cx="744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05120" y="4356000"/>
              <a:ext cx="84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97000" y="4336920"/>
              <a:ext cx="74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74040" y="4340160"/>
              <a:ext cx="88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38480" y="4362120"/>
              <a:ext cx="104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88040" y="3193920"/>
              <a:ext cx="100764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059960" y="3340080"/>
              <a:ext cx="104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36680" y="2568240"/>
              <a:ext cx="163728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31640" y="4844880"/>
              <a:ext cx="924120" cy="36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25160" y="4895640"/>
              <a:ext cx="91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eal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71920" y="5327640"/>
              <a:ext cx="924120" cy="36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71920" y="5384520"/>
              <a:ext cx="91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eal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44960" y="5657760"/>
              <a:ext cx="388872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74560" y="5505120"/>
              <a:ext cx="28591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28640" y="5359320"/>
              <a:ext cx="178632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40280" y="4749480"/>
              <a:ext cx="0" cy="9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88960" y="4743360"/>
              <a:ext cx="6120" cy="43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82120" y="4736880"/>
              <a:ext cx="0" cy="76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318200" y="4736880"/>
              <a:ext cx="612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223600" y="4736880"/>
              <a:ext cx="612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373360" y="4730400"/>
              <a:ext cx="576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93640" y="5180760"/>
              <a:ext cx="3299760" cy="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17120" y="5016240"/>
              <a:ext cx="226368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71560" y="4850640"/>
              <a:ext cx="1203120" cy="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52520" y="3745440"/>
              <a:ext cx="275760" cy="15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53160" y="3727440"/>
              <a:ext cx="499320" cy="112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219320" y="1752480"/>
            <a:ext cx="7543800" cy="44960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5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5120" y="2057400"/>
            <a:ext cx="6476760" cy="3962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133720" y="2286000"/>
            <a:ext cx="6168960" cy="3463560"/>
            <a:chOff x="2133720" y="2286000"/>
            <a:chExt cx="6168960" cy="3463560"/>
          </a:xfrm>
        </p:grpSpPr>
        <p:sp>
          <p:nvSpPr>
            <p:cNvPr id="233" name=""/>
            <p:cNvSpPr/>
            <p:nvPr/>
          </p:nvSpPr>
          <p:spPr>
            <a:xfrm>
              <a:off x="4165560" y="228600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05240" y="244476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65560" y="315288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05240" y="331164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60720" y="3162240"/>
              <a:ext cx="1031760" cy="559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86280" y="3338640"/>
              <a:ext cx="900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78640" y="315288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18320" y="331164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F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95960" y="3152880"/>
              <a:ext cx="103176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35640" y="331164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F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3696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33720" y="4444920"/>
              <a:ext cx="76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0844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54440" y="4449960"/>
              <a:ext cx="844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7992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06840" y="4426200"/>
              <a:ext cx="907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41680" y="4324320"/>
              <a:ext cx="69876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32320" y="442620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1352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65640" y="4419720"/>
              <a:ext cx="825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8500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5648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2796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73520" y="284184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645000" y="2745720"/>
              <a:ext cx="637920" cy="42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63400" y="2745720"/>
              <a:ext cx="701640" cy="42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07040" y="2555280"/>
              <a:ext cx="187632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3292200" y="3717360"/>
              <a:ext cx="2761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502000" y="3613320"/>
              <a:ext cx="666720" cy="7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4054320" y="3622680"/>
              <a:ext cx="13622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4797360" y="3708360"/>
              <a:ext cx="876240" cy="61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5578560" y="3699000"/>
              <a:ext cx="333360" cy="62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349680" y="3641760"/>
              <a:ext cx="428760" cy="70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112160" y="370836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73240" y="3632400"/>
              <a:ext cx="399960" cy="70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35200" y="4734000"/>
              <a:ext cx="0" cy="78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39960" y="5194440"/>
              <a:ext cx="129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2419200" y="4756320"/>
              <a:ext cx="6480" cy="87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2527200" y="5299200"/>
              <a:ext cx="227016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06800" y="4670640"/>
              <a:ext cx="6120" cy="10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2305080" y="4737240"/>
              <a:ext cx="6480" cy="66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27200" y="4753080"/>
              <a:ext cx="0" cy="54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43200" y="4702320"/>
              <a:ext cx="0" cy="50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17680" y="5407200"/>
              <a:ext cx="326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635200" y="5515200"/>
              <a:ext cx="371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19200" y="5635800"/>
              <a:ext cx="468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2209680" y="5743440"/>
              <a:ext cx="568656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4012920" y="4743360"/>
              <a:ext cx="12960" cy="45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4789800" y="4740480"/>
              <a:ext cx="7200" cy="55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5564520" y="4732200"/>
              <a:ext cx="7560" cy="67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6344280" y="4751640"/>
              <a:ext cx="648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7098120" y="4751280"/>
              <a:ext cx="7200" cy="87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7885440" y="4744800"/>
              <a:ext cx="10440" cy="10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899320" y="4432320"/>
              <a:ext cx="907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30920" y="442620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477200" y="4426200"/>
              <a:ext cx="825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0T13:33:42Z</dcterms:created>
  <dc:creator>Misniker</dc:creator>
  <dc:description/>
  <dc:language>en-US</dc:language>
  <cp:lastModifiedBy>Magnus Nystrom</cp:lastModifiedBy>
  <cp:lastPrinted>1997-11-11T22:03:13Z</cp:lastPrinted>
  <dcterms:modified xsi:type="dcterms:W3CDTF">1999-09-30T14:57:46Z</dcterms:modified>
  <cp:revision>28</cp:revision>
  <dc:subject/>
  <dc:title>I S D N</dc:title>
</cp:coreProperties>
</file>