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2440" y="3691080"/>
            <a:ext cx="83041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7640" y="154152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440" y="369108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7640" y="369108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2673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0080" y="1541520"/>
            <a:ext cx="2673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8080" y="1541520"/>
            <a:ext cx="2673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2440" y="3691080"/>
            <a:ext cx="2673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0080" y="3691080"/>
            <a:ext cx="2673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8080" y="3691080"/>
            <a:ext cx="2673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405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7640" y="1541520"/>
            <a:ext cx="405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58640" y="647280"/>
            <a:ext cx="7978680" cy="20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7640" y="1541520"/>
            <a:ext cx="405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2440" y="369108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405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7640" y="154152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7640" y="369108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7640" y="1541520"/>
            <a:ext cx="4052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2440" y="3691080"/>
            <a:ext cx="83041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5560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85000"/>
              <a:buFont typeface="Wingdings" charset="2"/>
              <a:buChar char="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04800" indent="-2538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020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7020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7020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980560" y="6570720"/>
            <a:ext cx="730080" cy="2746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50160" y="6312240"/>
            <a:ext cx="266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baseline="-18000">
                <a:solidFill>
                  <a:srgbClr val="063de8"/>
                </a:solidFill>
                <a:latin typeface="Book Antiqua"/>
              </a:rPr>
              <a:t>Giesecke &amp; Devr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54040" y="6431040"/>
            <a:ext cx="913140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307880"/>
            <a:ext cx="8381880" cy="264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6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63de8"/>
                </a:solidFill>
                <a:latin typeface="Arial"/>
              </a:rPr>
              <a:t>The DIN  Standard  </a:t>
            </a:r>
            <a:br>
              <a:rPr sz="3600"/>
            </a:br>
            <a:r>
              <a:rPr b="1" lang="en-GB" sz="3600" spc="-1" strike="noStrike">
                <a:solidFill>
                  <a:srgbClr val="063de8"/>
                </a:solidFill>
                <a:latin typeface="Arial"/>
              </a:rPr>
              <a:t>and PKCS#15 </a:t>
            </a:r>
            <a:br>
              <a:rPr sz="3600"/>
            </a:br>
            <a:r>
              <a:rPr b="1" lang="en-GB" sz="3600" spc="-1" strike="noStrike">
                <a:solidFill>
                  <a:srgbClr val="063de8"/>
                </a:solidFill>
                <a:latin typeface="Arial"/>
              </a:rPr>
              <a:t> Common Usage for Signature  Cards?</a:t>
            </a:r>
            <a:endParaRPr b="1" lang="en-US" sz="3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4038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Gisela Meis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e-mail: GiMei@compuserve.com</a:t>
            </a:r>
            <a:br>
              <a:rPr sz="2000"/>
            </a:br>
            <a:r>
              <a:rPr b="1" lang="en-GB" sz="2000" spc="-1" strike="noStrike">
                <a:solidFill>
                  <a:srgbClr val="063de8"/>
                </a:solidFill>
                <a:latin typeface="Arial"/>
              </a:rPr>
              <a:t>Gisela.Meister@gdm.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8640" y="647640"/>
            <a:ext cx="79786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Different Roles for access  (Access type ) by Role ID presented in a CV Certificat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ctr">
            <a:normAutofit/>
          </a:bodyPr>
          <a:p>
            <a:pPr marL="379440" indent="-379440">
              <a:lnSpc>
                <a:spcPct val="90000"/>
              </a:lnSpc>
              <a:spcBef>
                <a:spcPts val="1576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HA Role ID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Meaning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576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´00´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No access right to data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576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´01´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HA Role ID for proving the access right of an IFD (Read access to EF.DM)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576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´02´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HA Role ID for proving the access right of a CA (e.g. read/write access to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ertificate files and EF.D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576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´03´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SYS/ Personalisation manage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Management of Access Rights according to  7816-9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0760" y="787320"/>
            <a:ext cx="7963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German Proposa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txBody>
          <a:bodyPr lIns="0" rIns="0" tIns="0" bIns="0" anchor="ctr">
            <a:normAutofit/>
          </a:bodyPr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clude after Annex B new Annex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nex C:  A PKCS #15 Profile for Signature Card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ignature Cards:  Cards to perform the algorithm for generation of signature and / or generation of keys in th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rientation  on DIN Stand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55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Wingdings" charset="2"/>
              <a:buChar char="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ructured as  Appendix B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55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Wingdings" charset="2"/>
              <a:buChar char="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cluding ISO Part 9 Access rules (informativ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WWW Addresses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ctr">
            <a:normAutofit/>
          </a:bodyPr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N Standard (English version)                                 http://gmd. darmstadt.de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igI /DIN Standard  /Pre-Evaluation                           http://www.bsi.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bject Identifier for algorithms / Pre-Evaluation      http://teletrust.de            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8640" y="647640"/>
            <a:ext cx="79786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How is the situation ?</a:t>
            </a:r>
            <a:br>
              <a:rPr sz="2400"/>
            </a:b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Standardised Specification for signature card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ctr">
            <a:normAutofit/>
          </a:bodyPr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ignature Cards:  Cards to perform the algorithm for generation of signature and / or generation of keys in th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N = German National Institute   for Standardis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N Standard for  Smart Cards according to SigG/SigV  (1998) for Signature  cards  inclu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N Standard for Personalisation  of Smart cards  according to SigG/SigV (End of 1999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TSEC  E4 Pre-Evaluation   based  on the DIN Standard  initiated  by TeleTrusT  Germany  (End of  1999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55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85000"/>
              <a:buFont typeface="Wingdings" charset="2"/>
              <a:buChar char="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eleTrusT = Organisation of  vendors of technology , application groups  and  federal and scientific institutes  to promote trustworthiness in communication techniq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59000" y="380520"/>
            <a:ext cx="808992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How is the situation combining PKCS #15 ?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miter/>
          </a:ln>
        </p:spPr>
        <p:txBody>
          <a:bodyPr lIns="0" rIns="0" tIns="0" bIns="0" anchor="ctr">
            <a:normAutofit/>
          </a:bodyPr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lated standardised specification for smart cards which (could) integrate PKCS #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IN Standard for signature cards DINSIG, (Signature generation, ...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IN Personalisation specification , including Key generation inside the car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ffice ID car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55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85000"/>
              <a:buFont typeface="Wingdings" charset="2"/>
              <a:buChar char="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Key encipherment (RSA, D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55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85000"/>
              <a:buFont typeface="Wingdings" charset="2"/>
              <a:buChar char="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ient sever Authentication  (SSL/TLS) &lt;----------&gt; WIM specification for W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le structure, Application Flow Diagram, Access table  for DINSIG /Office 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ow to proceed, ?Concept of a Profile  for PKCS #15 , Annex x , similar to Annex B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mplications on PKCS #11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8640" y="647640"/>
            <a:ext cx="79786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Contents of the DIN Standards Where   are intersections and common points ?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miter/>
          </a:ln>
        </p:spPr>
        <p:txBody>
          <a:bodyPr lIns="0" rIns="0" tIns="0" bIns="0" anchor="ctr">
            <a:normAutofit fontScale="99000"/>
          </a:bodyPr>
          <a:p>
            <a:pPr marL="375480" indent="-37548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N Standard V66391-1: Interface to smart cards with digital signature application/ functiona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703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lication Flow diagram, Command set ( PKCS not releva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703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le Structure----------------PKCS 15   relevant   storage of Certificates and Public Ke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703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ertificate structure  for Authentication services  and Authentication   protocols  -------------not include in PKCS#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703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gital signature input formats ( PKCS-1, ISO/IEC 9796-2 with random number , pretty secu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703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 Key format for different algorithms---- PKCS#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703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ess control rules (table) for files----- to be compared with pkcs #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N Personalisation  specification  with digital signature application / functionality (Draf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703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xecution ph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703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mand s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Office ID Car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txBody>
          <a:bodyPr lIns="0" rIns="0" tIns="0" bIns="0" anchor="ctr">
            <a:normAutofit/>
          </a:bodyPr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ed on Stand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itionally Key encipher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ording to PKCS 1.5 ( New attacks???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ording to  a modification 9796-2 (pretty secure until   no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lient Server Authent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732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KCS #1 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8640" y="647280"/>
            <a:ext cx="79786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Key Format Algorithms- Detail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82440" y="1541520"/>
            <a:ext cx="8304120" cy="41148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txBody>
          <a:bodyPr lIns="0" rIns="0" tIns="0" bIns="0" anchor="ctr">
            <a:normAutofit fontScale="97000"/>
          </a:bodyPr>
          <a:p>
            <a:pPr marL="367920" indent="-36792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. RSA (SIG /  ENC / Device-AUT, CL-AUT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. DSA, FIPS Publication 186: Digital Signature Standard (DSS), May 1994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3. DSA variants, based on elliptic curv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· ISO/IEC 14883-3 [4], Annex A.2.2 ("Agnew-Mullin-Vanstone analogue")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· IEEE Standard P1363 [5], Section 5.3.3 ("Nyberg-Rueppel version")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· IEEE Standard P1363 [5], Section 5.3.4 ("DSA version"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4. Diffie Hellman Key Exchange  based on 2 and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760" indent="-2649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or A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760" indent="-2649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or EN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79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760" indent="-26496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Dixieland" charset="2"/>
              <a:buChar char="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ormat supported by PKCS #15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38224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63de8"/>
                </a:solidFill>
                <a:latin typeface="Arial"/>
              </a:rPr>
              <a:t>SIG-Algorithm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2438280"/>
            <a:ext cx="6476760" cy="30481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048120"/>
            <a:ext cx="4495680" cy="190476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4038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2440" y="322596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ash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un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30481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1320" y="41878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ignatur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3640" y="322596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PEMD-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58040" y="3959280"/>
            <a:ext cx="71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647280"/>
            <a:ext cx="9109080" cy="69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File Structure                                                                DINSIG</a:t>
            </a:r>
            <a:br>
              <a:rPr sz="2400"/>
            </a:br>
            <a:r>
              <a:rPr b="1" lang="en-GB" sz="1400" spc="-1" strike="noStrike">
                <a:solidFill>
                  <a:srgbClr val="063de8"/>
                </a:solidFill>
                <a:latin typeface="Arial"/>
              </a:rPr>
              <a:t>DFxx = PKCS #15</a:t>
            </a:r>
            <a:endParaRPr b="1" lang="en-US" sz="1400" spc="-1" strike="noStrike">
              <a:solidFill>
                <a:srgbClr val="063de8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43200" y="0"/>
          <a:ext cx="4284720" cy="632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0"/>
                    <a:ext cx="4284720" cy="6324480"/>
                  </a:xfrm>
                  <a:prstGeom prst="rect">
                    <a:avLst/>
                  </a:prstGeom>
                  <a:ln w="12600">
                    <a:solidFill>
                      <a:srgbClr val="063de8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647640"/>
            <a:ext cx="9109080" cy="11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2400" spc="-1" strike="noStrike">
                <a:solidFill>
                  <a:srgbClr val="063de8"/>
                </a:solidFill>
                <a:latin typeface="Arial"/>
              </a:rPr>
              <a:t>Access Table DINSIG</a:t>
            </a:r>
            <a:br>
              <a:rPr sz="2400"/>
            </a:br>
            <a:r>
              <a:rPr b="1" lang="en-GB" sz="1000" spc="-1" strike="noStrike">
                <a:solidFill>
                  <a:srgbClr val="063de8"/>
                </a:solidFill>
                <a:latin typeface="Arial"/>
              </a:rPr>
              <a:t>to be included: </a:t>
            </a:r>
            <a:br>
              <a:rPr sz="1000"/>
            </a:br>
            <a:r>
              <a:rPr b="1" lang="en-GB" sz="1000" spc="-1" strike="noStrike">
                <a:solidFill>
                  <a:srgbClr val="063de8"/>
                </a:solidFill>
                <a:latin typeface="Arial"/>
              </a:rPr>
              <a:t>SK File ( Generation/ Update for SK)</a:t>
            </a:r>
            <a:br>
              <a:rPr sz="1000"/>
            </a:br>
            <a:r>
              <a:rPr b="1" lang="en-GB" sz="1000" spc="-1" strike="noStrike">
                <a:solidFill>
                  <a:srgbClr val="063de8"/>
                </a:solidFill>
                <a:latin typeface="Arial"/>
              </a:rPr>
              <a:t>Certificates  with PIN  access</a:t>
            </a:r>
            <a:br>
              <a:rPr sz="1000"/>
            </a:br>
            <a:r>
              <a:rPr b="0" lang="en-GB" sz="1000" spc="-1" strike="noStrike">
                <a:solidFill>
                  <a:srgbClr val="063de8"/>
                </a:solidFill>
                <a:latin typeface="Arial"/>
              </a:rPr>
              <a:t>root  Public key     trusted</a:t>
            </a:r>
            <a:endParaRPr b="1" lang="en-US" sz="1000" spc="-1" strike="noStrike">
              <a:solidFill>
                <a:srgbClr val="063de8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57640" y="304920"/>
          <a:ext cx="509436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7640" y="304920"/>
                    <a:ext cx="509436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4T12:11:12Z</dcterms:created>
  <dc:creator>Dokumentation</dc:creator>
  <dc:description/>
  <dc:language>en-US</dc:language>
  <cp:lastModifiedBy>Magnus Nystrom</cp:lastModifiedBy>
  <cp:lastPrinted>1998-09-28T09:11:02Z</cp:lastPrinted>
  <dcterms:modified xsi:type="dcterms:W3CDTF">1999-09-30T14:57:17Z</dcterms:modified>
  <cp:revision>197</cp:revision>
  <dc:subject/>
  <dc:title>Personalisierung</dc:title>
</cp:coreProperties>
</file>