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5f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8477640" cy="6172560"/>
            <a:chOff x="0" y="0"/>
            <a:chExt cx="8477640" cy="61725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6131160" cy="6172560"/>
            </a:xfrm>
            <a:custGeom>
              <a:avLst/>
              <a:gdLst/>
              <a:ahLst/>
              <a:rect l="0" t="0" r="r" b="b"/>
              <a:pathLst>
                <a:path w="17031" h="17146">
                  <a:moveTo>
                    <a:pt x="17031" y="15073"/>
                  </a:moveTo>
                  <a:lnTo>
                    <a:pt x="2015" y="0"/>
                  </a:lnTo>
                  <a:lnTo>
                    <a:pt x="0" y="0"/>
                  </a:lnTo>
                  <a:lnTo>
                    <a:pt x="0" y="2121"/>
                  </a:lnTo>
                  <a:lnTo>
                    <a:pt x="14967" y="17146"/>
                  </a:lnTo>
                  <a:lnTo>
                    <a:pt x="17031" y="15073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65120" y="0"/>
              <a:ext cx="5386680" cy="5115240"/>
            </a:xfrm>
            <a:custGeom>
              <a:avLst/>
              <a:gdLst/>
              <a:ahLst/>
              <a:rect l="0" t="0" r="r" b="b"/>
              <a:pathLst>
                <a:path w="14963" h="14209">
                  <a:moveTo>
                    <a:pt x="1631" y="0"/>
                  </a:moveTo>
                  <a:lnTo>
                    <a:pt x="14963" y="13388"/>
                  </a:lnTo>
                  <a:lnTo>
                    <a:pt x="14147" y="14209"/>
                  </a:lnTo>
                  <a:lnTo>
                    <a:pt x="0" y="0"/>
                  </a:lnTo>
                  <a:lnTo>
                    <a:pt x="1631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471840" y="0"/>
              <a:ext cx="4537440" cy="4056480"/>
            </a:xfrm>
            <a:custGeom>
              <a:avLst/>
              <a:gdLst/>
              <a:ahLst/>
              <a:rect l="0" t="0" r="r" b="b"/>
              <a:pathLst>
                <a:path w="12604" h="11268">
                  <a:moveTo>
                    <a:pt x="2778" y="0"/>
                  </a:moveTo>
                  <a:lnTo>
                    <a:pt x="12604" y="9870"/>
                  </a:lnTo>
                  <a:lnTo>
                    <a:pt x="11215" y="11268"/>
                  </a:lnTo>
                  <a:lnTo>
                    <a:pt x="0" y="0"/>
                  </a:lnTo>
                  <a:lnTo>
                    <a:pt x="2778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849920" y="0"/>
              <a:ext cx="3627720" cy="3366000"/>
            </a:xfrm>
            <a:custGeom>
              <a:avLst/>
              <a:gdLst/>
              <a:ahLst/>
              <a:rect l="0" t="0" r="r" b="b"/>
              <a:pathLst>
                <a:path w="10077" h="9350">
                  <a:moveTo>
                    <a:pt x="0" y="0"/>
                  </a:moveTo>
                  <a:lnTo>
                    <a:pt x="9309" y="9350"/>
                  </a:lnTo>
                  <a:lnTo>
                    <a:pt x="10077" y="8578"/>
                  </a:lnTo>
                  <a:lnTo>
                    <a:pt x="15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 txBox="1"/>
          <p:nvPr/>
        </p:nvSpPr>
        <p:spPr>
          <a:xfrm>
            <a:off x="1239840" y="6400800"/>
            <a:ext cx="6913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pyright 1996 RSA Data Security, Inc.  All rights reserved.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                  Revised 8/26/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03120" y="5829480"/>
            <a:ext cx="844560" cy="8413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286000"/>
            <a:ext cx="7772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RSA’s SET Toolkit Development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vin King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r. Software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SA Data Security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Other Scen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0200" y="1457280"/>
            <a:ext cx="7758000" cy="46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ustom Cardholder “wallet” for corporate purchase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atabase-less” Acquirer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cquirer gateway integrated with payment system for “direct to Issuer”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rchant tightly integrated with Web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-SET extensions (using toolkit 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Interface Spec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ree toolkits - Cardholder, Merchant, and Acquirer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arly draft reviewed by potentia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xt draft incorporates suggest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(Not too late to suggest improv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urrent (early) draft available under 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Interface Impr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tter support for per-call application state communicated to bottom layer of tool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tter support for apps built using multiple programm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racks changes to SET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re complete API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’ header files generated from API do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Detail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rved as detailed review of S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Validated architecture and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dentified test cases for QA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Facilitates co-development with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rves as documentation for source-code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oolkits include QA tools and test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est scripts written in 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erl-to-C toolkit interface shim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andalone and networked test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Implementation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ta version based on August 1 spec available Fall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(Think turkey and cranber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pports limited number of Merchant-Acquirer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s new version of API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Gold version available shortly after publication of ‘Version 1’ SET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Development Method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Guiding Philos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fac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tail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lementatio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Guiding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T, all the SET, and nothing but th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latform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impl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pport many business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pport hardware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signed for world-wide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/O/S lay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ulti-thread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 direct application access to cryptographic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waiting for reply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sume synchronous DBMS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SET Toolkit Lay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09720" y="1866960"/>
            <a:ext cx="68007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14400" y="228600"/>
            <a:ext cx="7731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Scenario 1 (Basic Merchant Serv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Web-server CGI-based Mer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ingle thread - per -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Multiple processes (one per CGI inv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ingle Merchant per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ingle Acquirer supporting multiple b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oolkit database implemented using supplied ODBC h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Scenario 1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ustomer can use most of the supplied source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ome customization of “business-rule” callouts may b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eroperates with common Cardhold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ost of the customer effort is developing the Web shopping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14400" y="228600"/>
            <a:ext cx="7731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Scenario 2 (High-end Merchant Serv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rchant application is a single multi-threade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ultiple merchants per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ultiple acquirers (one acquirer per br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municates with Web servers and e-mail servers via I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s high-performance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a2ffa3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Database shared by toolkit, shopping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14400" y="228600"/>
            <a:ext cx="7731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  <a:ea typeface="Impact"/>
              </a:rPr>
              <a:t>Scenario 2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00200" y="1457280"/>
            <a:ext cx="77580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ustomer supplies callouts to support multi-threaded mutex, memory management, I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oolkit database callouts implemented as “views” on tables shared with shopp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c1ceff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oolkit ensures ‘SET’ compliance, even with complex apps and busine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vin Kingdon</dc:creator>
  <dc:description/>
  <dc:language>en-US</dc:language>
  <cp:lastModifiedBy>Kevin Kingdon</cp:lastModifiedBy>
  <cp:revision>0</cp:revision>
  <dc:subject/>
  <dc:title>RSA's SET Development Effort</dc:title>
</cp:coreProperties>
</file>