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755A11-7224-4ACA-AFBA-52652BD26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9144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oftware Interoper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c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/26/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5154480"/>
            <a:ext cx="3733920" cy="93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41840" y="510552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3733920" cy="93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90520" y="3641760"/>
            <a:ext cx="4282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S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the Reus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 and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1680" y="3718080"/>
            <a:ext cx="43196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Fair and Unbiase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Project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84640" y="228600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080" y="2552760"/>
            <a:ext cx="86742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and SAIC are working together on testing methodology at SAIC in San D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tial progress is being made by the technical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team is working with MasterCard and Visa on higher-leve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is working on overall SAIC to TOG trans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Card/Visa SET Open Vendo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August 29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iday Inn Select, Foster City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AM - 1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product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 Rodrigues</dc:creator>
  <dc:description/>
  <dc:language>en-US</dc:language>
  <cp:lastModifiedBy>Ken Rodrigues</cp:lastModifiedBy>
  <cp:revision>0</cp:revision>
  <dc:subject/>
  <dc:title>No Slide Title</dc:title>
</cp:coreProperties>
</file>