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CEC-B060-4185-BC76-1509A71A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ACC-FDF4-4E50-BBCA-B34D3266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ED8-97C5-45C9-8453-6D806C55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F8D-5B75-4095-843A-3EDCC79D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777D-ADE9-4238-A36F-D309744B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CE5B-FB19-4EE7-84F8-C9B47D3E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1737-C781-4380-BEE0-F4FF015C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EF66-8A6A-488E-94A0-AA83DF3E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D600-6A14-4AD0-B53B-BB29B08D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0DA8-FC80-4B28-B27A-DB7CD26A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876A-B7F5-4568-91C1-57B86EC8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0EF-FA5F-4A92-9BA5-CD4A0902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BB3A-1C51-4A50-AA6C-459E3CD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A803-4B57-427B-968B-6529221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2925-6494-4D1A-8FEE-71390F0A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62BC-D03A-4F85-A5A8-C9923288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341D-A9DE-4AEC-ABAE-70293B79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AFC-0623-4775-92BC-E659DE1D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252-F2E3-4F35-9AF1-A1C63242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8D7-0141-4D7C-A960-CB16959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1D4-1F9F-4F99-9E00-76F1AFFE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722-E1E3-4ED4-89D1-B86DC0F2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103-A82E-44B4-9EC5-B597431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AA7-552A-4EDF-9684-1EE216E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9F1-B0B9-4964-891C-0FB10B5B2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BBEF-C8F3-4844-A845-0A7804ADB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—The elegan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n Rivest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st@mit.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 Robshaw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robshaw@supanet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iqun Lisa Y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iqun@nttmcl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 on 64-bit C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ly good 64-bit 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A64-performance only fair but anomalous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wer than Pentiu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3x improvement with IA64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chips will optimize A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, RC6 gains dramatically with multi-block processing compared to other sche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jor Trends: Java and DS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-commerce and embedded ap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provides excellent spe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m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de size and memory us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SP chi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ly to be more significant than IA64 or 8-bit process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gives excellent perform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fully parameter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size, number of rounds, and block length can be readily chang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l-suited for hash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only AES finalist that naturally gives DES and triple-DES compatible variants (64-bit block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we grade candidat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(corroborat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ance (speed+mem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3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2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4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/25/15/10/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438280"/>
            <a:ext cx="685800" cy="2362320"/>
          </a:xfrm>
          <a:custGeom>
            <a:avLst/>
            <a:gdLst>
              <a:gd name="textAreaLeft" fmla="*/ 0 w 685800"/>
              <a:gd name="textAreaRight" fmla="*/ 24768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48769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53341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7913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62485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32767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19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0384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365760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28195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4382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24680" y="1523880"/>
            <a:ext cx="60984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a simple yet remarkably strong cip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erformance on most important platfo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to code for good perform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llent flexi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st studie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est understoo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the secure and “elegant” choice for the A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the righ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simple: only 12 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cit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ates and encourages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rapid understanding of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direct analysis straightforward (contrast with Mars and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ables easy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compilers to produce high-quality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viates complicated optim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good performance with minimal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security is well-analyz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probably most studied AES fina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based on RC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analysis builds directly on RC5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al RC6 analysis is very detail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simplified variants studied extensiv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-scale versions allowed experi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key schedule is rock-sol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85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ied for more than six ye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rough mix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-way func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key separation (cf.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lated-key attacks (cf. Rijnda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iginal analysis still accu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meets original design crit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estimates from 1998 still good today; independent analyses suppor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, even in theory, even with analysis improvements far beyond those seen for DES during it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provides a solid, well-tuned margin for secur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2-bit 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cellent perform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2-bit CPUs a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ST reference platfo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gnificant fraction of installed computers throughout the AE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oming more prevalent in cheaper devices (e.g. AR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rt Card Sui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C6 fits in the cheapest smart cards, and well-suited for many (e.g. ARM processor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ndwidth, not CPU, likely to be most significant bottlene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-bit CPUs will become far less important over the AES life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Ron Rivest</cp:lastModifiedBy>
  <cp:lastPrinted>1998-04-19T17:05:34Z</cp:lastPrinted>
  <dcterms:modified xsi:type="dcterms:W3CDTF">2000-04-14T04:01:03Z</dcterms:modified>
  <cp:revision>113</cp:revision>
  <dc:subject/>
  <dc:title>RSA: 1977--1997 and beyond</dc:title>
</cp:coreProperties>
</file>