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0212-D11C-4850-B3A2-A888D9E1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F2B-78AA-4E23-A671-501D3FC5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5AE-C166-48DE-B6E1-802412AC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A58F-884A-4979-8147-547B49B4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8963-3EBB-42F3-8405-247FA319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B0D3-1AEE-4FE1-9386-A79FF7B1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BE70-AA97-43B7-8519-E46A5EB6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2290-21A8-40DC-8CBF-528B386C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BFF0-5969-4361-9DBA-F6175485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E39D-DEEC-4B26-87D2-72210DBF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0F3D-C67C-4888-9A81-A46F43D5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750-959B-4B1D-B50C-1C0850B6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3112-D7BD-4C4B-95F9-10BF3881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0F68-74C9-46F7-BC22-668DB026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BEF3-76C8-45EE-9A85-70C052DC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8659-C324-4D23-B6BB-E8F36F7A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DEA9-55CA-4221-A6C4-E8011E1F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F53-61FA-457F-9975-A17A3E6A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224-662A-4EA8-9204-DDFDC7C8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842B-8251-489D-B0BC-67A9BA42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A95-1529-4A10-A8A8-D638B8FE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B3D-B919-457D-8792-AE275053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CD4-B977-451C-AA1A-0869CB85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82D-C7AE-4CDC-8EF2-BADBA74E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15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1515e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3BD7-8E33-4318-9459-E09CBE37EA4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15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B762-B086-4B3B-AB6E-202E7E594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1515ea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2000" y="1104840"/>
            <a:ext cx="1447560" cy="76212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 RC6  Block Cipher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 A simple fast secu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     AES proposa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7240" y="3809520"/>
            <a:ext cx="77709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nald L. Rivest    M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t Robshaw      RSA La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y Sidney           RSA La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iqun Lisa Yin       RSA La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August 21, 1998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Expansion (Same as RC5’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put:     array  L[ 0 … c-1 ] of input key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put:   array S[ 0 … 43 ]  of round key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[ 0 ] = 0xB7E1516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 =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43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[i] = S[i-1] + 0x9E3779B9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B = i = j = 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 =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132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  A = S[ i ] = ( S[ i ] + A + B ) &lt;&lt;&lt; 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B = L[ j ] = ( L[ j ] + A + B ) &lt;&lt;&lt; ( A + B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i = ( i + 1 )   mod 4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j = ( j + 1 )  mod c      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RC5 to RC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in seven easy ste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1) Start with RC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5 encryption inner loop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{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 )  &lt;&lt;&lt; B )  + S[ 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( A, B ) = ( B, A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C5 be strengthened by having rotation amounts depend o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bits of B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5181480"/>
            <a:ext cx="7147080" cy="53352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35000" y="1523880"/>
            <a:ext cx="795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odul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low-order bits of  ( B  mod d 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o slow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a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high-order bits of  ( c x B 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rd to pick  c  well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Quadrat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high-order bits of ( B x (2B+1) 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ust right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tter rotation amount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304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 x (2B+1) is 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one-to-on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mod 2</a:t>
            </a:r>
            <a:r>
              <a:rPr b="0" lang="en-US" sz="4400" spc="-1" strike="noStrike" baseline="50000">
                <a:solidFill>
                  <a:srgbClr val="000000"/>
                </a:solidFill>
                <a:latin typeface="Comic Sans MS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roof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By contradiction.  If  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  but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 x (2B + 1) = C x (2C + 1) (mod 2</a:t>
            </a:r>
            <a:r>
              <a:rPr b="0" lang="en-US" sz="3200" spc="-1" strike="noStrike" baseline="50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(B - C) x (2B+2C+1) = 0      (mod 2</a:t>
            </a:r>
            <a:r>
              <a:rPr b="0" lang="en-US" sz="3200" spc="-1" strike="noStrike" baseline="50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(B-C) is nonzero and (2B+2C+1) is odd; their product can’t be zero!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rollar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  unifor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 x (2B+1) unifor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nd high-order bits are uniform too!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gh-order bits of  B x (2B+1)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34640" y="1562040"/>
            <a:ext cx="810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high-order bits of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B) = B x ( 2B + 1 )  =  2B</a:t>
            </a:r>
            <a:r>
              <a:rPr b="0" lang="en-US" sz="32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depend on all the bits of  B 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  B  = 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…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0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bin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ipping bit  i  of input 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ves bits  0 … i-1  of  f(B)  unchanged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ips bit  i  of  f(B)  with probability on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ips bit  j  of  f(B) ,  for j &gt; i , with probability approximately 1/2  (1/4…1)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likely to change some high-order b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25520" y="2552760"/>
            <a:ext cx="4179960" cy="4572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2320" y="3043080"/>
            <a:ext cx="284400" cy="34632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B x ( 2B + 1 ) ) &lt;&lt;&lt; 5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 )  &lt;&lt;&lt; t )  + S[ 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 A, B ) = ( B, A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now much of the output of this nice multiplication is being wasted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80520" y="266400"/>
            <a:ext cx="86108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2) Quadratic Rotation Amount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140360" y="3022560"/>
            <a:ext cx="304560" cy="3808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=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B x ( 2B + 1 ) ) &lt;&lt;&lt;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=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t )  + S[ 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 A, B ) = ( B, A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AES requires 128-bit blocks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could use two 64-bit registers, bu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4-bit operations are poorly supported with typical C compilers..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83760" y="255240"/>
            <a:ext cx="80456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3) Use  t, not B, as xor inpu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086600" y="4000680"/>
            <a:ext cx="457200" cy="3808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1480" y="4813200"/>
            <a:ext cx="6170400" cy="13986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4) Do two RC5’s in parall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four 32-bit regs (A,B,C,D), and d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5 on (C,D) in parallel with RC5 on (A,B):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t )  +  S[ 2i ]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 A, B ) = ( B, A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u )  +  S[ 2i + 1 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C, D ) = ( D, C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47840" y="5562720"/>
            <a:ext cx="4572000" cy="5331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5) Mix up data between cop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4800600"/>
            <a:ext cx="380880" cy="30492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87920" y="5207040"/>
            <a:ext cx="381240" cy="30492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witch rotation amounts between copies, and cyclically permute registers instead of swapping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 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ign Philosoph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cription of RC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ation Resul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e Round of RC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5986440" y="291456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2720" y="2957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14480" y="418140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14480" y="250524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334332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43080" y="21240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43080" y="29624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8400" y="3797280"/>
            <a:ext cx="144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142720" y="4653000"/>
            <a:ext cx="180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43080" y="54770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48200" y="54770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047840" y="5019840"/>
            <a:ext cx="106668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143080" y="5019840"/>
            <a:ext cx="19051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71680" y="273384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2" idx="0"/>
            <a:endCxn id="142" idx="1"/>
          </p:cNvCxnSpPr>
          <p:nvPr/>
        </p:nvCxnSpPr>
        <p:spPr>
          <a:xfrm>
            <a:off x="2142720" y="2114280"/>
            <a:ext cx="1080" cy="400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/>
          <p:nvPr/>
        </p:nvCxnSpPr>
        <p:spPr>
          <a:xfrm flipH="1">
            <a:off x="4047840" y="2124000"/>
            <a:ext cx="2160" cy="289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9" idx="0"/>
            <a:endCxn id="146" idx="0"/>
          </p:cNvCxnSpPr>
          <p:nvPr/>
        </p:nvCxnSpPr>
        <p:spPr>
          <a:xfrm>
            <a:off x="2142720" y="5486400"/>
            <a:ext cx="108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0"/>
            <a:endCxn id="147" idx="0"/>
          </p:cNvCxnSpPr>
          <p:nvPr/>
        </p:nvCxnSpPr>
        <p:spPr>
          <a:xfrm>
            <a:off x="4047840" y="5484960"/>
            <a:ext cx="1080" cy="383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2" idx="1"/>
            <a:endCxn id="143" idx="0"/>
          </p:cNvCxnSpPr>
          <p:nvPr/>
        </p:nvCxnSpPr>
        <p:spPr>
          <a:xfrm>
            <a:off x="2142720" y="2514240"/>
            <a:ext cx="1080" cy="438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endCxn id="140" idx="2"/>
          </p:cNvCxnSpPr>
          <p:nvPr/>
        </p:nvCxnSpPr>
        <p:spPr>
          <a:xfrm flipH="1">
            <a:off x="1904760" y="2730240"/>
            <a:ext cx="46728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7" name=""/>
          <p:cNvCxnSpPr>
            <a:stCxn id="139" idx="0"/>
            <a:endCxn id="139" idx="2"/>
          </p:cNvCxnSpPr>
          <p:nvPr/>
        </p:nvCxnSpPr>
        <p:spPr>
          <a:xfrm>
            <a:off x="2142720" y="4171680"/>
            <a:ext cx="1080" cy="477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39" idx="1"/>
            <a:endCxn id="139" idx="3"/>
          </p:cNvCxnSpPr>
          <p:nvPr/>
        </p:nvCxnSpPr>
        <p:spPr>
          <a:xfrm>
            <a:off x="1904760" y="4409640"/>
            <a:ext cx="477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4886280" y="418140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6280" y="250524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124000"/>
            <a:ext cx="0" cy="289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86280" y="334332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14880" y="21240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14880" y="29624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14880" y="3800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14880" y="46386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14880" y="54770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20000" y="54770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43080" y="5019840"/>
            <a:ext cx="48769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114880" y="5019840"/>
            <a:ext cx="19051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43480" y="273384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/>
          <p:nvPr/>
        </p:nvCxnSpPr>
        <p:spPr>
          <a:xfrm flipH="1">
            <a:off x="5342760" y="2733480"/>
            <a:ext cx="1677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3" idx="0"/>
            <a:endCxn id="163" idx="1"/>
          </p:cNvCxnSpPr>
          <p:nvPr/>
        </p:nvCxnSpPr>
        <p:spPr>
          <a:xfrm>
            <a:off x="5114520" y="2114280"/>
            <a:ext cx="1080" cy="400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1" idx="0"/>
            <a:endCxn id="170" idx="0"/>
          </p:cNvCxnSpPr>
          <p:nvPr/>
        </p:nvCxnSpPr>
        <p:spPr>
          <a:xfrm flipH="1">
            <a:off x="7017480" y="2114280"/>
            <a:ext cx="2520" cy="289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0" idx="0"/>
            <a:endCxn id="167" idx="0"/>
          </p:cNvCxnSpPr>
          <p:nvPr/>
        </p:nvCxnSpPr>
        <p:spPr>
          <a:xfrm>
            <a:off x="5114520" y="5486400"/>
            <a:ext cx="108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8" idx="0"/>
          </p:cNvCxnSpPr>
          <p:nvPr/>
        </p:nvCxnSpPr>
        <p:spPr>
          <a:xfrm>
            <a:off x="7019640" y="5467320"/>
            <a:ext cx="108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3" idx="1"/>
            <a:endCxn id="164" idx="0"/>
          </p:cNvCxnSpPr>
          <p:nvPr/>
        </p:nvCxnSpPr>
        <p:spPr>
          <a:xfrm>
            <a:off x="5114520" y="2514240"/>
            <a:ext cx="1080" cy="438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8" name=""/>
          <p:cNvCxnSpPr/>
          <p:nvPr/>
        </p:nvCxnSpPr>
        <p:spPr>
          <a:xfrm flipH="1">
            <a:off x="4876560" y="2733480"/>
            <a:ext cx="4672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65" idx="0"/>
            <a:endCxn id="166" idx="0"/>
          </p:cNvCxnSpPr>
          <p:nvPr/>
        </p:nvCxnSpPr>
        <p:spPr>
          <a:xfrm>
            <a:off x="5114520" y="4190760"/>
            <a:ext cx="1080" cy="438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0" name=""/>
          <p:cNvCxnSpPr>
            <a:stCxn id="159" idx="1"/>
            <a:endCxn id="159" idx="3"/>
          </p:cNvCxnSpPr>
          <p:nvPr/>
        </p:nvCxnSpPr>
        <p:spPr>
          <a:xfrm>
            <a:off x="4876560" y="4409640"/>
            <a:ext cx="477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724360" y="2743200"/>
            <a:ext cx="1800" cy="82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>
            <a:off x="2657160" y="2733840"/>
            <a:ext cx="108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3" name=""/>
          <p:cNvCxnSpPr/>
          <p:nvPr/>
        </p:nvCxnSpPr>
        <p:spPr>
          <a:xfrm flipV="1">
            <a:off x="2668320" y="3553560"/>
            <a:ext cx="2191320" cy="10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5888160" y="250524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54440" y="2486160"/>
            <a:ext cx="471240" cy="495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02320" y="2510280"/>
            <a:ext cx="3430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8200" y="2500560"/>
            <a:ext cx="3337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96200" y="1676520"/>
            <a:ext cx="5265720" cy="459720"/>
            <a:chOff x="1996200" y="1676520"/>
            <a:chExt cx="5265720" cy="459720"/>
          </a:xfrm>
        </p:grpSpPr>
        <p:sp>
          <p:nvSpPr>
            <p:cNvPr id="189" name=""/>
            <p:cNvSpPr/>
            <p:nvPr/>
          </p:nvSpPr>
          <p:spPr>
            <a:xfrm>
              <a:off x="1996200" y="16765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02400" y="167652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68000" y="1676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8720" y="167652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741200" y="33274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&lt;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82000" y="33274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&lt;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7160" y="25020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&lt;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63240" y="24890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&lt;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/>
          <p:nvPr/>
        </p:nvCxnSpPr>
        <p:spPr>
          <a:xfrm>
            <a:off x="5727600" y="3565080"/>
            <a:ext cx="1982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9" idx="6"/>
          </p:cNvCxnSpPr>
          <p:nvPr/>
        </p:nvCxnSpPr>
        <p:spPr>
          <a:xfrm>
            <a:off x="1343160" y="3568320"/>
            <a:ext cx="559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5683320" y="269244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19360" y="269568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19400" y="26989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135160" y="490500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114880" y="4911840"/>
            <a:ext cx="0" cy="118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139840" y="406044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114880" y="4067280"/>
            <a:ext cx="0" cy="118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27520" y="273528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09840" y="273528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65200" y="273996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37440" y="273528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32440" y="273528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114880" y="323028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143080" y="322704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88320" y="269568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44760" y="4406760"/>
            <a:ext cx="2602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33520" y="44100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57880" y="4208400"/>
            <a:ext cx="7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[2i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27640" y="441648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435640" y="4409640"/>
            <a:ext cx="2649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27160" y="422748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[2i+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32840" y="5867280"/>
            <a:ext cx="5265720" cy="459720"/>
            <a:chOff x="1932840" y="5867280"/>
            <a:chExt cx="5265720" cy="459720"/>
          </a:xfrm>
        </p:grpSpPr>
        <p:sp>
          <p:nvSpPr>
            <p:cNvPr id="222" name=""/>
            <p:cNvSpPr/>
            <p:nvPr/>
          </p:nvSpPr>
          <p:spPr>
            <a:xfrm>
              <a:off x="1932840" y="5867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39040" y="586728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04640" y="5867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5360" y="586728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709040" y="3467160"/>
            <a:ext cx="215640" cy="203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83560" y="3533760"/>
            <a:ext cx="74520" cy="7452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127160" y="3467160"/>
            <a:ext cx="216000" cy="203040"/>
            <a:chOff x="1127160" y="3467160"/>
            <a:chExt cx="216000" cy="203040"/>
          </a:xfrm>
        </p:grpSpPr>
        <p:sp>
          <p:nvSpPr>
            <p:cNvPr id="199" name=""/>
            <p:cNvSpPr/>
            <p:nvPr/>
          </p:nvSpPr>
          <p:spPr>
            <a:xfrm>
              <a:off x="1127160" y="3467160"/>
              <a:ext cx="216000" cy="20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01680" y="3533400"/>
              <a:ext cx="74520" cy="745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498760" y="2249640"/>
            <a:ext cx="2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32480" y="2243160"/>
            <a:ext cx="2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5740560"/>
            <a:ext cx="3200400" cy="9144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1523880"/>
            <a:ext cx="2438280" cy="83844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120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6) Add Pre- and Post-White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06040" y="14479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= B + S[ 0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 = D + S[ 1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 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+ S[ 2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2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+ S[ 2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3 ]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984400" y="6197760"/>
            <a:ext cx="609840" cy="4572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5715000"/>
            <a:ext cx="609480" cy="4572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2362320"/>
            <a:ext cx="533520" cy="3808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06040" y="14479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= B + S[ 0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 = D + S[ 1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20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 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+ S[ 42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+ S[ 43 ]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4876920" y="5638680"/>
            <a:ext cx="3200400" cy="83844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228600" y="291960"/>
            <a:ext cx="876312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7) Set r = 20 for high securit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4912920" y="5602320"/>
            <a:ext cx="312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inal RC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3480" y="13604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ased on analy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Implementation Resul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086600" y="3733920"/>
            <a:ext cx="990720" cy="16761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3800" y="5727600"/>
            <a:ext cx="7138800" cy="4827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28880" y="5691240"/>
            <a:ext cx="72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ss than two clocks per bit of plaintext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836640" y="1913040"/>
          <a:ext cx="7858080" cy="408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913040"/>
                    <a:ext cx="785808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PU Cycles / Ope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32440" y="4025880"/>
            <a:ext cx="1981440" cy="17524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089000" y="2301840"/>
          <a:ext cx="7854840" cy="409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2301840"/>
                    <a:ext cx="785484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rations/Second (200MHz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315200" y="4038480"/>
            <a:ext cx="1219320" cy="4572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5029200"/>
            <a:ext cx="1219320" cy="4572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143000" y="2666880"/>
          <a:ext cx="770580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666880"/>
                    <a:ext cx="77058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ryption Rate (200MHz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16765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gaBytes / second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egaBits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5715000"/>
            <a:ext cx="52578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 100 Megabits / second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53080" y="5943600"/>
            <a:ext cx="1447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8001000" y="5486400"/>
            <a:ext cx="0" cy="45720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73040" y="5479920"/>
            <a:ext cx="3686400" cy="5698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86000" y="3859200"/>
            <a:ext cx="5529240" cy="4953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09760" y="2313000"/>
            <a:ext cx="7262640" cy="4827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 an 8-bit process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8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an Intel MCS51  ( 1 Mhz clock 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rypt/decrypt at 9.2 Kbits/seco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3535 cycles/block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actual implementat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setup 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7 milliseco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 176  bytes needed for table of round key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ts on smart card (&lt; 256 bytes RAM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371600" y="4648320"/>
            <a:ext cx="7315200" cy="5331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stom RC6 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.25 micron CMOS proc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round/clock at 200 MH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ntional multiplier desig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.05 mm</a:t>
            </a:r>
            <a:r>
              <a:rPr b="0" lang="en-US" sz="32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silic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1 milliwatts of po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rypt/decrypt at 1.3 Gbits/seco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pipelining, can go faster, at cost of more area and po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Security 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Philosop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8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verage our experience with RC5: us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ata-dependent rota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achieve a high level of secur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apt RC5 to meet AES requirement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advantage of a new primitive for increased security and efficiency: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32x32 multiplic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hich executes quickly on modern processors, to compute rotation amou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nsive analysis, based on most effective known attacks (e.g. linear and differential cryptanalysi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ze not only RC6, but also several “simplified” forms (e.g. with no quadratic function, no fixed rotation by 5 bits, etc…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ear 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approximations for  r-2  rou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ways to approximate  A = B &lt;&lt;&lt; 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one bit each of A, B, C       (type 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one bit each of A, B only    (type I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have bias  1/64; type I more usefu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n-zero bias across f(B) only when input bit = output bit.  (Best for lsb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so include effects of multiple linear approximations and linear hu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495680" y="5562720"/>
            <a:ext cx="2438640" cy="8380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1905120"/>
            <a:ext cx="7924680" cy="46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imate of number of plaintext/ciphertext pairs required to mount a linear attac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Only 2</a:t>
            </a:r>
            <a:r>
              <a:rPr b="0" lang="en-US" sz="2800" spc="-1" strike="noStrike" baseline="50000">
                <a:solidFill>
                  <a:srgbClr val="000000"/>
                </a:solidFill>
                <a:latin typeface="Comic Sans MS"/>
              </a:rPr>
              <a:t>12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uch pairs are available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1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          RC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1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1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curity against linear atta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5372280" y="5572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ea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361960" y="5740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57600" y="574056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ial 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31880" y="1650960"/>
            <a:ext cx="8120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s use of (iterative and non-iterative) (r-2)-round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ifferential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well as (r-2)-round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haracteristic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s two notions of “difference”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clusive-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(better!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bination of quadratic function and fixed rotation by 5 bits very good at thwarting differential attack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5885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iterative RC6 differenti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89120" y="167652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             B               C              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1&lt;&lt;16       1&lt;&lt;11          0               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1&lt;&lt;11        0               0               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0             0               0               1&lt;&lt;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0             1&lt;&lt;26         1&lt;&lt;s           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1&lt;&lt;26       1&lt;&lt;21         0               1&lt;&lt;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1&lt;&lt;21       1&lt;&lt;16          1&lt;&lt;v           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1&lt;&lt;16       1&lt;&lt;11          0              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ty  =  2</a:t>
            </a:r>
            <a:r>
              <a:rPr b="0" lang="en-US" sz="3200" spc="-1" strike="noStrike" baseline="46000">
                <a:solidFill>
                  <a:srgbClr val="000000"/>
                </a:solidFill>
                <a:latin typeface="Comic Sans MS"/>
              </a:rPr>
              <a:t>-9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495680" y="5029200"/>
            <a:ext cx="2438640" cy="13716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05120"/>
            <a:ext cx="7924680" cy="46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imate of number of plaintext pairs required to mount a differential attac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Only 2</a:t>
            </a:r>
            <a:r>
              <a:rPr b="0" lang="en-US" sz="2800" spc="-1" strike="noStrike" baseline="50000">
                <a:solidFill>
                  <a:srgbClr val="000000"/>
                </a:solidFill>
                <a:latin typeface="Comic Sans MS"/>
              </a:rPr>
              <a:t>12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uch pairs are available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1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1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          RC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2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2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curity again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differential atta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089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ea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361960" y="5740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574056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curity of Key Expan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expansion is identical to that of RC5; no known weakness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known weak key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known related-key attac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und keys appear to be a “random” function of the supplied ke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nus: key expansion is quite “one-way”---difficult to infer supplied key from round key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09760" y="1657440"/>
            <a:ext cx="6186600" cy="261144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more than meets the requirements for the AES; it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st, 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more information, including copy of these slides, copy of RC6 description, and security analysis, se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ww.rsa.com/rsalabs/a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The End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on of RC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on of RC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7560" y="1676520"/>
            <a:ext cx="810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-w/r/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ord siz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bits:        w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 32 )( lg(w) = 5 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ou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     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20 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key byt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b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16, 24, or 32 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Expansion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duces array  S[ 0 … 2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3 ]  of  w-bi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ound key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ryption and Decryp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put/Output in 32-bit registers A,B,C,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638680"/>
            <a:ext cx="8610480" cy="6858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Primitive Oper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0080" y="160020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+ 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ition modulo 2</a:t>
            </a:r>
            <a:r>
              <a:rPr b="0" lang="en-US" sz="3200" spc="-1" strike="noStrike" baseline="60000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- 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traction modulo 2</a:t>
            </a:r>
            <a:r>
              <a:rPr b="0" lang="en-US" sz="3200" spc="-1" strike="noStrike" baseline="60000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clusive-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&lt;&lt;&lt; 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tate  A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ft by amount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w-order  lg(w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bits of 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&gt;&gt;&gt; 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tate  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ght, similar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,B,C,D) = (B,C,D,A)   Parallel assig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x 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ication modulo 2</a:t>
            </a:r>
            <a:r>
              <a:rPr b="0" lang="en-US" sz="3200" spc="-1" strike="noStrike" baseline="60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 rot="16202400">
            <a:off x="-167760" y="3288960"/>
            <a:ext cx="134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C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4267080"/>
            <a:ext cx="304920" cy="1295640"/>
          </a:xfrm>
          <a:prstGeom prst="downArrow">
            <a:avLst>
              <a:gd name="adj1" fmla="val 50000"/>
              <a:gd name="adj2" fmla="val 106228"/>
            </a:avLst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676520"/>
            <a:ext cx="304920" cy="1523880"/>
          </a:xfrm>
          <a:prstGeom prst="upArrow">
            <a:avLst>
              <a:gd name="adj1" fmla="val 50000"/>
              <a:gd name="adj2" fmla="val 124941"/>
            </a:avLst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Encryption (Generic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6040" y="14479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= B + S[ 0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 = D + S[ 1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lg( w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lg( w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+ S[ 2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2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+ S[ 2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3 ]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Encryption (for A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= B + S[ 0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 = D + S[ 1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20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+ S[ 42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+ S[ 43 ]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Decryption (for A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06040" y="14479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- S[ 43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 A - S[ 42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20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wn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D, A, B, C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- S[ 2i + 1 ] ) &gt;&gt;&gt; t 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- S[ 2i ] ) &gt;&gt;&gt; u 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 = D - S[ 1 ]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 = B - S[ 0 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Ronald L. Rivest</dc:creator>
  <dc:description/>
  <dc:language>en-US</dc:language>
  <cp:lastModifiedBy>Shari Oto</cp:lastModifiedBy>
  <cp:lastPrinted>1998-08-17T01:08:49Z</cp:lastPrinted>
  <dcterms:modified xsi:type="dcterms:W3CDTF">1998-08-18T21:24:26Z</dcterms:modified>
  <cp:revision>139</cp:revision>
  <dc:subject/>
  <dc:title>RSA: 1977--1997 and beyond</dc:title>
</cp:coreProperties>
</file>