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6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200" spc="-1" strike="noStrike">
                <a:solidFill>
                  <a:srgbClr val="1c1c1c"/>
                </a:solidFill>
                <a:latin typeface="Arial"/>
              </a:rPr>
              <a:t>Security In Wireless Protocols - A Brief Overview</a:t>
            </a:r>
            <a:endParaRPr b="1" lang="en-US" sz="4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om, RSA Labora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M - WAP Identity Modu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ecifies storage of personal credentials (i.e. private keys, certificates) on tokens such as SIM (WIM) card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ecifies primitives for access of these tokens (service interface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ables credential portabil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profile of PKCS #15 from RSA Laboratori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PKI - found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181440" indent="-1814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fines a public-key based authentication framework needed to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585360" indent="-2242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anage security functionality defined in WAP 1.x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81440" indent="-1814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I Model based on security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omai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585360" indent="-2242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embers of domains have certain privileg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85360" indent="-2242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rollment into domains eithe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900360" indent="-1814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utomatically (e.g. when subscribing to an operator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900360" indent="-1814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anually (e.g. explicit request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81440" indent="-1814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ypical domai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585360" indent="-2242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anufacturer domai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85360" indent="-2242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etwork operator domai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585360" indent="-22428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rvice provider domai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PKI - client regist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46040" y="1438200"/>
          <a:ext cx="831708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1438200"/>
                    <a:ext cx="831708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P WTLS - wireless transport layer security protoco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osely modeled after TL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ovid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fidentiality servic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tegrity protec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uthenticit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serts a security layer between application-level protocols and underlying transport protocol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TLS desig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wo layer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record layer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(or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record protocol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) potentially providing confidentiality, authenticity and replay protec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handshake protocol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establishes a cipher context by negotiating the best possible cipher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uite (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.e. a triple &lt;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authentication method, confidentiality-scheme, integrity-scheme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ach layer uses services from lower layers and provides functionality to higher on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is as in TL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LS: Design princi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6000" indent="-2160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cord layer: Designed to protect agains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96600" indent="-2667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avesdropping (but export grade algorithms sometimes necessar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96600" indent="-2667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ctive attack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71360" indent="-21600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ut &amp; Paste [Bellovin ‘96] (not possible due to strong authentication and context keys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71360" indent="-21600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hort block attack [Bellovin ‘96] (possible but not likely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96600" indent="-2667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eplay attack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71360" indent="-21600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LS uses sequence number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96600" indent="-2667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mpersonation attack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71360" indent="-21600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trong authentication method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LS: Design principles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andshake layer: Intended to provide best possible protection for the connec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signed to protect against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ipher-suite rollback attack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t possible due to authentication of all key exchange messag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nly cipher-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uite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can be negotiated in TL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TLS modif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8520" indent="-2185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ome modifications compared to TL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04160" indent="-2696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nection-less rather than connection-orient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82520" indent="-2185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ut not state-less; just capable of being used on top of a datagram service, e.g. UDP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04160" indent="-2696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ther cipher-, authentication-, and key exchange-algorithms; other IV calcula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82520" indent="-2185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.g. elliptic-curve algorithm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04160" indent="-2696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ore “light-weight” than TLS, e.g.: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82520" indent="-2185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 record fragment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82520" indent="-2185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lient certificates do not have to be sent over-the-ai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82520" indent="-2185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veral record layer messages can be combin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ase Study: Bluetooth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Bluetooth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A wireless communication link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Operates at 2,4 GHz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Uses a frequency hopping tranceiv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Allows real-time voice and data commun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Link protocol is based on time slo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Offers authentication and confidential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tending e-commerce to wireless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86120" indent="-1861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equirements for secure solu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0120" indent="-230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fidentialit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00120" indent="-230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uthentication (two-way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00120" indent="-230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tegrity protec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00120" indent="-230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otection agains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923040" indent="-1861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eplay attack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923040" indent="-1861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enial-of-service attack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186120" indent="-1861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oday’s wireless environment requir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00120" indent="-230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low bandwidth consum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00120" indent="-230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low computational complexit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00120" indent="-230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low memory consump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00120" indent="-230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unctional reliability despite unstable connec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nder and Market Penetr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Founded in 1998 by </a:t>
            </a:r>
            <a:r>
              <a:rPr b="0" lang="sv-SE" sz="2400" spc="-1" strike="noStrike">
                <a:solidFill>
                  <a:srgbClr val="1c1c1c"/>
                </a:solidFill>
                <a:latin typeface="Arial"/>
              </a:rPr>
              <a:t>Ericsson, Intel, Nokia, IBM</a:t>
            </a: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 and </a:t>
            </a:r>
            <a:r>
              <a:rPr b="0" lang="sv-SE" sz="2400" spc="-1" strike="noStrike">
                <a:solidFill>
                  <a:srgbClr val="1c1c1c"/>
                </a:solidFill>
                <a:latin typeface="Arial"/>
              </a:rPr>
              <a:t>Toshiba</a:t>
            </a: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. Since then </a:t>
            </a:r>
            <a:r>
              <a:rPr b="0" lang="sv-SE" sz="2400" spc="-1" strike="noStrike">
                <a:solidFill>
                  <a:srgbClr val="1c1c1c"/>
                </a:solidFill>
                <a:latin typeface="Arial"/>
              </a:rPr>
              <a:t>3COM, Lucent and Microsoft </a:t>
            </a: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have joined in the leadership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v-SE" sz="2000" spc="-1" strike="noStrike">
                <a:solidFill>
                  <a:srgbClr val="4d5981"/>
                </a:solidFill>
                <a:latin typeface="Arial"/>
              </a:rPr>
              <a:t>Over 1400 members in the Special Interest Group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It is estimated that by 2005 the Bluetooth wireless technology will be a built-in feature in more than 670 million products according to market researchers (Cahners, ’99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 algn="ctr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lication Ran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Cable Replacement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000" spc="-1" strike="noStrike">
                <a:solidFill>
                  <a:srgbClr val="4d5981"/>
                </a:solidFill>
                <a:latin typeface="Arial"/>
              </a:rPr>
              <a:t>Bluetooth eliminates the need for numerous, often proprietary cable attachments for connection of practically any kind of communication device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000" spc="-1" strike="noStrike">
                <a:solidFill>
                  <a:srgbClr val="4d5981"/>
                </a:solidFill>
                <a:latin typeface="Arial"/>
              </a:rPr>
              <a:t>The range of each radio is approximately 10 meters, but it can be extended to around 100 meters with an optional amplifier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lication Ran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400" spc="-1" strike="noStrike">
                <a:solidFill>
                  <a:srgbClr val="1c1c1c"/>
                </a:solidFill>
                <a:latin typeface="Arial"/>
              </a:rPr>
              <a:t>Data and Voice capabiliti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000" spc="-1" strike="noStrike">
                <a:solidFill>
                  <a:srgbClr val="4d5981"/>
                </a:solidFill>
                <a:latin typeface="Arial"/>
              </a:rPr>
              <a:t>Bluetooth facilitates 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000" spc="-1" strike="noStrike">
                <a:solidFill>
                  <a:srgbClr val="4d5981"/>
                </a:solidFill>
                <a:latin typeface="Arial"/>
              </a:rPr>
              <a:t>real-time voice 64 kb/s synchronously in both direc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000" spc="-1" strike="noStrike">
                <a:solidFill>
                  <a:srgbClr val="4d5981"/>
                </a:solidFill>
                <a:latin typeface="Arial"/>
              </a:rPr>
              <a:t>data transmissions up to 723.2 kb/s and 57.6 kb/s in return direction, or 433.9 kb/s symmetric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2000" spc="-1" strike="noStrike">
                <a:solidFill>
                  <a:srgbClr val="4d5981"/>
                </a:solidFill>
                <a:latin typeface="Arial"/>
              </a:rPr>
              <a:t>You can surf the Internet and send e-mails on your portable PC or notebook wirelessly through a mobile phone or through a wire-bound connection (e.g., ISDN, LAN)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Link Controll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981080"/>
            <a:ext cx="1447920" cy="9144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2438280"/>
            <a:ext cx="68580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2438280"/>
            <a:ext cx="68580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2438280"/>
            <a:ext cx="68580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438280"/>
            <a:ext cx="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85800" y="2438280"/>
            <a:ext cx="3808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1676520"/>
            <a:ext cx="0" cy="7617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676520"/>
            <a:ext cx="152280" cy="3045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85800" y="1676520"/>
            <a:ext cx="228600" cy="3045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1981080"/>
            <a:ext cx="1447920" cy="9144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1905120"/>
            <a:ext cx="1752480" cy="11430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&amp; 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6600" y="164556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01440" y="3367800"/>
            <a:ext cx="714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Link Controller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: Carries out all baseband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(including authentication and encryption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ther low level rout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Link Manager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: Link Setup and  IO ct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iconets and Scattern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676520"/>
            <a:ext cx="228600" cy="228600"/>
          </a:xfrm>
          <a:prstGeom prst="ellipse">
            <a:avLst/>
          </a:prstGeom>
          <a:solidFill>
            <a:srgbClr val="fdf1d3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2133720"/>
            <a:ext cx="228600" cy="2286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77320" y="2590920"/>
            <a:ext cx="228600" cy="2286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3124080"/>
            <a:ext cx="228600" cy="228600"/>
          </a:xfrm>
          <a:prstGeom prst="ellipse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733920"/>
            <a:ext cx="228600" cy="228600"/>
          </a:xfrm>
          <a:prstGeom prst="ellipse">
            <a:avLst/>
          </a:prstGeom>
          <a:solidFill>
            <a:srgbClr val="fdf1d3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572000"/>
            <a:ext cx="228600" cy="228600"/>
          </a:xfrm>
          <a:prstGeom prst="ellipse">
            <a:avLst/>
          </a:prstGeom>
          <a:solidFill>
            <a:srgbClr val="1c1c1c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3733920"/>
            <a:ext cx="228600" cy="228600"/>
          </a:xfrm>
          <a:prstGeom prst="ellipse">
            <a:avLst/>
          </a:prstGeom>
          <a:solidFill>
            <a:srgbClr val="fdf1d3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4343400"/>
            <a:ext cx="228600" cy="2286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4343400"/>
            <a:ext cx="228600" cy="2286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648320"/>
            <a:ext cx="228600" cy="2286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5105520"/>
            <a:ext cx="228600" cy="2286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62640" y="4230720"/>
            <a:ext cx="228600" cy="228600"/>
          </a:xfrm>
          <a:prstGeom prst="ellipse">
            <a:avLst/>
          </a:prstGeom>
          <a:solidFill>
            <a:srgbClr val="fdf1d3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5334120"/>
            <a:ext cx="228600" cy="2286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4876920"/>
            <a:ext cx="228600" cy="2286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4876920"/>
            <a:ext cx="228600" cy="2286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01000" y="4343400"/>
            <a:ext cx="228600" cy="228600"/>
          </a:xfrm>
          <a:prstGeom prst="ellipse">
            <a:avLst/>
          </a:prstGeom>
          <a:solidFill>
            <a:srgbClr val="fdf1d3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53280" y="3352680"/>
            <a:ext cx="228600" cy="228600"/>
          </a:xfrm>
          <a:prstGeom prst="ellipse">
            <a:avLst/>
          </a:prstGeom>
          <a:solidFill>
            <a:srgbClr val="0000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7160" y="3962520"/>
            <a:ext cx="0" cy="6094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14600" y="3962520"/>
            <a:ext cx="380880" cy="3808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3962520"/>
            <a:ext cx="0" cy="685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3886200"/>
            <a:ext cx="380880" cy="4572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62720" y="4495680"/>
            <a:ext cx="0" cy="6098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638680" y="3276360"/>
            <a:ext cx="1371600" cy="99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162920" y="2743200"/>
            <a:ext cx="914400" cy="3808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3276720"/>
            <a:ext cx="914400" cy="152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4419720"/>
            <a:ext cx="1676520" cy="5331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543800" y="4495320"/>
            <a:ext cx="457200" cy="381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077320" y="4571640"/>
            <a:ext cx="0" cy="762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29600" y="4495680"/>
            <a:ext cx="457200" cy="4572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4640" y="1560600"/>
            <a:ext cx="11804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6840" y="327564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a)                     b)                          c)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680" y="1598760"/>
            <a:ext cx="66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iconet: Units sharing a chann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catternet: Two or more piconets in sam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21680" y="60188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oint-to-point as well as point-to-multi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ime Division Duple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981080"/>
            <a:ext cx="6705720" cy="10670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048120"/>
            <a:ext cx="6705720" cy="10666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600200"/>
            <a:ext cx="0" cy="3048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1600200"/>
            <a:ext cx="0" cy="3048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1600200"/>
            <a:ext cx="0" cy="3048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1600200"/>
            <a:ext cx="0" cy="3048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1600200"/>
            <a:ext cx="0" cy="3048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1760" y="1981080"/>
            <a:ext cx="5331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1760" y="3048120"/>
            <a:ext cx="5331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61760" y="4114800"/>
            <a:ext cx="5331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4680" y="1981080"/>
            <a:ext cx="762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1981080"/>
            <a:ext cx="7617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3048120"/>
            <a:ext cx="762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1000" y="4114800"/>
            <a:ext cx="762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1000" y="1600200"/>
            <a:ext cx="0" cy="3048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0360" y="1444680"/>
            <a:ext cx="111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523880"/>
            <a:ext cx="1143000" cy="457200"/>
          </a:xfrm>
          <a:prstGeom prst="rect">
            <a:avLst/>
          </a:prstGeom>
          <a:solidFill>
            <a:srgbClr val="96969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3657600"/>
            <a:ext cx="1143000" cy="457200"/>
          </a:xfrm>
          <a:prstGeom prst="rect">
            <a:avLst/>
          </a:prstGeom>
          <a:solidFill>
            <a:srgbClr val="96969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1523880"/>
            <a:ext cx="1143000" cy="457200"/>
          </a:xfrm>
          <a:prstGeom prst="rect">
            <a:avLst/>
          </a:prstGeom>
          <a:solidFill>
            <a:srgbClr val="96969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2590920"/>
            <a:ext cx="1143000" cy="457200"/>
          </a:xfrm>
          <a:prstGeom prst="rect">
            <a:avLst/>
          </a:prstGeom>
          <a:solidFill>
            <a:srgbClr val="96969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572000"/>
            <a:ext cx="1371600" cy="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4190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.625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1280" y="4922280"/>
            <a:ext cx="75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27 bit clock, resolution equals one tim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aster transmits in even, and slaves in odd time sl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ackets may extend over 1, 3 or 5 time sl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Frequency hop, among 79 channels, after each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2133720"/>
            <a:ext cx="0" cy="1371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276720" y="2361960"/>
            <a:ext cx="0" cy="990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2057400"/>
            <a:ext cx="0" cy="5335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943600" y="2031840"/>
            <a:ext cx="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Bluetooth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0520" y="1674000"/>
            <a:ext cx="78768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Arial"/>
              </a:rPr>
              <a:t>Bluetooth secur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Authentication between BT devices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ncryption of payload on air interface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arame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BD_ADDR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                   48 bit address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  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Authentication key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    128 bits                              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ncryption key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           1-16 bytes                         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RAND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                          128 bit random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lgorith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6160" y="1413360"/>
            <a:ext cx="802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Bluetooth makes use of the following algorith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0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(encryption):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Slight modification of Massey&amp;Ruep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ummation stream cipher generator. Consists of 4 LFSR: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with primitive feedback polynomials, and a sum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mbiner. Total length of the shift registers is 128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1 (authentication):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Construction using SAFER+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2 (key generation):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Construction using mod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version of SAFER+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k keys (authentication key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0560" y="2240280"/>
            <a:ext cx="379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r types of link k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key K_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key K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key K_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 key K_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183280" y="2437200"/>
            <a:ext cx="3281760" cy="2440800"/>
            <a:chOff x="5183280" y="2437200"/>
            <a:chExt cx="3281760" cy="2440800"/>
          </a:xfrm>
        </p:grpSpPr>
        <p:sp>
          <p:nvSpPr>
            <p:cNvPr id="251" name=""/>
            <p:cNvSpPr/>
            <p:nvPr/>
          </p:nvSpPr>
          <p:spPr>
            <a:xfrm>
              <a:off x="7543440" y="2895480"/>
              <a:ext cx="381240" cy="380880"/>
            </a:xfrm>
            <a:prstGeom prst="ellipse">
              <a:avLst/>
            </a:prstGeom>
            <a:solidFill>
              <a:srgbClr val="00000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38680" y="3657240"/>
              <a:ext cx="380880" cy="381240"/>
            </a:xfrm>
            <a:prstGeom prst="ellipse">
              <a:avLst/>
            </a:prstGeom>
            <a:solidFill>
              <a:srgbClr val="fdf1d3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019560" y="3123720"/>
              <a:ext cx="1523880" cy="609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560" y="3885840"/>
              <a:ext cx="1600200" cy="304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3280" y="3351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96320" y="2437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064720" y="441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74000" y="298512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_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9760" y="40384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59840" y="41137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_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itialization Proced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72560" y="1990080"/>
            <a:ext cx="613764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on of K_init from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on of Link Ke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nit or comb. at ini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Key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on of Encrypt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4952880"/>
            <a:ext cx="7162920" cy="0"/>
          </a:xfrm>
          <a:prstGeom prst="line">
            <a:avLst/>
          </a:prstGeom>
          <a:ln w="349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ase Study: WAP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tion of K_in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819520"/>
            <a:ext cx="990720" cy="8380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819520"/>
            <a:ext cx="990720" cy="8380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733920" y="3047760"/>
            <a:ext cx="914400" cy="75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191120" y="3028680"/>
            <a:ext cx="457200" cy="399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191120" y="3352680"/>
            <a:ext cx="838080" cy="763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41400" y="25581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_RAND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32360" y="190404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erifier                                         B claim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3240" y="2862360"/>
            <a:ext cx="127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D_ADDR_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_RAND_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3000" y="2862360"/>
            <a:ext cx="127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D_ADDR_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_RAND_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3038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3240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3429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18400" y="30099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13720" y="32306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23080" y="3436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3733920"/>
            <a:ext cx="0" cy="5331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3733920"/>
            <a:ext cx="0" cy="5331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90080" y="4342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_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16080" y="43423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_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87720" y="5638680"/>
            <a:ext cx="61272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s of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:     1-16 oct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_RAND_A:  12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_ADDR: 48 bits                            K_init:             12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2514600"/>
            <a:ext cx="990720" cy="8380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2514600"/>
            <a:ext cx="990720" cy="8380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657600" y="2819160"/>
            <a:ext cx="990720" cy="75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91120" y="2800080"/>
            <a:ext cx="457200" cy="3999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191120" y="3124080"/>
            <a:ext cx="914400" cy="763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41760" y="2359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_RAND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32360" y="159912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erifier                                         B claim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3240" y="2557440"/>
            <a:ext cx="127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_RAND_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D_ADDR_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733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29354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312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18400" y="2705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13720" y="2925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23080" y="313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17600" y="3429000"/>
            <a:ext cx="0" cy="5335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3429000"/>
            <a:ext cx="0" cy="762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07680" y="4173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94760" y="4204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92040" y="5700600"/>
            <a:ext cx="603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s of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_RAND_A:   128 bits                        BD_ADDR: 4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Key:           128 bits                        SRES:        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61080" y="2560680"/>
            <a:ext cx="127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_RAND_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D_ADDR_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3429000"/>
            <a:ext cx="0" cy="5335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3429000"/>
            <a:ext cx="0" cy="762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0800" y="39096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4360" y="39016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133720" y="35049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69760" y="345852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6                   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50600" y="4935960"/>
            <a:ext cx="512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is authenticated if SRES’ = S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“Link Key” is K_init at initial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4267080"/>
            <a:ext cx="990720" cy="19080"/>
          </a:xfrm>
          <a:prstGeom prst="line">
            <a:avLst/>
          </a:prstGeom>
          <a:ln w="34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419720" y="4267080"/>
            <a:ext cx="457200" cy="4003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4667400"/>
            <a:ext cx="990360" cy="568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96000" y="38235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tion of Unit Key</a:t>
            </a:r>
            <a:br>
              <a:rPr sz="3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Occurs the first time the unit is in operation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1905120"/>
            <a:ext cx="1295640" cy="121896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30360" y="1944720"/>
            <a:ext cx="20552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_ADDR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22860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57600" y="27432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3192480"/>
            <a:ext cx="0" cy="8380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27560" y="35960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65440" y="13708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devic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962160" y="22096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962160" y="26668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105160" y="329256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7520" y="27817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83960" y="1935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78320" y="321552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79760" y="4130640"/>
            <a:ext cx="688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ilt-in RNG generates RAND_A, whi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s key in E2. As plaintext, BD_ADDR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rly expanded to 16 bytes,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K_A shall be used as link key between A and B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 sends  XOR(K_A, K_init)  to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saves K_A as K_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1920" y="309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tion of Combination Key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on the link AB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14640" y="2133720"/>
            <a:ext cx="900000" cy="6858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700680" y="2514600"/>
            <a:ext cx="914400" cy="763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991200" y="2495520"/>
            <a:ext cx="623880" cy="324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991200" y="2743200"/>
            <a:ext cx="1052640" cy="763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0480" y="2132280"/>
            <a:ext cx="12751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D_ADDR_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K_RAND_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28840" y="2286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28840" y="2590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57440" y="2895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22320" y="312300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K_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3400" y="182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44920" y="3276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67320" y="2666880"/>
            <a:ext cx="152280" cy="15264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57840" y="27432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79040" y="2513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1960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17640" y="3732840"/>
            <a:ext cx="66470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is the current link key, i.e. K_init during initial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performs the analogous operations as A abo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both parties can calculate the other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ion to the combination 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combination key they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_AB  =  XOR(LK_K   , LK_K   )  =  K_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. The comb. key is stored, but only after a success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ual authentication with the newly derived K_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4364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46160" y="2132640"/>
            <a:ext cx="12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K_RAND_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80" y="137052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T unit A performs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29760" y="297072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mits this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2560" y="56066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57720" y="56066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rivation of Encryption Ke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67080" y="1812960"/>
            <a:ext cx="1295640" cy="121932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25146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29000" y="28558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310032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97880" y="3624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33560" y="24382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733560" y="277956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876560" y="320040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08920" y="28944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55360" y="2164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49720" y="3123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91000" y="190332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_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_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2057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733560" y="19810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08920" y="1743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34040" y="3777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190512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c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ACO wa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de product from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0720" y="4478760"/>
            <a:ext cx="677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ster generates a random number EN_RA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ransmits this in clear to the sl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parties calculates K_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 keysize negotiation, K_C is reduced according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size used is the largest one acceptable to 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1666800"/>
            <a:ext cx="1295280" cy="121932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9880" y="24368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9880" y="27097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4120" y="295416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78760" y="32616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305424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30960" y="29775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18273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9880" y="21319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83960" y="1599840"/>
            <a:ext cx="127044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_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_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_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84120" y="197856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87120" y="223092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3786120"/>
            <a:ext cx="152280" cy="15264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8000" y="38624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48320" y="38624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5400" y="366624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96960" y="36871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18720" y="4310640"/>
            <a:ext cx="6660720" cy="23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put variables are shifted into the registers of E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bits are generated, of which the last 128 are fed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the shift regis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0 is now initialized and ready to produce key b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0 is reinitialized for each packet (p-size max 2.5k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AP, Bluetooth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ww.wapforum.org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ww.bluetooth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on the web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ww.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Laboratories on the web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ww.rsasecurity.com/rsalabs/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04480" indent="-20448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f you are interested in doing your M.Sc. Thesis at RSA, contac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59520" indent="-25272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back@rsasecurity.com (Magnus Back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WAP foru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ireless Application Protoco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dustry-wide specification for development of “wireless” applica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rings interactive applications to handsets such as cellular phon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ounded by Ericsson, Nokia, Motorola and Phone.com in 1997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oday, more than 200 member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P-at-a-gl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080" y="137124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375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The phone calls the modem pool at the ISP</a:t>
            </a:r>
            <a:endParaRPr b="1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The phone and the ISP does a PPP negotiation</a:t>
            </a:r>
            <a:endParaRPr b="1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The phone connects to the gateway via UDP/IP over the Internet</a:t>
            </a:r>
            <a:endParaRPr b="1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1c1c1c"/>
                </a:solidFill>
                <a:latin typeface="Arial"/>
              </a:rPr>
              <a:t>The gateway access URLs specified in the phone (either on a local Web server, or via Internet)</a:t>
            </a:r>
            <a:endParaRPr b="1" lang="en-US" sz="22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3886200"/>
          <a:ext cx="853416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86200"/>
                    <a:ext cx="853416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P’s archite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1523880"/>
            <a:ext cx="1905120" cy="762120"/>
          </a:xfrm>
          <a:prstGeom prst="rect">
            <a:avLst/>
          </a:prstGeom>
          <a:solidFill>
            <a:srgbClr val="8cc6a2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2438280"/>
            <a:ext cx="1905120" cy="762120"/>
          </a:xfrm>
          <a:prstGeom prst="rect">
            <a:avLst/>
          </a:prstGeom>
          <a:solidFill>
            <a:srgbClr val="8cc6a2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3429000"/>
            <a:ext cx="1905120" cy="762120"/>
          </a:xfrm>
          <a:prstGeom prst="rect">
            <a:avLst/>
          </a:prstGeom>
          <a:solidFill>
            <a:srgbClr val="8cc6a2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4419720"/>
            <a:ext cx="1905120" cy="761760"/>
          </a:xfrm>
          <a:prstGeom prst="rect">
            <a:avLst/>
          </a:prstGeom>
          <a:solidFill>
            <a:srgbClr val="8cc6a2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T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486400"/>
            <a:ext cx="1905120" cy="762120"/>
          </a:xfrm>
          <a:prstGeom prst="rect">
            <a:avLst/>
          </a:prstGeom>
          <a:solidFill>
            <a:srgbClr val="8cc6a2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6040" y="160020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58200" y="25909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8720" y="358128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8720" y="457200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security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80880" y="56386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gram/bear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505320"/>
            <a:ext cx="1905120" cy="761760"/>
          </a:xfrm>
          <a:prstGeom prst="rect">
            <a:avLst/>
          </a:prstGeom>
          <a:solidFill>
            <a:srgbClr val="8cc6a2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960" y="42670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ty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320" y="3276720"/>
            <a:ext cx="8915400" cy="2133360"/>
            <a:chOff x="76320" y="3276720"/>
            <a:chExt cx="8915400" cy="2133360"/>
          </a:xfrm>
        </p:grpSpPr>
        <p:sp>
          <p:nvSpPr>
            <p:cNvPr id="105" name=""/>
            <p:cNvSpPr/>
            <p:nvPr/>
          </p:nvSpPr>
          <p:spPr>
            <a:xfrm>
              <a:off x="1905120" y="4343400"/>
              <a:ext cx="7086600" cy="1066680"/>
            </a:xfrm>
            <a:prstGeom prst="ellipse">
              <a:avLst/>
            </a:prstGeom>
            <a:noFill/>
            <a:ln w="38160">
              <a:solidFill>
                <a:srgbClr val="a42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320" y="3276720"/>
              <a:ext cx="2361960" cy="1523880"/>
            </a:xfrm>
            <a:prstGeom prst="ellipse">
              <a:avLst/>
            </a:prstGeom>
            <a:noFill/>
            <a:ln w="38160">
              <a:solidFill>
                <a:srgbClr val="a42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WAP security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0080" y="1523880"/>
            <a:ext cx="7686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 component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981080"/>
            <a:ext cx="768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41000"/>
          </a:bodyPr>
          <a:p>
            <a:pPr lvl="1" marL="303840" indent="-1162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TLS - Wireless Transport Layer Security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7280" indent="-9396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losely modeled after TLS (Internet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7280" indent="-9396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ffers confidentiality, integrity and authen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7280" indent="-9396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3840" indent="-1162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124080"/>
            <a:ext cx="768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41000"/>
          </a:bodyPr>
          <a:p>
            <a:pPr lvl="1" marL="303840" indent="-1162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IM - WAP Identity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7280" indent="-9396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efines both a format for personal credentials and a service inte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7280" indent="-9396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ovides credential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portability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47800" y="4495680"/>
            <a:ext cx="768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4000"/>
          </a:bodyPr>
          <a:p>
            <a:pPr lvl="1" marL="474120" indent="-1814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MLScript Crypto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9360" indent="-1468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ovides a way for applications to receive </a:t>
            </a:r>
            <a:r>
              <a:rPr b="1" i="1" lang="en-US" sz="2000" spc="-1" strike="noStrike">
                <a:solidFill>
                  <a:srgbClr val="4d5981"/>
                </a:solidFill>
                <a:latin typeface="Arial"/>
              </a:rPr>
              <a:t>signed 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ata from cli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5562720"/>
            <a:ext cx="7925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4000"/>
          </a:bodyPr>
          <a:p>
            <a:pPr lvl="1" marL="474120" indent="-1814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PKI - WAP Public Key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29360" indent="-14688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cts as “lubricant” - makes components work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P security model, 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133720" y="1752480"/>
            <a:ext cx="4419000" cy="1792440"/>
            <a:chOff x="2133720" y="1752480"/>
            <a:chExt cx="4419000" cy="1792440"/>
          </a:xfrm>
        </p:grpSpPr>
        <p:sp>
          <p:nvSpPr>
            <p:cNvPr id="115" name=""/>
            <p:cNvSpPr/>
            <p:nvPr/>
          </p:nvSpPr>
          <p:spPr>
            <a:xfrm>
              <a:off x="2133720" y="2362320"/>
              <a:ext cx="1218960" cy="114300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/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p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38640" y="1752480"/>
              <a:ext cx="184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MLScri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ignTex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3760" y="2362320"/>
              <a:ext cx="1218960" cy="118260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/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52680" y="2819520"/>
              <a:ext cx="19807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2680" y="3048120"/>
              <a:ext cx="19807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913680" y="3505320"/>
            <a:ext cx="5639400" cy="1981080"/>
            <a:chOff x="913680" y="3505320"/>
            <a:chExt cx="5639400" cy="1981080"/>
          </a:xfrm>
        </p:grpSpPr>
        <p:sp>
          <p:nvSpPr>
            <p:cNvPr id="121" name=""/>
            <p:cNvSpPr/>
            <p:nvPr/>
          </p:nvSpPr>
          <p:spPr>
            <a:xfrm>
              <a:off x="2133360" y="4303800"/>
              <a:ext cx="1219320" cy="114300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T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3760" y="4303800"/>
              <a:ext cx="1219320" cy="118260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T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2720" y="4114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T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3505320"/>
              <a:ext cx="0" cy="838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71800" y="3505320"/>
              <a:ext cx="0" cy="838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3680" y="3657600"/>
              <a:ext cx="140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TLS I/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52680" y="4724280"/>
              <a:ext cx="19810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2680" y="4952880"/>
              <a:ext cx="19810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5000" y="3505320"/>
              <a:ext cx="0" cy="838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19560" y="3505320"/>
              <a:ext cx="0" cy="838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553080" y="2514600"/>
            <a:ext cx="2133720" cy="2057400"/>
            <a:chOff x="6553080" y="2514600"/>
            <a:chExt cx="2133720" cy="2057400"/>
          </a:xfrm>
        </p:grpSpPr>
        <p:sp>
          <p:nvSpPr>
            <p:cNvPr id="132" name=""/>
            <p:cNvSpPr/>
            <p:nvPr/>
          </p:nvSpPr>
          <p:spPr>
            <a:xfrm>
              <a:off x="6553080" y="2743200"/>
              <a:ext cx="1523880" cy="1143000"/>
            </a:xfrm>
            <a:custGeom>
              <a:avLst/>
              <a:gdLst/>
              <a:ahLst/>
              <a:rect l="l" t="t" r="r" b="b"/>
              <a:pathLst>
                <a:path w="960" h="720">
                  <a:moveTo>
                    <a:pt x="0" y="0"/>
                  </a:moveTo>
                  <a:cubicBezTo>
                    <a:pt x="304" y="36"/>
                    <a:pt x="608" y="72"/>
                    <a:pt x="768" y="192"/>
                  </a:cubicBezTo>
                  <a:cubicBezTo>
                    <a:pt x="928" y="312"/>
                    <a:pt x="944" y="516"/>
                    <a:pt x="960" y="720"/>
                  </a:cubicBezTo>
                </a:path>
              </a:pathLst>
            </a:custGeom>
            <a:noFill/>
            <a:ln w="349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62560" y="3886200"/>
              <a:ext cx="1524240" cy="68580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69200" y="251460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M I/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553080" y="3124080"/>
            <a:ext cx="1143000" cy="1854360"/>
          </a:xfrm>
          <a:custGeom>
            <a:avLst/>
            <a:gdLst/>
            <a:ahLst/>
            <a:rect l="l" t="t" r="r" b="b"/>
            <a:pathLst>
              <a:path w="720" h="1168">
                <a:moveTo>
                  <a:pt x="0" y="1104"/>
                </a:moveTo>
                <a:cubicBezTo>
                  <a:pt x="100" y="1136"/>
                  <a:pt x="200" y="1168"/>
                  <a:pt x="240" y="1008"/>
                </a:cubicBezTo>
                <a:cubicBezTo>
                  <a:pt x="280" y="848"/>
                  <a:pt x="176" y="288"/>
                  <a:pt x="240" y="144"/>
                </a:cubicBezTo>
                <a:cubicBezTo>
                  <a:pt x="304" y="0"/>
                  <a:pt x="544" y="88"/>
                  <a:pt x="624" y="144"/>
                </a:cubicBezTo>
                <a:cubicBezTo>
                  <a:pt x="704" y="200"/>
                  <a:pt x="712" y="340"/>
                  <a:pt x="720" y="48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07600" y="5602320"/>
            <a:ext cx="65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PK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ables verification of signatur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roblems with WA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AP V1.x only secures the connection between the handset and the gateway. The gateway *must* be trusted!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f you want to have high security, you have to administer your own WAP Gateway, placed immediately in front of your web serv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80880" y="3983040"/>
          <a:ext cx="853452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983040"/>
                    <a:ext cx="853452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1:18:10Z</dcterms:created>
  <dc:creator>Karin Larsson</dc:creator>
  <dc:description/>
  <dc:language>en-US</dc:language>
  <cp:lastModifiedBy>Magnus Nystrom</cp:lastModifiedBy>
  <cp:lastPrinted>2000-05-05T11:35:45Z</cp:lastPrinted>
  <dcterms:modified xsi:type="dcterms:W3CDTF">2000-05-07T21:28:12Z</dcterms:modified>
  <cp:revision>31</cp:revision>
  <dc:subject/>
  <dc:title>Bluetooth</dc:title>
</cp:coreProperties>
</file>