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29B-053D-44DD-B653-FACC39B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EF7-7339-42CF-A059-3749DC9D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434-F8C1-4860-B814-2FB14027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17A-2177-4DE1-AAD2-E1E916EA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7B8-6DAA-4044-B5E9-AF6B98F7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80A2-D44C-4602-8C8C-E52F542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F0B-474F-4085-A411-19A4084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29C3-CF09-4B66-844A-5EA072B6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932-39A5-426A-A20F-96B0DD0E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624-727C-4A1F-92A0-85CE3BF0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4A8-71D6-417D-96FC-520F068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E12-75F9-4A99-822B-53BAC47A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9A1D-432E-42B9-AED5-6814897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D178-34F2-47EC-ADB1-D24BC1C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111E-755E-4153-930B-C8FA80A7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0E23-9D17-4539-BB54-78FD0DC2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4C9-570D-4657-AB07-D518DE4B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09E-C7C1-44AE-9D6D-F2E0827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816-7A09-48A9-814E-7E0CEC7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95F-E8DA-44B0-A897-715515A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03C-CDA9-4BD4-A275-FF8D06C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0B0-C92C-4BFB-B2CF-EF5C06E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FFC-848C-4A85-ACE8-7E889FD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3C4-4D26-477A-A2FA-302A70E3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and Discrete Logarithm Based Cryptograph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le of Two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 and Moses Lis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BC4-402E-4C7C-A8C5-A977CE593F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realized to be promising, it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yptosystem must be made efficient enough to be practic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ryptosystems have not been made efficient enough to be widely acce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603-91B9-4CF5-8B31-EFB8645674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lementation results can be used by both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DL require efficient modular exponentiation and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 requires efficient EC multiplication an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3E5-0D32-4CC1-87B5-CC9C33CD0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ization &amp; Standard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4F4-2503-4578-B28E-9B86A0AE3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ability of the Crypto community to break an algorithm is reassu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that an algorithm is secure is far more des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vably secure variation is often attainable, under some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4E3-D0D4-4ECA-ADBE-5FC64E0CC0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 and PSS provide provably secure methods for using 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cheval-Stern and Brickell provide provably secure variants of DSA and ECD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equivalence betwee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3E3-2A3B-4579-AAAF-92558528B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 algorithm is very well accepted, standards must b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are necessar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level of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standards, actual implementation and use is very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483-687F-49BC-B07C-DF86A27071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amilies have survived this process; they are the only ones to have made it thi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ng (RSA): PKCS #1, ANSI X9.31, X9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DSA, DH): ANSI X9.30, X9.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ECC): ANSI X9.62, ANSI X9.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EEE P1363 covers all of th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6B4-D747-4D00-81C7-693795949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fairly well established, it becomes a natural tool for more advanced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 solve limited, specific problems in new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Private Key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4F1-A3C7-475E-90D4-1813CF8487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(cont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ind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 Sharing / Threshol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niable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Key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C64-FB3F-46E4-A61A-F5CE317FD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ete Logarithm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560" y="44956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iffi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DH7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384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80680" y="2895480"/>
            <a:ext cx="163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liptic Curv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y Miller and Kobli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il86] [Kob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7520" y="5029200"/>
            <a:ext cx="15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Gamal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Elg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191120"/>
            <a:ext cx="90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SA</a:t>
            </a: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, D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2819160"/>
            <a:ext cx="0" cy="11430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1160" y="25146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962520"/>
            <a:ext cx="0" cy="7617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6320" y="4724280"/>
            <a:ext cx="111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Mod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Expon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[BGM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6000" y="4419720"/>
            <a:ext cx="153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H proved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o DL under cer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sumptions [Mau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5960" y="53341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EC reduced to D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certai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MOV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27636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120" y="2703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dex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thod [Adl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25909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2057400"/>
            <a:ext cx="129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DL [BM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2514600"/>
            <a:ext cx="0" cy="1447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2920" y="1865160"/>
            <a:ext cx="91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Gor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5120" y="437976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ppersmith 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on GF(2</a:t>
            </a:r>
            <a:r>
              <a:rPr b="0" lang="en-US" sz="12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op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365724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48520" y="28558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1st E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2767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440" y="3657600"/>
            <a:ext cx="685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172200" y="3352680"/>
            <a:ext cx="0" cy="609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9840" y="289548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Authenticated 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developed [DV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666520"/>
            <a:ext cx="0" cy="1295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5600" y="21337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norr ID/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Sch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5240" y="4419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Chaum et al. Z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roof [CEGP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8400" y="53341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ballo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305920" y="2742840"/>
            <a:ext cx="0" cy="12193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2057400"/>
            <a:ext cx="120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62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X9.63 for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10280" y="2895480"/>
            <a:ext cx="0" cy="10670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4160" y="2438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962520"/>
            <a:ext cx="0" cy="16002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1880" y="5638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1CB-22BE-4334-9330-D2422E6D8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D.H. (Before Diffie-Hellma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ymmetric cryptography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didn’t focus o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search area: Key Distribu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result cracked the field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A17-FA08-47AF-8728-172F725709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44956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SA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RSA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95280" y="2590920"/>
            <a:ext cx="0" cy="1371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4040" y="201780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abin’s 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of RSA [Rab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77120" y="3429000"/>
            <a:ext cx="0" cy="5335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3000" y="274320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implemen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SA [SV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3352680"/>
            <a:ext cx="0" cy="6098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2960" y="2666880"/>
            <a:ext cx="137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Chinese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Theorem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esult [QC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00400" y="2590920"/>
            <a:ext cx="0" cy="13716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41160" y="22860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53341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Poly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Quadratic Sieve [Sil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962520"/>
            <a:ext cx="0" cy="12189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4720" y="5181480"/>
            <a:ext cx="144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ener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 [BLP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LZ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9625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360" y="449568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SA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allenge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35053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7360" y="44560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elate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[CFP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4440" y="48006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RSA [ACGS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43434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05160" y="434340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6280" y="297180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ublic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3 attack [Has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2361960"/>
            <a:ext cx="0" cy="1600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39760" y="1865160"/>
            <a:ext cx="11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OAEP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320" y="3124080"/>
            <a:ext cx="99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SS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09880" y="3048120"/>
            <a:ext cx="0" cy="91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9240" y="259092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Fiat-Shamir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FS8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305920" y="2971800"/>
            <a:ext cx="0" cy="9907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9800" y="251460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37440" y="53704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38680" y="2666520"/>
            <a:ext cx="0" cy="12956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2096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4343400"/>
            <a:ext cx="0" cy="7621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3280" y="50292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ISO/IEC 9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E01-ADB9-4843-9AC4-C27C1AD115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Techniques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429000"/>
            <a:ext cx="0" cy="533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2920" y="4495680"/>
            <a:ext cx="164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(Algebraic Co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3760" y="274320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H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0400" y="35053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5160" y="27795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 Pro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2160" y="46083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CR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4419720"/>
            <a:ext cx="83844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2285640"/>
            <a:ext cx="0" cy="1676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1880" y="18288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evised 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 [CR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962520"/>
            <a:ext cx="0" cy="1295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0680" y="525780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LUC cryp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SS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4648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38680" y="3200040"/>
            <a:ext cx="0" cy="7621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305920" y="3276360"/>
            <a:ext cx="0" cy="6858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07160" y="2627280"/>
            <a:ext cx="154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Ajtai-Dwork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ased cryptosystem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ome analysis [AD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2440" y="2475000"/>
            <a:ext cx="161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Goppa code varian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GPT9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65760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5360" y="281952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Sha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4720" y="4800600"/>
            <a:ext cx="12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Bri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50532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361960" y="3657600"/>
            <a:ext cx="5331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2920" y="2285640"/>
            <a:ext cx="0" cy="16765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9160" y="190512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r-Rivest att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SH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96960" y="4608360"/>
            <a:ext cx="148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dvantages of L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ught into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BL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920" y="579132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oppa code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ebunked [Gib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1120" y="541008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cEliec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S98], [S9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810-57A1-4C7F-8CED-97D45B0F0F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Two Famili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have held up through the full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ther family has made it through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based on seemingly hard but not NP-complet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F70-E896-4C20-BF39-242181A658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is Better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L nor Factoring is entirely better in practice; each has its own adva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one family often propagat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key validation (DL to Facto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identity schemes (Factoring to 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690-F425-4DC9-B522-E75AC3C71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hat the DL problem and the Factoring problem could both becom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ypes of cryptography would give us a fallback in case this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80C-50A2-4428-A21B-A7A996BFCD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has been gained from our failed attempts at other types of crypt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were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ice reduction was used to break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then found that lattice reduction bears some relation to factor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9C2-279B-4F6A-8945-5D3160129C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re is Cryptography Going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will doubtless continue to be tested, and new, valuable result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 will be proposed, and perhaps they can follow in the footsteps of the two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basic research benefits us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6B3-6011-4A92-9B0A-B71FF67FB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33526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and Bob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reakthroug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key exchange system (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lice and Bob share a secret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E3A-F3DC-4632-B95B-28F604B75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ffie-Hellman and R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invented i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-key cryptosystem capable of encryption and signature as well as key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stage for the next 20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402-4492-475A-9398-A68618DF0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 Famil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and later ElGamal, DSA, and Elliptic Curve are all in the Discrete Logarithm (DL)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related systems make up the Factoring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0E1-005C-4C64-81BC-4C1A43511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ginning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ryptosystems are inven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invented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 (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le’s puzzles (19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Eliece Cryptosystem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 Cryptography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CFE-0220-41D4-AAC3-D4F6AE3F6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cryptosystem is proposed, the Crypto community attempts to brea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cryptosystems that have been proposed outside of the two families failed at this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knapsack cryptosystems were found to be in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D6B-6C7B-44D3-806F-C873506E1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RSA, and Elliptic Curve all withstood analysis from the Crypto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an ongo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429-1DE7-487C-BEE3-DEDCEF4E8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ic Componen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arithm and Factoring both provide the same fundamental tools, but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A84-026B-4A2A-AB4F-11BB00CC7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Burt Kaliski</cp:lastModifiedBy>
  <cp:lastPrinted>1998-10-14T19:51:38Z</cp:lastPrinted>
  <dcterms:modified xsi:type="dcterms:W3CDTF">1998-10-29T17:17:24Z</dcterms:modified>
  <cp:revision>12</cp:revision>
  <dc:subject/>
  <dc:title>No Slide Title</dc:title>
</cp:coreProperties>
</file>