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992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98480" y="152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0000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992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98480" y="3593520"/>
            <a:ext cx="247500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51920" y="152280"/>
            <a:ext cx="7543800" cy="315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38840" y="359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145440"/>
            <a:ext cx="754380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38840" y="1523520"/>
            <a:ext cx="375084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00080" y="3593520"/>
            <a:ext cx="7686720" cy="189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header-slide-wholepage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1500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2" marL="113976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3" marL="1717560" indent="-228600">
              <a:spcBef>
                <a:spcPts val="1500"/>
              </a:spcBef>
              <a:buClr>
                <a:srgbClr val="ffbe7d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4" marL="2060640" indent="-228600">
              <a:spcBef>
                <a:spcPts val="1500"/>
              </a:spcBef>
              <a:buClr>
                <a:srgbClr val="ffbe7d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5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6" marL="206064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3" name="RSALabs_logo" descr=""/>
          <p:cNvPicPr/>
          <p:nvPr/>
        </p:nvPicPr>
        <p:blipFill>
          <a:blip r:embed="rId3"/>
          <a:stretch/>
        </p:blipFill>
        <p:spPr>
          <a:xfrm>
            <a:off x="228600" y="5694480"/>
            <a:ext cx="1295280" cy="78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header-title-wholepage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42" name="RSALabs_logo" descr=""/>
          <p:cNvPicPr/>
          <p:nvPr/>
        </p:nvPicPr>
        <p:blipFill>
          <a:blip r:embed="rId3"/>
          <a:stretch/>
        </p:blipFill>
        <p:spPr>
          <a:xfrm>
            <a:off x="152280" y="5724360"/>
            <a:ext cx="1371600" cy="8287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11120" indent="0" algn="ctr">
              <a:spcBef>
                <a:spcPts val="624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824040" indent="85680" algn="ctr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3" marL="1235160" indent="253800" algn="ctr">
              <a:spcBef>
                <a:spcPts val="1650"/>
              </a:spcBef>
              <a:buClr>
                <a:srgbClr val="ffbe7d"/>
              </a:buClr>
              <a:buFont typeface="Arial"/>
              <a:buChar char="–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4" marL="1646280" indent="185760" algn="ctr">
              <a:spcBef>
                <a:spcPts val="1650"/>
              </a:spcBef>
              <a:buClr>
                <a:srgbClr val="ffbe7d"/>
              </a:buClr>
              <a:buFont typeface="Arial"/>
              <a:buChar char="•"/>
              <a:tabLst>
                <a:tab algn="l" pos="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5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  <a:p>
            <a:pPr lvl="6" marL="1646280" indent="185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6eaa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6e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5280" y="2437920"/>
            <a:ext cx="746784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4800" spc="-1" strike="noStrike">
                <a:solidFill>
                  <a:srgbClr val="1c1c1c"/>
                </a:solidFill>
                <a:latin typeface="Arial"/>
              </a:rPr>
              <a:t>RSA Laboratories’ PKCS Series - a Tutorial</a:t>
            </a:r>
            <a:endParaRPr b="1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295280" y="4495680"/>
            <a:ext cx="7467840" cy="113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KCS #7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gnus Nyström,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ctober, 199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envelopedData content typ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onsists of 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ncrypted content (of any type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ncrypted content-encryption key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ny type of content can be enveloped for any number of recipients, in paralle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1536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envelopedData content type, 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11320" indent="-21132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 proces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681840" indent="-26100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generate a random content-encryption key (CEK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81840" indent="-26100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for each recipient, encrypt the CEK with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048320" indent="-21132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he recipients public key; or (CMS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048320" indent="-21132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 key-encryption key (KEK), known by the recipient; or (CMS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048320" indent="-21132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 key derived from a Diffie-Hellman key-agreement with the recipient; or (CMS “to be”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2" marL="1048320" indent="-211320">
              <a:spcBef>
                <a:spcPts val="624"/>
              </a:spcBef>
              <a:buClr>
                <a:srgbClr val="5f5f5f"/>
              </a:buClr>
              <a:buFont typeface="Arial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 key derived from a password which the recipient know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81840" indent="-26100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For each recipient, create a RecipientInfo structur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681840" indent="-26100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ncrypt the content with the CEK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EnvelopedData typ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828800" y="2209680"/>
            <a:ext cx="5715000" cy="1676520"/>
            <a:chOff x="1828800" y="2209680"/>
            <a:chExt cx="5715000" cy="1676520"/>
          </a:xfrm>
        </p:grpSpPr>
        <p:sp>
          <p:nvSpPr>
            <p:cNvPr id="130" name=""/>
            <p:cNvSpPr/>
            <p:nvPr/>
          </p:nvSpPr>
          <p:spPr>
            <a:xfrm>
              <a:off x="1828800" y="2209680"/>
              <a:ext cx="5715000" cy="1676520"/>
            </a:xfrm>
            <a:prstGeom prst="rect">
              <a:avLst/>
            </a:prstGeom>
            <a:solidFill>
              <a:srgbClr val="8cc6a2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828800" y="2743200"/>
              <a:ext cx="5715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28800" y="3276720"/>
              <a:ext cx="5715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98640" y="2249640"/>
              <a:ext cx="1301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898640" y="2759040"/>
              <a:ext cx="495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recipientInf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98640" y="3368520"/>
              <a:ext cx="335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cryptedContentInf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EncryptedContentInfo typ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828800" y="2209680"/>
            <a:ext cx="5715000" cy="1676520"/>
            <a:chOff x="1828800" y="2209680"/>
            <a:chExt cx="5715000" cy="1676520"/>
          </a:xfrm>
        </p:grpSpPr>
        <p:sp>
          <p:nvSpPr>
            <p:cNvPr id="138" name=""/>
            <p:cNvSpPr/>
            <p:nvPr/>
          </p:nvSpPr>
          <p:spPr>
            <a:xfrm>
              <a:off x="1828800" y="2209680"/>
              <a:ext cx="5715000" cy="1676520"/>
            </a:xfrm>
            <a:prstGeom prst="rect">
              <a:avLst/>
            </a:prstGeom>
            <a:solidFill>
              <a:srgbClr val="8cc6a2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28800" y="2743200"/>
              <a:ext cx="5715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28800" y="3276720"/>
              <a:ext cx="5715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898640" y="2249640"/>
              <a:ext cx="2749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tentTyp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98640" y="2759040"/>
              <a:ext cx="495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tentEncryptionAlgorith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98640" y="3368520"/>
              <a:ext cx="335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crypted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RecipientInfo typ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Originally, just the CEK encrypted with the recipients public key (identified with a certificate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In IETF CMS, this is a choice between various methods (KEK, Diffie-Hellman, Password-based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SignedAndEnvelopedData Content typ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hen one wants to both sign and encrypt a messag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Generally deprecated; originally for use with PEM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uggestions for replacements?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15364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digestedData content typ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onsists of content of any type and a message digest of the conten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No secrets involved; just a plain message digest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May be used as input to the enveloped-data proces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DigestedData typ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828800" y="2209680"/>
            <a:ext cx="5715000" cy="2362320"/>
            <a:chOff x="1828800" y="2209680"/>
            <a:chExt cx="5715000" cy="2362320"/>
          </a:xfrm>
        </p:grpSpPr>
        <p:sp>
          <p:nvSpPr>
            <p:cNvPr id="152" name=""/>
            <p:cNvSpPr/>
            <p:nvPr/>
          </p:nvSpPr>
          <p:spPr>
            <a:xfrm>
              <a:off x="1828800" y="2209680"/>
              <a:ext cx="5715000" cy="2362320"/>
            </a:xfrm>
            <a:prstGeom prst="rect">
              <a:avLst/>
            </a:prstGeom>
            <a:solidFill>
              <a:srgbClr val="8cc6a2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28800" y="2743200"/>
              <a:ext cx="5715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28800" y="3276720"/>
              <a:ext cx="5715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98640" y="2249640"/>
              <a:ext cx="274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898640" y="2759040"/>
              <a:ext cx="495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igestAlgorith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98640" y="3368520"/>
              <a:ext cx="335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tentInf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828800" y="3962520"/>
              <a:ext cx="5715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05120" y="4038480"/>
              <a:ext cx="335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ig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encryptedData content typ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00080" y="1523880"/>
            <a:ext cx="7686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egenerate form of enveloped data (no recipientInfo, no encrypted CEKs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Keys are managed outside of the protocol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523880" y="3200400"/>
            <a:ext cx="5715000" cy="1219320"/>
            <a:chOff x="1523880" y="3200400"/>
            <a:chExt cx="5715000" cy="1219320"/>
          </a:xfrm>
        </p:grpSpPr>
        <p:sp>
          <p:nvSpPr>
            <p:cNvPr id="163" name=""/>
            <p:cNvSpPr/>
            <p:nvPr/>
          </p:nvSpPr>
          <p:spPr>
            <a:xfrm>
              <a:off x="1523880" y="3200400"/>
              <a:ext cx="5715000" cy="1219320"/>
            </a:xfrm>
            <a:prstGeom prst="rect">
              <a:avLst/>
            </a:prstGeom>
            <a:solidFill>
              <a:srgbClr val="8cc6a2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523880" y="3733920"/>
              <a:ext cx="5715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93720" y="3240000"/>
              <a:ext cx="1301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593720" y="3749760"/>
              <a:ext cx="495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cryptedContentInf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807732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authenticatedData content typ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dded by IETF SMIM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dds a way to authenticate a message with a MAC rather than a digital signatur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yntax is straightforward (left as an exercise…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503520" y="3505320"/>
            <a:ext cx="2668680" cy="26971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yptographic Message Syntax Standar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pecifies a syntax for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digital envelopes </a:t>
            </a: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and </a:t>
            </a:r>
            <a:r>
              <a:rPr b="1" i="1" lang="en-US" sz="2400" spc="-1" strike="noStrike">
                <a:solidFill>
                  <a:srgbClr val="1c1c1c"/>
                </a:solidFill>
                <a:latin typeface="Arial"/>
              </a:rPr>
              <a:t>digital signature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Widely used in many applications for enveloping and authenticating messages, and for distribution of certificates and certificate revocation list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Version 1.5 latest official version from RSA Lab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Version 1.6 never officially supported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ither, PKCS #7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RSA Laboratories has handed over PKCS #7 v1.5 to CM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is does not preclude a future version 2.0 of PKCS #7 from RSA Laboratories, should the need aris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PKCS #7 is available from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http://www.rsasecurity.com/rsalabs/pkcs 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yptographic Message Syntax Standard, 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Version 2.0 existed in draft form when IETF’s SMIME working group started its CMS work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Version 1.5 will be described here, IETF CMS is a superset but not radically different (will point out main differences)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0">
              <a:spcBef>
                <a:spcPts val="1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ontent typ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Data generated by applying procedures defined in PKCS #7 may be of type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data (untreated)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igned data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nveloped data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signed-and-enveloped data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digested data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ncrypted data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MIME CMS adds “authenticated data” 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Data content typ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Simply an OCTET STRING (ASN.1).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Opaque for a PKCS #7 layer; interpretation is left to application layers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SignedData content typ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Consists of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ontent of any typ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an encrypted message digest of the content for each signer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may have zero or more signers (zero signers is degenerate case and may be used e.g. for distribution of certificates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signedData content type, 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0080" y="1523520"/>
            <a:ext cx="76867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0040" indent="-230040">
              <a:spcBef>
                <a:spcPts val="1500"/>
              </a:spcBef>
              <a:buClr>
                <a:srgbClr val="5f5f5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>
                <a:solidFill>
                  <a:srgbClr val="1c1c1c"/>
                </a:solidFill>
                <a:latin typeface="Arial"/>
              </a:rPr>
              <a:t>The process:</a:t>
            </a:r>
            <a:endParaRPr b="1" lang="en-US" sz="2400" spc="-1" strike="noStrike">
              <a:solidFill>
                <a:srgbClr val="1c1c1c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Compute a message digest on the data to be signed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If more information is being signed than just the data, digest the SEQUENCE consisting of the data and the other information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ach signer encrypts the digest with the signer’s private key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Each signer includes the result in a SignerInfo structure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  <a:p>
            <a:pPr lvl="1" marL="741240" indent="-284040">
              <a:spcBef>
                <a:spcPts val="624"/>
              </a:spcBef>
              <a:buClr>
                <a:srgbClr val="5f5f5f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4d5981"/>
                </a:solidFill>
                <a:latin typeface="Arial"/>
              </a:rPr>
              <a:t>The SignerInfo structures are collected in a SEQUENCE and added to a value of type SignedData</a:t>
            </a:r>
            <a:endParaRPr b="1" lang="en-US" sz="2000" spc="-1" strike="noStrike">
              <a:solidFill>
                <a:srgbClr val="4d5981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SignedData content type, III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828800" y="1676520"/>
            <a:ext cx="5715000" cy="4193640"/>
            <a:chOff x="1828800" y="1676520"/>
            <a:chExt cx="5715000" cy="4193640"/>
          </a:xfrm>
        </p:grpSpPr>
        <p:sp>
          <p:nvSpPr>
            <p:cNvPr id="96" name=""/>
            <p:cNvSpPr/>
            <p:nvPr/>
          </p:nvSpPr>
          <p:spPr>
            <a:xfrm>
              <a:off x="1828800" y="1676520"/>
              <a:ext cx="5715000" cy="4038120"/>
            </a:xfrm>
            <a:prstGeom prst="rect">
              <a:avLst/>
            </a:prstGeom>
            <a:solidFill>
              <a:srgbClr val="8cc6a2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828800" y="2209680"/>
              <a:ext cx="5715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28800" y="2742840"/>
              <a:ext cx="5715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828800" y="3428640"/>
              <a:ext cx="5715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28800" y="4190760"/>
              <a:ext cx="5715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828800" y="4952880"/>
              <a:ext cx="5715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974600" y="1715760"/>
              <a:ext cx="1301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974600" y="2225520"/>
              <a:ext cx="495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igestAlgorith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974600" y="2835000"/>
              <a:ext cx="335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ntentInf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946160" y="3597120"/>
              <a:ext cx="4911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ertifica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81080" y="4282920"/>
              <a:ext cx="441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r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981080" y="5044680"/>
              <a:ext cx="373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ignerInf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1920" y="152280"/>
            <a:ext cx="7543800" cy="68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The signerInfo typ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828800" y="1676520"/>
            <a:ext cx="5715000" cy="4647960"/>
            <a:chOff x="1828800" y="1676520"/>
            <a:chExt cx="5715000" cy="4647960"/>
          </a:xfrm>
        </p:grpSpPr>
        <p:sp>
          <p:nvSpPr>
            <p:cNvPr id="110" name=""/>
            <p:cNvSpPr/>
            <p:nvPr/>
          </p:nvSpPr>
          <p:spPr>
            <a:xfrm>
              <a:off x="1828800" y="1676520"/>
              <a:ext cx="5715000" cy="4647960"/>
            </a:xfrm>
            <a:prstGeom prst="rect">
              <a:avLst/>
            </a:prstGeom>
            <a:solidFill>
              <a:srgbClr val="8cc6a2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828800" y="2209680"/>
              <a:ext cx="5715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28800" y="2743200"/>
              <a:ext cx="5715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828800" y="3429000"/>
              <a:ext cx="5715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28800" y="4191120"/>
              <a:ext cx="5715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28800" y="4952880"/>
              <a:ext cx="5715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974960" y="1716120"/>
              <a:ext cx="1301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s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74960" y="2225520"/>
              <a:ext cx="495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ssuerAndSerialNumb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74960" y="2835360"/>
              <a:ext cx="3359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igestAlgorith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46160" y="3597120"/>
              <a:ext cx="49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uthenticatedAttribu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81080" y="4282920"/>
              <a:ext cx="441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igestEncryptionAlgorith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81080" y="5045040"/>
              <a:ext cx="3733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encryptedDiges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28800" y="5638680"/>
              <a:ext cx="571500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81080" y="5730840"/>
              <a:ext cx="449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nauthenticatedAttribu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7T14:57:02Z</dcterms:created>
  <dc:creator>Magnus Nystrom</dc:creator>
  <dc:description/>
  <dc:language>en-US</dc:language>
  <cp:lastModifiedBy>Magnus Nystrom</cp:lastModifiedBy>
  <cp:lastPrinted>1999-07-27T16:32:36Z</cp:lastPrinted>
  <dcterms:modified xsi:type="dcterms:W3CDTF">1999-10-07T19:49:08Z</dcterms:modified>
  <cp:revision>8</cp:revision>
  <dc:subject/>
  <dc:title>RSA Laboratories’ PKCS Series - a Tutorial</dc:title>
</cp:coreProperties>
</file>