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04169"/>
        <c:axId val="56577695"/>
      </c:barChart>
      <c:catAx>
        <c:axId val="36904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7695"/>
        <c:crosses val="autoZero"/>
        <c:auto val="1"/>
        <c:lblAlgn val="ctr"/>
        <c:lblOffset val="100"/>
        <c:noMultiLvlLbl val="0"/>
      </c:catAx>
      <c:valAx>
        <c:axId val="56577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04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82C-873E-4BE0-B226-C11BB122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7C7-31E3-453F-9D89-9B6BD36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B55-5B69-4C9E-B572-65346FE8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F59-CBE3-4CD1-9E71-DE351556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191-527E-4CE3-87F0-510E35E0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6D4-EEAB-4732-953A-BC533AE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CA2-2A21-4A34-AC62-DD499BC0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3A7-6A5E-41F9-A9F4-30181808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694-5371-404A-8050-E4980F08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C84-0B9B-4BEC-ABCE-5BDCDB8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A44-073C-44D0-A6AB-46A621F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140-7BAA-4C19-99A4-B50B6B1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9298-D0C1-4B1D-AE44-6CF1DD705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