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13B-1670-4BBE-BCC8-F14CF166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989-123B-446D-ABC9-FCBC90C7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5B9-D8F0-449F-8B07-566CD6D6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151-B777-4478-B38E-912662EB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8E8A-F0CD-4146-AF55-011233D2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6FA-DDB6-4097-8D79-4AB3DAA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E61A-7A1B-4BAE-89A8-4E3EE88E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E09A-907A-432A-8E44-6ECEF39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A37-617E-44AF-9332-38F7EB1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8C35-9FCE-4190-8245-EA45603D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FDAE-E089-41C9-9036-EEE7DFC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F86-DFAD-4F2A-AE0B-461AE272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D4F0-6C26-47D9-9D4F-2613A839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C3AB-8190-420D-A15E-17EDDD9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04C4-7364-4F44-A2C3-9EF5AE4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3C76-30E9-4453-B636-4E89D529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D8A4-9A35-462B-974B-13ADB11D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BDE-12E0-4917-9E64-FF431108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54E-E893-4BCA-A815-ADBB45A0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2B3-B857-4003-9C94-304396A6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63C-00D2-424A-8A22-5A16AD2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BBC-D8B4-47B6-A75C-57B4C04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085-C68C-4C6C-889C-67051CF5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2C8-03D5-4B7F-A8A3-154F73B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Symbol"/>
                <a:ea typeface="Symbol"/>
              </a:rPr>
              <a:t>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American International Group (2000)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Network Security Risks and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BF2-E4DB-49A4-AC19-90478C4D9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AIG" descr=""/>
          <p:cNvPicPr/>
          <p:nvPr/>
        </p:nvPicPr>
        <p:blipFill>
          <a:blip r:embed="rId3"/>
          <a:stretch/>
        </p:blipFill>
        <p:spPr>
          <a:xfrm>
            <a:off x="0" y="0"/>
            <a:ext cx="7714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98F-1E76-4ACD-B046-8A2967810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tigating the Risks of E-Business: Insurance Initiativ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F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SA CONFERENCE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an Jose, C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uesday, January 18,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AIG" descr=""/>
          <p:cNvPicPr/>
          <p:nvPr/>
        </p:nvPicPr>
        <p:blipFill>
          <a:blip r:embed="rId2"/>
          <a:stretch/>
        </p:blipFill>
        <p:spPr>
          <a:xfrm>
            <a:off x="0" y="152280"/>
            <a:ext cx="838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: cover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bodily injury/tangible property damage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ffered by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&amp;O: Maybe coverage if you provide professional services to others for a f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 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- Sometimes.  (Links, ads not covered. Recent carriers are expressly excluding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NO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Rol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sset prot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angible asse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chnological products and servi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al smoothing/as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Tahoma"/>
              </a:rPr>
              <a:t>Technology + Insurance = Heightened Trust Enviro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fically designed for risks associated with failures of your network or computer security system to preve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uter Attacks (unauthorized access/us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mission of a computer virus to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sclosure of client privacy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7 Basic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intangible/information) property lo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ss of eReven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blic relations (crisis mgmt)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abili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nial of Service Clai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rus transmi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closure of personal or confidential data of your custom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fessional errors and omis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dia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b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an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righ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en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 of privacy viol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ber-extor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ring private investigator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investigation expen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ransom demand (must be reasonab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per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are these assets worth to you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accounting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trade secrets (may require additional informati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ustom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ompetitive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suppli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iness interruption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business interruption: Revenue generated from on-line transactions ceases due to attack on your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pendent business interruption Revenue generated from on-line transactions ceases due to attack on a system of a business you depend up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ded business interrup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twork Security: How big is the problem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risks do you fac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traditional insurance hel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day’s New Insurance solution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7 basic risks to co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 to ask f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jor terms to require and avoid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iminal Reward, Public Rel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: $25-50K reward for information leading to the arrest and conviction of a cyber-crim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sis communications: $25-$50k for public relations/media/crisis communication fees to restore investor or customer confidenc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ss Prevention Servi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Assessment: Cost effective security assessment conducted by a member of the insurer’s panel.  Partial or total reimbursement sometimes available if you decide to purchase polic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gal analysis: Access to specialized technology law firm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failures” include attack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ider or outsi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ntional or non-intention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 motivated or “for fun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rgeted or untargeted vict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rom failures of software, hardware or firm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Claim (beyond just lawsui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Loss (including punitive damag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information ass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lity to underwrite trade secr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ld-wide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not covered?</a:t>
            </a:r>
            <a:br>
              <a:rPr sz="4400"/>
            </a:b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(not exclusive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s of God, fire, wind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rrorism, explosions, war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or project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ies liabilities, ERISA li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acks on internet infrastructure itsel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ud (not applicable to computer attacks by employe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ransactional Smoothing: The Futur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 Narrow"/>
              </a:rPr>
              <a:t>E-Business Transaction Ris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 of the par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/quality of the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bility to pay / Ability to ship-manufa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ctual payment / Actual delive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Damage to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urity &amp; Reliability of network / infra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ing Out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focused on management liability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s and officers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PO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&amp;O insurance (brick-and-mortar operatio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ployment Practices (including discrimination/sexual harassment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insurance brok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local AIG offi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75 Water Street, NY NY 10038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2-458-242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y.sagalow@aig.co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wproduc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@aig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83% increase in number of computer attack incidents in 1999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CERT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53% of respondents rate overall state of infosecurity at their co. as average or below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 1999 Security Survey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47.8% increase in unauthorized access by outsiders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91 breaches resulting in $23M lo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think many people have a false sense of security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chael Vatis,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 of the FBI National Infrastructure Protection Center, on threat of cyberterror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Unive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Important is Thi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$1 trillion in revenue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isco Systems In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0M in internet users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rain Rauscher Wesse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On-line Shopping Revenue will top US $7B by 200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rester Re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0% of all e-commerce is transacted by just 10% of the world’s e-commerce companies.</a:t>
            </a: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Risks do you fa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erty- loss/theft of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in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sse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-Business interruption lo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ability to other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dia- content related li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resulting 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nancial damage, damage to reputation, stock drop, loss of important assets/opportun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perty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s: Fire, windstorm etc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e Policies?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ed Criminals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usually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loyees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“computer fraud” rider adds non-employe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Interruption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ee Property Polic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not in any standard corporate polic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ometimes found in certain K&amp;R or contaminated goods in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6:12:37Z</dcterms:created>
  <dc:creator>TSagalow</dc:creator>
  <dc:description/>
  <dc:language>en-US</dc:language>
  <cp:lastModifiedBy>User</cp:lastModifiedBy>
  <cp:lastPrinted>1999-10-22T16:29:03Z</cp:lastPrinted>
  <dcterms:modified xsi:type="dcterms:W3CDTF">2000-01-18T23:48:32Z</dcterms:modified>
  <cp:revision>26</cp:revision>
  <dc:subject/>
  <dc:title>No Slide Title</dc:title>
</cp:coreProperties>
</file>