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6.wmf" ContentType="image/x-wmf"/>
  <Override PartName="/ppt/media/image9.png" ContentType="image/png"/>
  <Override PartName="/ppt/media/image13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4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5.jpeg" ContentType="image/jpeg"/>
  <Override PartName="/ppt/media/image15.wmf" ContentType="image/x-wmf"/>
  <Override PartName="/ppt/media/image1.jpeg" ContentType="image/jpeg"/>
  <Override PartName="/ppt/media/image7.png" ContentType="image/png"/>
  <Override PartName="/ppt/media/image8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7019925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020000" cy="927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68560" y="685440"/>
            <a:ext cx="4673520" cy="3505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1" lang="en-US" sz="4800" spc="-1" strike="noStrike">
                <a:solidFill>
                  <a:srgbClr val="1c1c1c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ftr" idx="1"/>
          </p:nvPr>
        </p:nvSpPr>
        <p:spPr>
          <a:xfrm>
            <a:off x="-360" y="883908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sldNum" idx="2"/>
          </p:nvPr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40EE0-CFD9-446F-8D64-EC2A8EDF88E4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B504C-01D4-47A5-9C2E-E653CBA03979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-360" y="883908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201680" y="701640"/>
            <a:ext cx="4616640" cy="346248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938160" y="4403880"/>
            <a:ext cx="5143680" cy="41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57506-8306-40F6-8FD4-109DCD67885B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-360" y="883908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body"/>
          </p:nvPr>
        </p:nvSpPr>
        <p:spPr>
          <a:xfrm>
            <a:off x="936720" y="4401720"/>
            <a:ext cx="514656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sldImg"/>
          </p:nvPr>
        </p:nvSpPr>
        <p:spPr>
          <a:xfrm>
            <a:off x="1195560" y="698400"/>
            <a:ext cx="4630680" cy="3473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 txBox="1"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91601-0707-4BB8-A4CE-FD4DE51792AE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-360" y="883908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body"/>
          </p:nvPr>
        </p:nvSpPr>
        <p:spPr>
          <a:xfrm>
            <a:off x="936720" y="4401720"/>
            <a:ext cx="514656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sldImg"/>
          </p:nvPr>
        </p:nvSpPr>
        <p:spPr>
          <a:xfrm>
            <a:off x="1195560" y="695160"/>
            <a:ext cx="4630680" cy="3473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 txBox="1"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FE464-FB18-4F44-8C65-5DB9DEA8BF5C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-360" y="883908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201680" y="70020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936720" y="4401720"/>
            <a:ext cx="514656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2FD37-B10D-4EC3-B687-E5C55B277586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-360" y="883908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201680" y="70020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936720" y="4401720"/>
            <a:ext cx="514656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 txBox="1"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1E61E-5075-40FF-A7AD-B78CB93FE0E7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883908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201680" y="70020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936720" y="4401720"/>
            <a:ext cx="514656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 txBox="1"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419B4-D5DA-4C49-8F3E-622F5CE3B6C5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-360" y="883908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201680" y="70020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936720" y="4401720"/>
            <a:ext cx="514656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 txBox="1"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EBFF9-AE4D-4339-9878-7833CE42FB62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-360" y="883908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201680" y="70020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936720" y="4401720"/>
            <a:ext cx="514656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 txBox="1"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51064-22E6-4C67-BF0C-DE03637113A5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-360" y="883908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201680" y="70020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936720" y="4401720"/>
            <a:ext cx="514656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 txBox="1"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3AE51-CFA1-4C43-B94A-D13675EC2CA8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-360" y="883908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201680" y="70020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936720" y="4401720"/>
            <a:ext cx="514656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 txBox="1"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7683A-AD5A-419C-B5C2-9A763F1AA2D2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-360" y="883908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201680" y="70020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936720" y="4401720"/>
            <a:ext cx="514656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 txBox="1"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198C9-E5AE-45D2-9F60-389B54B23120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-360" y="883908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201680" y="70020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936720" y="4401720"/>
            <a:ext cx="514656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 txBox="1"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759A8-F964-434D-945A-77141E83C857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-360" y="883908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201680" y="70020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936720" y="4401720"/>
            <a:ext cx="514656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 txBox="1"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D8BD3-5BC8-4FA8-88F6-C29C44C69D69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-360" y="883908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201680" y="70020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936720" y="4401720"/>
            <a:ext cx="514656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 txBox="1"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54AF5-E74E-4821-859D-0E893FC83A06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-360" y="883908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201680" y="70020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936720" y="4401720"/>
            <a:ext cx="514656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 txBox="1"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DFC29-67E5-4A47-BB55-140D0CB540A3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-360" y="883908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201680" y="70020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936720" y="4401720"/>
            <a:ext cx="514656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 txBox="1"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13A37-B0B6-4777-93B5-CDEA85B67CE2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-360" y="883908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201680" y="70020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936720" y="4401720"/>
            <a:ext cx="514656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6526C-923B-4C07-887D-565858940957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-360" y="883908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body"/>
          </p:nvPr>
        </p:nvSpPr>
        <p:spPr>
          <a:xfrm>
            <a:off x="936720" y="4401720"/>
            <a:ext cx="514656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ldImg"/>
          </p:nvPr>
        </p:nvSpPr>
        <p:spPr>
          <a:xfrm>
            <a:off x="1195560" y="698400"/>
            <a:ext cx="4630680" cy="347364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768672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00080" y="3593520"/>
            <a:ext cx="768672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38840" y="152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00080" y="359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38840" y="359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247500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99280" y="1523520"/>
            <a:ext cx="247500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98480" y="1523520"/>
            <a:ext cx="247500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00080" y="3593520"/>
            <a:ext cx="247500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99280" y="3593520"/>
            <a:ext cx="247500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98480" y="3593520"/>
            <a:ext cx="247500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000080" y="1523520"/>
            <a:ext cx="768672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76867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375084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38840" y="1523520"/>
            <a:ext cx="375084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51920" y="152280"/>
            <a:ext cx="7543800" cy="315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38840" y="1523520"/>
            <a:ext cx="375084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000080" y="359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00080" y="1523520"/>
            <a:ext cx="768672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375084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38840" y="152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38840" y="359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38840" y="152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00080" y="3593520"/>
            <a:ext cx="768672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768672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000080" y="3593520"/>
            <a:ext cx="768672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38840" y="152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00080" y="359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38840" y="359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247500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99280" y="1523520"/>
            <a:ext cx="247500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98480" y="1523520"/>
            <a:ext cx="247500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000080" y="3593520"/>
            <a:ext cx="247500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99280" y="3593520"/>
            <a:ext cx="247500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98480" y="3593520"/>
            <a:ext cx="247500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76867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375084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38840" y="1523520"/>
            <a:ext cx="375084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51920" y="152280"/>
            <a:ext cx="7543800" cy="315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38840" y="1523520"/>
            <a:ext cx="375084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00080" y="359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375084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38840" y="152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38840" y="359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8840" y="152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00080" y="3593520"/>
            <a:ext cx="768672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4760"/>
            <a:chOff x="0" y="0"/>
            <a:chExt cx="9144000" cy="6854760"/>
          </a:xfrm>
        </p:grpSpPr>
        <p:pic>
          <p:nvPicPr>
            <p:cNvPr id="1" name="header-slide-wholepage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6854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RSASecurity_logo-slides" descr=""/>
            <p:cNvPicPr/>
            <p:nvPr/>
          </p:nvPicPr>
          <p:blipFill>
            <a:blip r:embed="rId3"/>
            <a:stretch/>
          </p:blipFill>
          <p:spPr>
            <a:xfrm>
              <a:off x="228600" y="6006960"/>
              <a:ext cx="858960" cy="622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7543800" cy="68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000080" y="1523520"/>
            <a:ext cx="76867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lvl="1" marL="741240" indent="-284040">
              <a:spcBef>
                <a:spcPts val="1500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lvl="2" marL="113976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lvl="3" marL="1717560" indent="-228600">
              <a:spcBef>
                <a:spcPts val="1500"/>
              </a:spcBef>
              <a:buClr>
                <a:srgbClr val="ffbe7d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lvl="4" marL="2060640" indent="-228600">
              <a:spcBef>
                <a:spcPts val="1500"/>
              </a:spcBef>
              <a:buClr>
                <a:srgbClr val="ffbe7d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lvl="5" marL="2060640" indent="-2286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lvl="6" marL="2060640" indent="-2286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1440"/>
            <a:ext cx="9144000" cy="6855120"/>
            <a:chOff x="0" y="1440"/>
            <a:chExt cx="9144000" cy="6855120"/>
          </a:xfrm>
        </p:grpSpPr>
        <p:pic>
          <p:nvPicPr>
            <p:cNvPr id="42" name="header-title-wholepage" descr=""/>
            <p:cNvPicPr/>
            <p:nvPr/>
          </p:nvPicPr>
          <p:blipFill>
            <a:blip r:embed="rId2"/>
            <a:stretch/>
          </p:blipFill>
          <p:spPr>
            <a:xfrm>
              <a:off x="0" y="1440"/>
              <a:ext cx="9144000" cy="6855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" descr=""/>
            <p:cNvPicPr/>
            <p:nvPr/>
          </p:nvPicPr>
          <p:blipFill>
            <a:blip r:embed="rId3"/>
            <a:stretch/>
          </p:blipFill>
          <p:spPr>
            <a:xfrm>
              <a:off x="403200" y="5872320"/>
              <a:ext cx="1047600" cy="757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95280" y="2437920"/>
            <a:ext cx="746784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8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11120" indent="0" algn="ctr">
              <a:spcBef>
                <a:spcPts val="6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lvl="2" marL="824040" indent="85680" algn="ctr">
              <a:spcBef>
                <a:spcPts val="624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lvl="3" marL="1235160" indent="253800" algn="ctr">
              <a:spcBef>
                <a:spcPts val="1650"/>
              </a:spcBef>
              <a:buClr>
                <a:srgbClr val="ffbe7d"/>
              </a:buClr>
              <a:buFont typeface="Arial"/>
              <a:buChar char="–"/>
              <a:tabLst>
                <a:tab algn="l" pos="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200" spc="-1" strike="noStrike">
                <a:solidFill>
                  <a:srgbClr val="006eaa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006eaa"/>
              </a:solidFill>
              <a:latin typeface="Arial"/>
            </a:endParaRPr>
          </a:p>
          <a:p>
            <a:pPr lvl="4" marL="1646280" indent="185760" algn="ctr">
              <a:spcBef>
                <a:spcPts val="1650"/>
              </a:spcBef>
              <a:buClr>
                <a:srgbClr val="ffbe7d"/>
              </a:buClr>
              <a:buFont typeface="Arial"/>
              <a:buChar char="•"/>
              <a:tabLst>
                <a:tab algn="l" pos="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200" spc="-1" strike="noStrike">
                <a:solidFill>
                  <a:srgbClr val="006eaa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006eaa"/>
              </a:solidFill>
              <a:latin typeface="Arial"/>
            </a:endParaRPr>
          </a:p>
          <a:p>
            <a:pPr lvl="5" marL="1646280" indent="185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6eaa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006eaa"/>
              </a:solidFill>
              <a:latin typeface="Arial"/>
            </a:endParaRPr>
          </a:p>
          <a:p>
            <a:pPr lvl="6" marL="1646280" indent="185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6eaa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006ea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5.wmf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95280" y="2285640"/>
            <a:ext cx="746784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1c1c1c"/>
                </a:solidFill>
                <a:latin typeface="Arial"/>
              </a:rPr>
              <a:t>Crypto 301: Practical Implementations of Cryptography</a:t>
            </a:r>
            <a:endParaRPr b="1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295280" y="647640"/>
            <a:ext cx="7467840" cy="113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im Matthews,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rector, Product Market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Keon%20keys" descr=""/>
          <p:cNvPicPr/>
          <p:nvPr/>
        </p:nvPicPr>
        <p:blipFill>
          <a:blip r:embed="rId1"/>
          <a:stretch/>
        </p:blipFill>
        <p:spPr>
          <a:xfrm>
            <a:off x="5230800" y="4229280"/>
            <a:ext cx="3532320" cy="231588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0" y="1371600"/>
            <a:ext cx="1447920" cy="5486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66294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DSA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246640" y="5018040"/>
            <a:ext cx="1154160" cy="939960"/>
          </a:xfrm>
          <a:prstGeom prst="upArrow">
            <a:avLst>
              <a:gd name="adj1" fmla="val 75009"/>
              <a:gd name="adj2" fmla="val 49995"/>
            </a:avLst>
          </a:prstGeom>
          <a:solidFill>
            <a:srgbClr val="99ffcc"/>
          </a:solidFill>
          <a:ln w="12600">
            <a:solidFill>
              <a:srgbClr val="00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170320" y="4923000"/>
            <a:ext cx="1154160" cy="939600"/>
          </a:xfrm>
          <a:prstGeom prst="upArrow">
            <a:avLst>
              <a:gd name="adj1" fmla="val 75009"/>
              <a:gd name="adj2" fmla="val 49995"/>
            </a:avLst>
          </a:prstGeom>
          <a:solidFill>
            <a:srgbClr val="99ffcc"/>
          </a:solidFill>
          <a:ln w="12600">
            <a:solidFill>
              <a:srgbClr val="00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056200" y="4827600"/>
            <a:ext cx="1154160" cy="939960"/>
          </a:xfrm>
          <a:prstGeom prst="upArrow">
            <a:avLst>
              <a:gd name="adj1" fmla="val 75009"/>
              <a:gd name="adj2" fmla="val 49995"/>
            </a:avLst>
          </a:prstGeom>
          <a:solidFill>
            <a:srgbClr val="00cc66"/>
          </a:solidFill>
          <a:ln w="12600">
            <a:solidFill>
              <a:srgbClr val="00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5920" rIns="115920" tIns="57240" bIns="57240" anchor="ctr">
            <a:noAutofit/>
          </a:bodyPr>
          <a:p>
            <a:pPr algn="ctr">
              <a:tabLst>
                <a:tab algn="l" pos="0"/>
                <a:tab algn="l" pos="1428840"/>
                <a:tab algn="l" pos="2857680"/>
                <a:tab algn="l" pos="4286160"/>
                <a:tab algn="l" pos="5715000"/>
                <a:tab algn="l" pos="7143840"/>
                <a:tab algn="l" pos="8572680"/>
                <a:tab algn="l" pos="1000116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Certificate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Libr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6037560" y="6127920"/>
            <a:ext cx="823320" cy="577440"/>
            <a:chOff x="6037560" y="6127920"/>
            <a:chExt cx="823320" cy="577440"/>
          </a:xfrm>
        </p:grpSpPr>
        <p:sp>
          <p:nvSpPr>
            <p:cNvPr id="177" name=""/>
            <p:cNvSpPr/>
            <p:nvPr/>
          </p:nvSpPr>
          <p:spPr>
            <a:xfrm>
              <a:off x="6037560" y="6451920"/>
              <a:ext cx="823320" cy="25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2840" bIns="42840" anchor="t">
              <a:spAutoFit/>
            </a:bodyPr>
            <a:p>
              <a:pPr>
                <a:tabLst>
                  <a:tab algn="l" pos="0"/>
                  <a:tab algn="l" pos="803160"/>
                  <a:tab algn="l" pos="1606680"/>
                  <a:tab algn="l" pos="2409840"/>
                  <a:tab algn="l" pos="3213000"/>
                  <a:tab algn="l" pos="4016520"/>
                  <a:tab algn="l" pos="4819680"/>
                  <a:tab algn="l" pos="5622840"/>
                  <a:tab algn="l" pos="6426360"/>
                  <a:tab algn="l" pos="7229520"/>
                  <a:tab algn="l" pos="8032680"/>
                  <a:tab algn="l" pos="8836200"/>
                  <a:tab algn="l" pos="9639360"/>
                  <a:tab algn="l" pos="1044252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Data stor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235560" y="6243840"/>
              <a:ext cx="451080" cy="2192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235560" y="6127920"/>
              <a:ext cx="451080" cy="2192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213120" y="3632040"/>
            <a:ext cx="1995840" cy="1008360"/>
            <a:chOff x="213120" y="3632040"/>
            <a:chExt cx="1995840" cy="1008360"/>
          </a:xfrm>
        </p:grpSpPr>
        <p:sp>
          <p:nvSpPr>
            <p:cNvPr id="181" name=""/>
            <p:cNvSpPr/>
            <p:nvPr/>
          </p:nvSpPr>
          <p:spPr>
            <a:xfrm>
              <a:off x="213120" y="3632040"/>
              <a:ext cx="1157760" cy="38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5920" rIns="115920" tIns="57240" bIns="57240" anchor="t">
              <a:spAutoFit/>
            </a:bodyPr>
            <a:p>
              <a:pPr>
                <a:tabLst>
                  <a:tab algn="l" pos="0"/>
                  <a:tab algn="l" pos="1428840"/>
                  <a:tab algn="l" pos="2857680"/>
                  <a:tab algn="l" pos="4286160"/>
                  <a:tab algn="l" pos="5715000"/>
                  <a:tab algn="l" pos="7143840"/>
                  <a:tab algn="l" pos="8572680"/>
                  <a:tab algn="l" pos="10001160"/>
                </a:tabLst>
              </a:pPr>
              <a:r>
                <a:rPr b="0" i="1" lang="en-US" sz="1800" spc="-1" strike="noStrike">
                  <a:solidFill>
                    <a:srgbClr val="988035"/>
                  </a:solidFill>
                  <a:latin typeface="Arial"/>
                </a:rPr>
                <a:t>Comm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13120" y="3941640"/>
              <a:ext cx="1995840" cy="38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5920" rIns="115920" tIns="57240" bIns="57240" anchor="t">
              <a:spAutoFit/>
            </a:bodyPr>
            <a:p>
              <a:pPr>
                <a:tabLst>
                  <a:tab algn="l" pos="0"/>
                  <a:tab algn="l" pos="1428840"/>
                  <a:tab algn="l" pos="2857680"/>
                  <a:tab algn="l" pos="4286160"/>
                  <a:tab algn="l" pos="5715000"/>
                  <a:tab algn="l" pos="7143840"/>
                  <a:tab algn="l" pos="8572680"/>
                  <a:tab algn="l" pos="10001160"/>
                </a:tabLst>
              </a:pPr>
              <a:r>
                <a:rPr b="0" i="1" lang="en-US" sz="1800" spc="-1" strike="noStrike">
                  <a:solidFill>
                    <a:srgbClr val="988035"/>
                  </a:solidFill>
                  <a:latin typeface="Arial"/>
                </a:rPr>
                <a:t>Security Servic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13480" y="4251240"/>
              <a:ext cx="1131840" cy="38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5920" rIns="115920" tIns="57240" bIns="57240" anchor="t">
              <a:spAutoFit/>
            </a:bodyPr>
            <a:p>
              <a:pPr>
                <a:tabLst>
                  <a:tab algn="l" pos="0"/>
                  <a:tab algn="l" pos="1428840"/>
                  <a:tab algn="l" pos="2857680"/>
                  <a:tab algn="l" pos="4286160"/>
                  <a:tab algn="l" pos="5715000"/>
                  <a:tab algn="l" pos="7143840"/>
                  <a:tab algn="l" pos="8572680"/>
                  <a:tab algn="l" pos="10001160"/>
                </a:tabLst>
              </a:pPr>
              <a:r>
                <a:rPr b="0" i="1" lang="en-US" sz="1800" spc="-1" strike="noStrike">
                  <a:solidFill>
                    <a:srgbClr val="988035"/>
                  </a:solidFill>
                  <a:latin typeface="Arial"/>
                </a:rPr>
                <a:t>Manag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" name=""/>
          <p:cNvGrpSpPr/>
          <p:nvPr/>
        </p:nvGrpSpPr>
        <p:grpSpPr>
          <a:xfrm>
            <a:off x="276840" y="5140440"/>
            <a:ext cx="1779480" cy="698760"/>
            <a:chOff x="276840" y="5140440"/>
            <a:chExt cx="1779480" cy="698760"/>
          </a:xfrm>
        </p:grpSpPr>
        <p:sp>
          <p:nvSpPr>
            <p:cNvPr id="185" name=""/>
            <p:cNvSpPr/>
            <p:nvPr/>
          </p:nvSpPr>
          <p:spPr>
            <a:xfrm>
              <a:off x="276840" y="5140440"/>
              <a:ext cx="1779480" cy="38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5920" rIns="115920" tIns="57240" bIns="57240" anchor="t">
              <a:spAutoFit/>
            </a:bodyPr>
            <a:p>
              <a:pPr>
                <a:tabLst>
                  <a:tab algn="l" pos="0"/>
                  <a:tab algn="l" pos="1428840"/>
                  <a:tab algn="l" pos="2857680"/>
                  <a:tab algn="l" pos="4286160"/>
                  <a:tab algn="l" pos="5715000"/>
                  <a:tab algn="l" pos="7143840"/>
                  <a:tab algn="l" pos="8572680"/>
                  <a:tab algn="l" pos="10001160"/>
                </a:tabLst>
              </a:pPr>
              <a:r>
                <a:rPr b="0" i="1" lang="en-US" sz="1800" spc="-1" strike="noStrike">
                  <a:solidFill>
                    <a:srgbClr val="988035"/>
                  </a:solidFill>
                  <a:latin typeface="Arial"/>
                </a:rPr>
                <a:t>Security Add-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76840" y="5450040"/>
              <a:ext cx="1093680" cy="38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5920" rIns="115920" tIns="57240" bIns="57240" anchor="t">
              <a:spAutoFit/>
            </a:bodyPr>
            <a:p>
              <a:pPr>
                <a:tabLst>
                  <a:tab algn="l" pos="0"/>
                  <a:tab algn="l" pos="1428840"/>
                  <a:tab algn="l" pos="2857680"/>
                  <a:tab algn="l" pos="4286160"/>
                  <a:tab algn="l" pos="5715000"/>
                  <a:tab algn="l" pos="7143840"/>
                  <a:tab algn="l" pos="8572680"/>
                  <a:tab algn="l" pos="10001160"/>
                </a:tabLst>
              </a:pPr>
              <a:r>
                <a:rPr b="0" i="1" lang="en-US" sz="1800" spc="-1" strike="noStrike">
                  <a:solidFill>
                    <a:srgbClr val="988035"/>
                  </a:solidFill>
                  <a:latin typeface="Arial"/>
                </a:rPr>
                <a:t>Modul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2629080" y="5018040"/>
            <a:ext cx="1180800" cy="939960"/>
          </a:xfrm>
          <a:prstGeom prst="upArrow">
            <a:avLst>
              <a:gd name="adj1" fmla="val 75009"/>
              <a:gd name="adj2" fmla="val 49995"/>
            </a:avLst>
          </a:prstGeom>
          <a:solidFill>
            <a:srgbClr val="99ffcc"/>
          </a:solidFill>
          <a:ln w="12600">
            <a:solidFill>
              <a:srgbClr val="00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529000" y="4923000"/>
            <a:ext cx="1204920" cy="939600"/>
          </a:xfrm>
          <a:prstGeom prst="upArrow">
            <a:avLst>
              <a:gd name="adj1" fmla="val 75009"/>
              <a:gd name="adj2" fmla="val 49995"/>
            </a:avLst>
          </a:prstGeom>
          <a:solidFill>
            <a:srgbClr val="99ffcc"/>
          </a:solidFill>
          <a:ln w="12600">
            <a:solidFill>
              <a:srgbClr val="00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324160" y="4827600"/>
            <a:ext cx="1333440" cy="939960"/>
          </a:xfrm>
          <a:prstGeom prst="upArrow">
            <a:avLst>
              <a:gd name="adj1" fmla="val 75009"/>
              <a:gd name="adj2" fmla="val 49995"/>
            </a:avLst>
          </a:prstGeom>
          <a:solidFill>
            <a:srgbClr val="00cc66"/>
          </a:solidFill>
          <a:ln w="12600">
            <a:solidFill>
              <a:srgbClr val="00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5920" rIns="115920" tIns="57240" bIns="57240" anchor="ctr">
            <a:noAutofit/>
          </a:bodyPr>
          <a:p>
            <a:pPr algn="ctr">
              <a:tabLst>
                <a:tab algn="l" pos="0"/>
                <a:tab algn="l" pos="1428840"/>
                <a:tab algn="l" pos="2857680"/>
                <a:tab algn="l" pos="4286160"/>
                <a:tab algn="l" pos="5715000"/>
                <a:tab algn="l" pos="7143840"/>
                <a:tab algn="l" pos="8572680"/>
                <a:tab algn="l" pos="1000116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Crypto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Service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Provid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924360" y="5018040"/>
            <a:ext cx="1181160" cy="939960"/>
          </a:xfrm>
          <a:prstGeom prst="upArrow">
            <a:avLst>
              <a:gd name="adj1" fmla="val 75009"/>
              <a:gd name="adj2" fmla="val 49995"/>
            </a:avLst>
          </a:prstGeom>
          <a:solidFill>
            <a:srgbClr val="99ffcc"/>
          </a:solidFill>
          <a:ln w="12600">
            <a:solidFill>
              <a:srgbClr val="00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755880" y="4923000"/>
            <a:ext cx="1273320" cy="939600"/>
          </a:xfrm>
          <a:prstGeom prst="upArrow">
            <a:avLst>
              <a:gd name="adj1" fmla="val 75009"/>
              <a:gd name="adj2" fmla="val 49995"/>
            </a:avLst>
          </a:prstGeom>
          <a:solidFill>
            <a:srgbClr val="99ffcc"/>
          </a:solidFill>
          <a:ln w="12600">
            <a:solidFill>
              <a:srgbClr val="00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733920" y="4827600"/>
            <a:ext cx="1218960" cy="939960"/>
          </a:xfrm>
          <a:prstGeom prst="upArrow">
            <a:avLst>
              <a:gd name="adj1" fmla="val 75009"/>
              <a:gd name="adj2" fmla="val 49995"/>
            </a:avLst>
          </a:prstGeom>
          <a:solidFill>
            <a:srgbClr val="00cc66"/>
          </a:solidFill>
          <a:ln w="12600">
            <a:solidFill>
              <a:srgbClr val="00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5920" rIns="115920" tIns="57240" bIns="57240" anchor="ctr">
            <a:noAutofit/>
          </a:bodyPr>
          <a:p>
            <a:pPr algn="ctr">
              <a:tabLst>
                <a:tab algn="l" pos="0"/>
                <a:tab algn="l" pos="1428840"/>
                <a:tab algn="l" pos="2857680"/>
                <a:tab algn="l" pos="4286160"/>
                <a:tab algn="l" pos="5715000"/>
                <a:tab algn="l" pos="7143840"/>
                <a:tab algn="l" pos="8572680"/>
                <a:tab algn="l" pos="1000116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Trust Model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Libr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38280" y="3160800"/>
            <a:ext cx="6270840" cy="261720"/>
          </a:xfrm>
          <a:prstGeom prst="rect">
            <a:avLst/>
          </a:prstGeom>
          <a:solidFill>
            <a:srgbClr val="ffdc5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5920" rIns="115920" tIns="57240" bIns="57240" anchor="ctr">
            <a:noAutofit/>
          </a:bodyPr>
          <a:p>
            <a:pPr algn="ctr">
              <a:tabLst>
                <a:tab algn="l" pos="0"/>
                <a:tab algn="l" pos="1428840"/>
                <a:tab algn="l" pos="2857680"/>
                <a:tab algn="l" pos="4286160"/>
                <a:tab algn="l" pos="5715000"/>
                <a:tab algn="l" pos="7143840"/>
                <a:tab algn="l" pos="8572680"/>
                <a:tab algn="l" pos="100011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CSSM Security AP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438280" y="3435480"/>
            <a:ext cx="6270840" cy="1014120"/>
          </a:xfrm>
          <a:prstGeom prst="rect">
            <a:avLst/>
          </a:prstGeom>
          <a:solidFill>
            <a:srgbClr val="ffdc5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51240" y="4471920"/>
            <a:ext cx="1130040" cy="195480"/>
          </a:xfrm>
          <a:prstGeom prst="rect">
            <a:avLst/>
          </a:prstGeom>
          <a:solidFill>
            <a:srgbClr val="ffdc5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5920" rIns="115920" tIns="57240" bIns="57240" anchor="ctr">
            <a:noAutofit/>
          </a:bodyPr>
          <a:p>
            <a:pPr algn="ctr">
              <a:tabLst>
                <a:tab algn="l" pos="0"/>
                <a:tab algn="l" pos="1428840"/>
                <a:tab algn="l" pos="2857680"/>
                <a:tab algn="l" pos="4286160"/>
                <a:tab algn="l" pos="5715000"/>
                <a:tab algn="l" pos="7143840"/>
                <a:tab algn="l" pos="8572680"/>
                <a:tab algn="l" pos="100011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356520" y="4471920"/>
            <a:ext cx="1035000" cy="195480"/>
          </a:xfrm>
          <a:prstGeom prst="rect">
            <a:avLst/>
          </a:prstGeom>
          <a:solidFill>
            <a:srgbClr val="ffdc5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5920" rIns="115920" tIns="57240" bIns="57240" anchor="ctr">
            <a:noAutofit/>
          </a:bodyPr>
          <a:p>
            <a:pPr algn="ctr">
              <a:tabLst>
                <a:tab algn="l" pos="0"/>
                <a:tab algn="l" pos="1428840"/>
                <a:tab algn="l" pos="2857680"/>
                <a:tab algn="l" pos="4286160"/>
                <a:tab algn="l" pos="5715000"/>
                <a:tab algn="l" pos="7143840"/>
                <a:tab algn="l" pos="8572680"/>
                <a:tab algn="l" pos="100011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L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137200" y="4471920"/>
            <a:ext cx="1035000" cy="195480"/>
          </a:xfrm>
          <a:prstGeom prst="rect">
            <a:avLst/>
          </a:prstGeom>
          <a:solidFill>
            <a:srgbClr val="ffdc5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5920" rIns="115920" tIns="57240" bIns="57240" anchor="ctr">
            <a:noAutofit/>
          </a:bodyPr>
          <a:p>
            <a:pPr algn="ctr">
              <a:tabLst>
                <a:tab algn="l" pos="0"/>
                <a:tab algn="l" pos="1428840"/>
                <a:tab algn="l" pos="2857680"/>
                <a:tab algn="l" pos="4286160"/>
                <a:tab algn="l" pos="5715000"/>
                <a:tab algn="l" pos="7143840"/>
                <a:tab algn="l" pos="8572680"/>
                <a:tab algn="l" pos="100011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841920" y="4471920"/>
            <a:ext cx="1035000" cy="195480"/>
          </a:xfrm>
          <a:prstGeom prst="rect">
            <a:avLst/>
          </a:prstGeom>
          <a:solidFill>
            <a:srgbClr val="ffdc5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5920" rIns="115920" tIns="57240" bIns="57240" anchor="ctr">
            <a:noAutofit/>
          </a:bodyPr>
          <a:p>
            <a:pPr algn="ctr">
              <a:tabLst>
                <a:tab algn="l" pos="0"/>
                <a:tab algn="l" pos="1428840"/>
                <a:tab algn="l" pos="2857680"/>
                <a:tab algn="l" pos="4286160"/>
                <a:tab algn="l" pos="5715000"/>
                <a:tab algn="l" pos="7143840"/>
                <a:tab algn="l" pos="8572680"/>
                <a:tab algn="l" pos="100011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P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427800" y="5018040"/>
            <a:ext cx="1192320" cy="939960"/>
          </a:xfrm>
          <a:prstGeom prst="upArrow">
            <a:avLst>
              <a:gd name="adj1" fmla="val 75009"/>
              <a:gd name="adj2" fmla="val 49995"/>
            </a:avLst>
          </a:prstGeom>
          <a:solidFill>
            <a:srgbClr val="99ffcc"/>
          </a:solidFill>
          <a:ln w="12600">
            <a:solidFill>
              <a:srgbClr val="00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318360" y="4923000"/>
            <a:ext cx="1230120" cy="939600"/>
          </a:xfrm>
          <a:prstGeom prst="upArrow">
            <a:avLst>
              <a:gd name="adj1" fmla="val 75009"/>
              <a:gd name="adj2" fmla="val 49995"/>
            </a:avLst>
          </a:prstGeom>
          <a:solidFill>
            <a:srgbClr val="99ffcc"/>
          </a:solidFill>
          <a:ln w="12600">
            <a:solidFill>
              <a:srgbClr val="00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237360" y="4827600"/>
            <a:ext cx="1230120" cy="939960"/>
          </a:xfrm>
          <a:prstGeom prst="upArrow">
            <a:avLst>
              <a:gd name="adj1" fmla="val 75009"/>
              <a:gd name="adj2" fmla="val 49995"/>
            </a:avLst>
          </a:prstGeom>
          <a:solidFill>
            <a:srgbClr val="00cc66"/>
          </a:solidFill>
          <a:ln w="12600">
            <a:solidFill>
              <a:srgbClr val="00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5920" rIns="115920" tIns="57240" bIns="57240" anchor="ctr">
            <a:noAutofit/>
          </a:bodyPr>
          <a:p>
            <a:pPr algn="ctr">
              <a:tabLst>
                <a:tab algn="l" pos="0"/>
                <a:tab algn="l" pos="1428840"/>
                <a:tab algn="l" pos="2857680"/>
                <a:tab algn="l" pos="4286160"/>
                <a:tab algn="l" pos="5715000"/>
                <a:tab algn="l" pos="7143840"/>
                <a:tab algn="l" pos="8572680"/>
                <a:tab algn="l" pos="1000116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Data Store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Libr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1763640" y="4805280"/>
            <a:ext cx="7012080" cy="158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7554960" y="4457880"/>
            <a:ext cx="1035000" cy="195120"/>
          </a:xfrm>
          <a:prstGeom prst="rect">
            <a:avLst/>
          </a:prstGeom>
          <a:solidFill>
            <a:srgbClr val="ffdc5b"/>
          </a:solidFill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5920" rIns="115920" tIns="57240" bIns="57240" anchor="ctr">
            <a:noAutofit/>
          </a:bodyPr>
          <a:p>
            <a:pPr algn="ctr">
              <a:tabLst>
                <a:tab algn="l" pos="0"/>
                <a:tab algn="l" pos="1428840"/>
                <a:tab algn="l" pos="2857680"/>
                <a:tab algn="l" pos="4286160"/>
                <a:tab algn="l" pos="5715000"/>
                <a:tab algn="l" pos="7143840"/>
                <a:tab algn="l" pos="8572680"/>
                <a:tab algn="l" pos="100011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M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7527960" y="3886200"/>
            <a:ext cx="1122480" cy="474840"/>
          </a:xfrm>
          <a:prstGeom prst="rect">
            <a:avLst/>
          </a:prstGeom>
          <a:solidFill>
            <a:srgbClr val="a7a7a7"/>
          </a:solidFill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5920" rIns="115920" tIns="57240" bIns="57240" anchor="ctr">
            <a:noAutofit/>
          </a:bodyPr>
          <a:p>
            <a:pPr algn="ctr">
              <a:tabLst>
                <a:tab algn="l" pos="0"/>
                <a:tab algn="l" pos="1428840"/>
                <a:tab algn="l" pos="2857680"/>
                <a:tab algn="l" pos="4286160"/>
                <a:tab algn="l" pos="5715000"/>
                <a:tab algn="l" pos="7143840"/>
                <a:tab algn="l" pos="8572680"/>
                <a:tab algn="l" pos="100011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Elective</a:t>
            </a:r>
            <a:br>
              <a:rPr sz="1500"/>
            </a:b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Module Mgr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6553080" y="5711760"/>
            <a:ext cx="378000" cy="38412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710480" y="5033880"/>
            <a:ext cx="1273320" cy="939960"/>
          </a:xfrm>
          <a:prstGeom prst="upArrow">
            <a:avLst>
              <a:gd name="adj1" fmla="val 75009"/>
              <a:gd name="adj2" fmla="val 49995"/>
            </a:avLst>
          </a:prstGeom>
          <a:solidFill>
            <a:srgbClr val="c0c0c0"/>
          </a:solidFill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620120" y="4938840"/>
            <a:ext cx="1272960" cy="939600"/>
          </a:xfrm>
          <a:prstGeom prst="upArrow">
            <a:avLst>
              <a:gd name="adj1" fmla="val 75009"/>
              <a:gd name="adj2" fmla="val 49995"/>
            </a:avLst>
          </a:prstGeom>
          <a:solidFill>
            <a:srgbClr val="c0c0c0"/>
          </a:solidFill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543800" y="4843440"/>
            <a:ext cx="1273320" cy="939960"/>
          </a:xfrm>
          <a:prstGeom prst="upArrow">
            <a:avLst>
              <a:gd name="adj1" fmla="val 75009"/>
              <a:gd name="adj2" fmla="val 49995"/>
            </a:avLst>
          </a:prstGeom>
          <a:solidFill>
            <a:srgbClr val="a7a7a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564320" y="3211560"/>
            <a:ext cx="1035000" cy="182520"/>
          </a:xfrm>
          <a:prstGeom prst="rect">
            <a:avLst/>
          </a:prstGeom>
          <a:solidFill>
            <a:srgbClr val="ffdc5b"/>
          </a:solidFill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5920" rIns="115920" tIns="57240" bIns="57240" anchor="ctr">
            <a:noAutofit/>
          </a:bodyPr>
          <a:p>
            <a:pPr algn="ctr">
              <a:tabLst>
                <a:tab algn="l" pos="0"/>
                <a:tab algn="l" pos="1428840"/>
                <a:tab algn="l" pos="2857680"/>
                <a:tab algn="l" pos="4286160"/>
                <a:tab algn="l" pos="5715000"/>
                <a:tab algn="l" pos="7143840"/>
                <a:tab algn="l" pos="8572680"/>
                <a:tab algn="l" pos="10001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-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212400" y="2224080"/>
            <a:ext cx="1996560" cy="698760"/>
            <a:chOff x="212400" y="2224080"/>
            <a:chExt cx="1996560" cy="698760"/>
          </a:xfrm>
        </p:grpSpPr>
        <p:sp>
          <p:nvSpPr>
            <p:cNvPr id="211" name=""/>
            <p:cNvSpPr/>
            <p:nvPr/>
          </p:nvSpPr>
          <p:spPr>
            <a:xfrm>
              <a:off x="212400" y="2224080"/>
              <a:ext cx="994680" cy="38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5920" rIns="115920" tIns="57240" bIns="57240" anchor="t">
              <a:spAutoFit/>
            </a:bodyPr>
            <a:p>
              <a:pPr>
                <a:tabLst>
                  <a:tab algn="l" pos="0"/>
                  <a:tab algn="l" pos="1428840"/>
                  <a:tab algn="l" pos="2857680"/>
                  <a:tab algn="l" pos="4286160"/>
                  <a:tab algn="l" pos="5715000"/>
                  <a:tab algn="l" pos="7143840"/>
                  <a:tab algn="l" pos="8572680"/>
                  <a:tab algn="l" pos="10001160"/>
                </a:tabLst>
              </a:pPr>
              <a:r>
                <a:rPr b="0" i="1" lang="en-US" sz="1800" spc="-1" strike="noStrike">
                  <a:solidFill>
                    <a:srgbClr val="988035"/>
                  </a:solidFill>
                  <a:latin typeface="Arial"/>
                </a:rPr>
                <a:t>Syste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13120" y="2533680"/>
              <a:ext cx="1995840" cy="38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5920" rIns="115920" tIns="57240" bIns="57240" anchor="t">
              <a:spAutoFit/>
            </a:bodyPr>
            <a:p>
              <a:pPr>
                <a:tabLst>
                  <a:tab algn="l" pos="0"/>
                  <a:tab algn="l" pos="1428840"/>
                  <a:tab algn="l" pos="2857680"/>
                  <a:tab algn="l" pos="4286160"/>
                  <a:tab algn="l" pos="5715000"/>
                  <a:tab algn="l" pos="7143840"/>
                  <a:tab algn="l" pos="8572680"/>
                  <a:tab algn="l" pos="10001160"/>
                </a:tabLst>
              </a:pPr>
              <a:r>
                <a:rPr b="0" i="1" lang="en-US" sz="1800" spc="-1" strike="noStrike">
                  <a:solidFill>
                    <a:srgbClr val="988035"/>
                  </a:solidFill>
                  <a:latin typeface="Arial"/>
                </a:rPr>
                <a:t>Security Servic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"/>
          <p:cNvSpPr/>
          <p:nvPr/>
        </p:nvSpPr>
        <p:spPr>
          <a:xfrm>
            <a:off x="2521080" y="2336760"/>
            <a:ext cx="5778360" cy="558720"/>
          </a:xfrm>
          <a:prstGeom prst="rect">
            <a:avLst/>
          </a:prstGeom>
          <a:solidFill>
            <a:srgbClr val="ccecff"/>
          </a:solidFill>
          <a:ln w="1260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763640" y="2139840"/>
            <a:ext cx="71024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763640" y="2997360"/>
            <a:ext cx="7132680" cy="61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5378400" y="2038320"/>
            <a:ext cx="2757960" cy="628560"/>
            <a:chOff x="5378400" y="2038320"/>
            <a:chExt cx="2757960" cy="628560"/>
          </a:xfrm>
        </p:grpSpPr>
        <p:sp>
          <p:nvSpPr>
            <p:cNvPr id="217" name=""/>
            <p:cNvSpPr/>
            <p:nvPr/>
          </p:nvSpPr>
          <p:spPr>
            <a:xfrm>
              <a:off x="6730920" y="2038320"/>
              <a:ext cx="23184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5920" rIns="115920" tIns="57240" bIns="57240" anchor="t">
              <a:spAutoFit/>
            </a:bodyPr>
            <a:p>
              <a:pPr>
                <a:tabLst>
                  <a:tab algn="l" pos="0"/>
                  <a:tab algn="l" pos="1428840"/>
                  <a:tab algn="l" pos="2857680"/>
                  <a:tab algn="l" pos="4286160"/>
                  <a:tab algn="l" pos="5715000"/>
                  <a:tab algn="l" pos="7143840"/>
                  <a:tab algn="l" pos="8572680"/>
                  <a:tab algn="l" pos="1000116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378400" y="2323800"/>
              <a:ext cx="275796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5920" rIns="115920" tIns="57240" bIns="57240" anchor="t">
              <a:spAutoFit/>
            </a:bodyPr>
            <a:p>
              <a:pPr>
                <a:tabLst>
                  <a:tab algn="l" pos="0"/>
                  <a:tab algn="l" pos="1428840"/>
                  <a:tab algn="l" pos="2857680"/>
                  <a:tab algn="l" pos="4286160"/>
                  <a:tab algn="l" pos="5715000"/>
                  <a:tab algn="l" pos="7143840"/>
                  <a:tab algn="l" pos="8572680"/>
                  <a:tab algn="l" pos="100011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Language Interface Adapter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2937600" y="2292480"/>
            <a:ext cx="1806840" cy="628560"/>
            <a:chOff x="2937600" y="2292480"/>
            <a:chExt cx="1806840" cy="628560"/>
          </a:xfrm>
        </p:grpSpPr>
        <p:sp>
          <p:nvSpPr>
            <p:cNvPr id="220" name=""/>
            <p:cNvSpPr/>
            <p:nvPr/>
          </p:nvSpPr>
          <p:spPr>
            <a:xfrm>
              <a:off x="2937600" y="2292480"/>
              <a:ext cx="180684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5920" rIns="115920" tIns="57240" bIns="57240" anchor="t">
              <a:spAutoFit/>
            </a:bodyPr>
            <a:p>
              <a:pPr>
                <a:tabLst>
                  <a:tab algn="l" pos="0"/>
                  <a:tab algn="l" pos="1428840"/>
                  <a:tab algn="l" pos="2857680"/>
                  <a:tab algn="l" pos="4286160"/>
                  <a:tab algn="l" pos="5715000"/>
                  <a:tab algn="l" pos="7143840"/>
                  <a:tab algn="l" pos="8572680"/>
                  <a:tab algn="l" pos="100011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Layered Service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941560" y="2577960"/>
              <a:ext cx="74016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5920" rIns="115920" tIns="57240" bIns="57240" anchor="t">
              <a:spAutoFit/>
            </a:bodyPr>
            <a:p>
              <a:pPr>
                <a:tabLst>
                  <a:tab algn="l" pos="0"/>
                  <a:tab algn="l" pos="1428840"/>
                  <a:tab algn="l" pos="2857680"/>
                  <a:tab algn="l" pos="4286160"/>
                  <a:tab algn="l" pos="5715000"/>
                  <a:tab algn="l" pos="7143840"/>
                  <a:tab algn="l" pos="8572680"/>
                  <a:tab algn="l" pos="100011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Tool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4356000" y="1371600"/>
            <a:ext cx="2197080" cy="368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5920" rIns="115920" tIns="57240" bIns="57240" anchor="ctr">
            <a:noAutofit/>
          </a:bodyPr>
          <a:p>
            <a:pPr algn="ctr">
              <a:tabLst>
                <a:tab algn="l" pos="0"/>
                <a:tab algn="l" pos="1428840"/>
                <a:tab algn="l" pos="2857680"/>
                <a:tab algn="l" pos="4286160"/>
                <a:tab algn="l" pos="5715000"/>
                <a:tab algn="l" pos="7143840"/>
                <a:tab algn="l" pos="8572680"/>
                <a:tab algn="l" pos="100011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pplications in C++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514600" y="1765440"/>
            <a:ext cx="2201760" cy="368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5920" rIns="115920" tIns="57240" bIns="57240" anchor="ctr">
            <a:noAutofit/>
          </a:bodyPr>
          <a:p>
            <a:pPr algn="ctr">
              <a:tabLst>
                <a:tab algn="l" pos="0"/>
                <a:tab algn="l" pos="1428840"/>
                <a:tab algn="l" pos="2857680"/>
                <a:tab algn="l" pos="4286160"/>
                <a:tab algn="l" pos="5715000"/>
                <a:tab algn="l" pos="7143840"/>
                <a:tab algn="l" pos="8572680"/>
                <a:tab algn="l" pos="100011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pplications in C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743200" y="3809880"/>
            <a:ext cx="1969920" cy="304920"/>
          </a:xfrm>
          <a:prstGeom prst="ellipse">
            <a:avLst/>
          </a:prstGeom>
          <a:solidFill>
            <a:srgbClr val="ffc3c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5920" rIns="115920" tIns="57240" bIns="57240" anchor="ctr">
            <a:noAutofit/>
          </a:bodyPr>
          <a:p>
            <a:pPr algn="ctr">
              <a:tabLst>
                <a:tab algn="l" pos="0"/>
                <a:tab algn="l" pos="1428840"/>
                <a:tab algn="l" pos="2857680"/>
                <a:tab algn="l" pos="4286160"/>
                <a:tab algn="l" pos="5715000"/>
                <a:tab algn="l" pos="7143840"/>
                <a:tab algn="l" pos="8572680"/>
                <a:tab algn="l" pos="100011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tegrity Servic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105520" y="3809880"/>
            <a:ext cx="1969920" cy="304920"/>
          </a:xfrm>
          <a:prstGeom prst="ellipse">
            <a:avLst/>
          </a:prstGeom>
          <a:solidFill>
            <a:srgbClr val="ffc3c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5920" rIns="115920" tIns="57240" bIns="57240" anchor="ctr">
            <a:noAutofit/>
          </a:bodyPr>
          <a:p>
            <a:pPr algn="ctr">
              <a:tabLst>
                <a:tab algn="l" pos="0"/>
                <a:tab algn="l" pos="1428840"/>
                <a:tab algn="l" pos="2857680"/>
                <a:tab algn="l" pos="4286160"/>
                <a:tab algn="l" pos="5715000"/>
                <a:tab algn="l" pos="7143840"/>
                <a:tab algn="l" pos="8572680"/>
                <a:tab algn="l" pos="100011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Security Context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697520" y="4952880"/>
            <a:ext cx="925560" cy="8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New 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Service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e.g. Key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Recove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019920" y="1752480"/>
            <a:ext cx="2197080" cy="368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5920" rIns="115920" tIns="57240" bIns="57240" anchor="ctr">
            <a:noAutofit/>
          </a:bodyPr>
          <a:p>
            <a:pPr algn="ctr">
              <a:tabLst>
                <a:tab algn="l" pos="0"/>
                <a:tab algn="l" pos="1428840"/>
                <a:tab algn="l" pos="2857680"/>
                <a:tab algn="l" pos="4286160"/>
                <a:tab algn="l" pos="5715000"/>
                <a:tab algn="l" pos="7143840"/>
                <a:tab algn="l" pos="8572680"/>
                <a:tab algn="l" pos="100011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pplications in Native Jav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718320" y="2209680"/>
            <a:ext cx="1663560" cy="139680"/>
          </a:xfrm>
          <a:prstGeom prst="rect">
            <a:avLst/>
          </a:prstGeom>
          <a:solidFill>
            <a:srgbClr val="cbcbcb"/>
          </a:solidFill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hod Wrap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289160" y="-360"/>
            <a:ext cx="775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he Java Security Model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200240" y="1714680"/>
            <a:ext cx="5486400" cy="61164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ava Security AP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ava.security, java.security.Interfac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200240" y="2476440"/>
            <a:ext cx="3581280" cy="8550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gine Cla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MessageDigest, .Signature, .KeyPair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200240" y="3467160"/>
            <a:ext cx="2286000" cy="116028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viders (Signatures, No Encryp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N, Oth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086440" y="2476440"/>
            <a:ext cx="3747960" cy="855000"/>
          </a:xfrm>
          <a:prstGeom prst="rect">
            <a:avLst/>
          </a:prstGeom>
          <a:noFill/>
          <a:ln cap="rnd" w="9360">
            <a:solidFill>
              <a:srgbClr val="96969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CE Classes/Interf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ymmetricCipher,SymmetricCipher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edbackCipher, SecretKey, Padd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200240" y="4762440"/>
            <a:ext cx="7619760" cy="580680"/>
          </a:xfrm>
          <a:prstGeom prst="rect">
            <a:avLst/>
          </a:prstGeom>
          <a:noFill/>
          <a:ln cap="rnd" w="9360">
            <a:solidFill>
              <a:srgbClr val="96969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rypto Providers (Signatures and Encryptio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SAFE Crypto-J, Oth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105000" y="323856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095720" y="323856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8515440" y="3238560"/>
            <a:ext cx="0" cy="148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17160" y="-360"/>
            <a:ext cx="7759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Functional Layers for SSL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9" name="SSL-J%20cylinders" descr=""/>
          <p:cNvPicPr/>
          <p:nvPr/>
        </p:nvPicPr>
        <p:blipFill>
          <a:blip r:embed="rId1"/>
          <a:stretch/>
        </p:blipFill>
        <p:spPr>
          <a:xfrm>
            <a:off x="2438280" y="1681200"/>
            <a:ext cx="4891320" cy="410220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289160" y="-360"/>
            <a:ext cx="775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 Crypto Provider Exampl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1" name="CryptoJ%20diagram" descr=""/>
          <p:cNvPicPr/>
          <p:nvPr/>
        </p:nvPicPr>
        <p:blipFill>
          <a:blip r:embed="rId1"/>
          <a:stretch/>
        </p:blipFill>
        <p:spPr>
          <a:xfrm>
            <a:off x="2049480" y="1698480"/>
            <a:ext cx="5840280" cy="342108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17160" y="-360"/>
            <a:ext cx="7759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Functional Layers  for PKI-Enabling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3" name="CertC%20cylinders_text" descr=""/>
          <p:cNvPicPr/>
          <p:nvPr/>
        </p:nvPicPr>
        <p:blipFill>
          <a:blip r:embed="rId1"/>
          <a:srcRect l="0" t="0" r="0" b="6060"/>
          <a:stretch/>
        </p:blipFill>
        <p:spPr>
          <a:xfrm>
            <a:off x="1657440" y="1762200"/>
            <a:ext cx="6458040" cy="442908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1848240" y="-71280"/>
            <a:ext cx="13834080" cy="9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ÂrÒÞú/{N`_x0006__x0007_v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’¥á_x0005_Šqª8_x001f_¤_x0017_ _x001e_á_x0007_ìÃù_x0019_Bñƒ~§_x0016_‘²y_x001f_û{Oáÿ¤P×DÉ_x001f_%iâ4_x0013_ù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{/_x001e_Œú‡&amp;_x001d__x001c_BC+\_x0008__x001e_Ì™¼Òk±áŸ±5|_x001f__x0003_Ð D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ÚN¢ˆ_x0006_2šI”"@_x001c_¨ÓÎ_x0002_ÀxÕ`­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#K]_x0015_r·G¥ì•ûÈÉ©¡d5þfÌë0‡:„_x0002_®G_x0017_Bi8_x0013_ïû( ¤DG¹Ü±–yQéÂ_x0006__x001d_Aš:K…E»E(L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`°_x0018_÷_x001c_÷_PÌ#A{fØ˜Ì—´DêC3S´= _x0004_Šê)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_x0006_î…‚ Zwø„Ûá¥×&gt;³¬&amp;—Ú«A_x0011_Â_x0006_ÄuÍª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ÖüTOµƒ‘A[tiBçw±ð_x0013_ÇõkfxCUF½qx2t¸¬_•(4s/_x0002_|9öÍ_x0017_ù_x001c_7¯)Šù_x000f_«™Çóà÷’)&amp;Ó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_x001e_&gt;„Èêô¥ÈGP¾_x001b__x001a_šn¿yk¹tq /õx¡Ô»Öüf_p¥ê'A®À¤‹Ü4Œ D’z_x001a_¡Ôn§Õ5øëÿ]T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&gt;ªÄa&amp;_x0012_}”x_x0016_Gó¹âÄÐ_x0005_f©ß\›á„½_x001b_]_x0018_0ôÂ9mb_x0006_×u4'­Œ_x0018_0G_x000f_Ý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¿«7•_x001f_²~Æ¯¯;yMö_x0015_ÉmR,’I?ª*IùëFðÔ1å…­ý=&amp;¥_x001a__Ö§^ l²d¥Ôì+ ‡»ë_x0005_þ£Hì«±k‰8_x000c_;ë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¿’sØÔ‡°hŒÃß6ˆ_x001b_£d‚í_x001d_»_x000f_™N¯_x0002__x0015_é)šÉ·h1þe_x0004__x0005_A_x000c_•$‚ _x0010_R«l\jÔ°ÏÏ__x0002_3±_x0012_4_x0002_7©PÓ2gæ›·Ê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_x0006_â‚½+N Çþ«]¬’£s=_x0011_f‡4ÜÂrÒÞú/{N`_x0006__x0007_v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’¥á_x0005_Šqª8_x001f_¤_x0017_ _x001e_á_x0007_ìÃù_x0019_Bñƒ~§_x0016_‘²y_x001f_û{Oáÿ¤P×DÉ_x001f_%iâ4_x0013_ù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{/_x001e_Œú‡&amp;_x001d__x001c_BC+\_x0008__x001e_Ì™¼Òk±áŸ±5|_x001f__x0003_Ð D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ÚN¢ˆ_x0006_2šI”"@_x001c_¨ÓÎ_x0002_ÀxÕ`­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#K]_x0015_r·G¥ì•ûÈÉ©¡d5þfÌë0‡:„_x0002_®G_x0017_Bi8_x0013_ïû( ¤DG¹Ü±–yQéÂ_x0006__x001d_Aš:K…E»E(L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`°_x0018_÷_x001c_÷_PÌ#A{fØ˜Ì—´DêC3S´= _x0004_Šê)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_x0006_î…‚ Zwø„Ûá¥×&gt;³¬&amp;—Ú«A_x0011_Â_x0006_ÄuÍª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ÖüTOµƒ‘A[tiBçw±ð_x0013_ÇõkfxCUF½qx2t¸¬_•(4s/_x0002_|9öÍ_x0017_ù_x001c_7¯)Šù_x000f_«™Çóà÷’)&amp;Ó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_x001e_&gt;„Èêô¥ÈGP¾_x001b__x001a_šn¿yk¹tq /õx¡Ô»Öüf_p¥ê'A®À¤‹Ü4Œ D’z_x001a_¡Ôn§Õ5øëÿ]T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&gt;ªÄa&amp;_x0012_}”x_x0016_Gó¹âÄÐ_x0005_f©ß\›á„½_x001b_]_x0018_0ôÂ9mb_x0006_×u4'­Œ_x0018_0G_x000f_Ý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¿«7•_x001f_²~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Æ¯¯;yMö_x0015_ÉmR,’I?ª*IùëFðÔ1å…­ý=&amp;¥_x001a__Ö§^ l²d¥Ôì+ ‡»ë_x0005_þ£Hì«±k‰8_x000c_;ë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¿’sØÔ‡°hŒÃß6ˆ_x001b_£d‚í_x001d_»_x000f_™N¯_x0002__x0015_é)šÉ·h1þe_x0004__x0005_A_x000c_•$‚ _x0010_R«l\jÔ°ÏÏ__x0002_3±_x0012_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_x0002_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©PÓ2gæ›·Ê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_x0006_â‚½+N Çþ«]¬’£s=_x0011_f‡4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990360" y="266760"/>
            <a:ext cx="7543800" cy="68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ask #1: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Home Banking Client/Server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5977080" y="2392200"/>
            <a:ext cx="1411200" cy="9511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2286000" y="3955680"/>
            <a:ext cx="1871640" cy="476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3662280" y="2610000"/>
          <a:ext cx="3076560" cy="2030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62280" y="2610000"/>
                    <a:ext cx="3076560" cy="203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0" name=""/>
          <p:cNvSpPr/>
          <p:nvPr/>
        </p:nvSpPr>
        <p:spPr>
          <a:xfrm>
            <a:off x="4305240" y="3433680"/>
            <a:ext cx="16754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1" name=""/>
          <p:cNvGraphicFramePr/>
          <p:nvPr/>
        </p:nvGraphicFramePr>
        <p:xfrm>
          <a:off x="7015320" y="1833480"/>
          <a:ext cx="1038240" cy="1038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015320" y="1833480"/>
                    <a:ext cx="1038240" cy="103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3" name=""/>
          <p:cNvSpPr/>
          <p:nvPr/>
        </p:nvSpPr>
        <p:spPr>
          <a:xfrm>
            <a:off x="6806520" y="2948040"/>
            <a:ext cx="14302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nk of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4" name=""/>
          <p:cNvGraphicFramePr/>
          <p:nvPr/>
        </p:nvGraphicFramePr>
        <p:xfrm>
          <a:off x="1468440" y="3902040"/>
          <a:ext cx="1038240" cy="1038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5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68440" y="3902040"/>
                    <a:ext cx="1038240" cy="103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6" name=""/>
          <p:cNvGraphicFramePr/>
          <p:nvPr/>
        </p:nvGraphicFramePr>
        <p:xfrm>
          <a:off x="1536840" y="4965840"/>
          <a:ext cx="860400" cy="982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5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36840" y="4965840"/>
                    <a:ext cx="860400" cy="98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8" name=""/>
          <p:cNvSpPr/>
          <p:nvPr/>
        </p:nvSpPr>
        <p:spPr>
          <a:xfrm>
            <a:off x="1058040" y="5992920"/>
            <a:ext cx="20671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ank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949480" y="3208320"/>
            <a:ext cx="33480" cy="8161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289160" y="-360"/>
            <a:ext cx="775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SL in Java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1" name="SSL-J%20pipes" descr=""/>
          <p:cNvPicPr/>
          <p:nvPr/>
        </p:nvPicPr>
        <p:blipFill>
          <a:blip r:embed="rId1"/>
          <a:stretch/>
        </p:blipFill>
        <p:spPr>
          <a:xfrm>
            <a:off x="1838160" y="2181240"/>
            <a:ext cx="5315040" cy="344808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51920" y="285840"/>
            <a:ext cx="7543800" cy="68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Electronic Banking Application: Need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000080" y="1771200"/>
            <a:ext cx="768672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f9a05d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Link Security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9a05d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Authentication Based on Account #’s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9a05d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Message Integrity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9a05d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Moderate Amount of Traffic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4654440" y="324000"/>
            <a:ext cx="1959120" cy="147636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7543800" cy="68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Electronic Banking Application: Construct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768672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f9a05d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Key Exchange </a:t>
            </a:r>
            <a:r>
              <a:rPr b="1" lang="en-US" sz="2400" spc="-1" strike="noStrike">
                <a:solidFill>
                  <a:srgbClr val="6666ff"/>
                </a:solidFill>
                <a:latin typeface="Arial"/>
              </a:rPr>
              <a:t>Diffie-Hellman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9a05d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Symmetric Encryption </a:t>
            </a:r>
            <a:r>
              <a:rPr b="1" lang="en-US" sz="2400" spc="-1" strike="noStrike">
                <a:solidFill>
                  <a:srgbClr val="6666ff"/>
                </a:solidFill>
                <a:latin typeface="Arial"/>
              </a:rPr>
              <a:t>Triple-DES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9a05d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Message Digest </a:t>
            </a:r>
            <a:r>
              <a:rPr b="1" lang="en-US" sz="2400" spc="-1" strike="noStrike">
                <a:solidFill>
                  <a:srgbClr val="6666ff"/>
                </a:solidFill>
                <a:latin typeface="Arial"/>
              </a:rPr>
              <a:t>SHA-1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transition>
    <p:pull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7543800" cy="68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roblem #1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768672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1c1c1c"/>
                </a:solidFill>
                <a:latin typeface="Arial"/>
              </a:rPr>
              <a:t>Clear understanding of the need for security…</a:t>
            </a:r>
            <a:endParaRPr b="1" lang="en-US" sz="3600" spc="-1" strike="noStrike">
              <a:solidFill>
                <a:srgbClr val="1c1c1c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1c1c1c"/>
              </a:solidFill>
              <a:latin typeface="Arial"/>
            </a:endParaRPr>
          </a:p>
          <a:p>
            <a:pPr marL="3430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1c1c1c"/>
                </a:solidFill>
                <a:latin typeface="Arial"/>
              </a:rPr>
              <a:t>...But no security architecture</a:t>
            </a:r>
            <a:endParaRPr b="1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654440" y="324000"/>
            <a:ext cx="1959120" cy="14763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076040" y="152280"/>
            <a:ext cx="7543800" cy="68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BSAFE SSL-J API Call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768672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1500"/>
              </a:spcBef>
              <a:buClr>
                <a:srgbClr val="5f5f5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Courier New"/>
              </a:rPr>
              <a:t>SSLParams.setCipherSuites (new DH_With_3DES_EDE_CBC_SHA());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1500"/>
              </a:spcBef>
              <a:buClr>
                <a:srgbClr val="5f5f5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Courier New"/>
              </a:rPr>
              <a:t>SSLSocket.getCipherSuite();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1500"/>
              </a:spcBef>
              <a:buClr>
                <a:srgbClr val="5f5f5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Courier New"/>
              </a:rPr>
              <a:t>SSLParams.setCertificateAndKey();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1500"/>
              </a:spcBef>
              <a:buClr>
                <a:srgbClr val="5f5f5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Courier New"/>
              </a:rPr>
              <a:t>SSLSocket.getPeerCertificateChain();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1500"/>
              </a:spcBef>
              <a:buClr>
                <a:srgbClr val="5f5f5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Courier New"/>
              </a:rPr>
              <a:t>To initiate an SSL session, use 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1500"/>
              </a:spcBef>
              <a:buClr>
                <a:srgbClr val="5f5f5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Courier New"/>
              </a:rPr>
              <a:t>getInputStream()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1500"/>
              </a:spcBef>
              <a:buClr>
                <a:srgbClr val="5f5f5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Courier New"/>
              </a:rPr>
              <a:t>To encrypt and decrypt, use write() and read()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29484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4654440" y="324000"/>
            <a:ext cx="1959120" cy="147636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543800" cy="68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Other Application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768672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f9a05d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Groupware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9a05d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Web Browser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9a05d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Internet Firewall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9a05d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Medical Record Security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9a05d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_____________________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9a05d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_____________________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4654440" y="324000"/>
            <a:ext cx="1959120" cy="147636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1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ask #2: Secure E-Mail Cli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230040" y="1589040"/>
            <a:ext cx="8674200" cy="5054760"/>
          </a:xfrm>
          <a:prstGeom prst="rect">
            <a:avLst/>
          </a:prstGeom>
          <a:ln w="12600">
            <a:solidFill>
              <a:srgbClr val="ffff00"/>
            </a:solidFill>
            <a:miter/>
          </a:ln>
        </p:spPr>
      </p:pic>
    </p:spTree>
  </p:cSld>
  <p:transition>
    <p:cover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1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/MIME E-Mail Cli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230040" y="1589040"/>
            <a:ext cx="8674200" cy="5054760"/>
          </a:xfrm>
          <a:prstGeom prst="rect">
            <a:avLst/>
          </a:prstGeom>
          <a:ln w="12600">
            <a:solidFill>
              <a:srgbClr val="ffff00"/>
            </a:solidFill>
            <a:miter/>
          </a:ln>
        </p:spPr>
      </p:pic>
      <p:sp>
        <p:nvSpPr>
          <p:cNvPr id="277" name=""/>
          <p:cNvSpPr/>
          <p:nvPr/>
        </p:nvSpPr>
        <p:spPr>
          <a:xfrm>
            <a:off x="2505240" y="2311560"/>
            <a:ext cx="336240" cy="1890720"/>
          </a:xfrm>
          <a:prstGeom prst="ellipse">
            <a:avLst/>
          </a:prstGeom>
          <a:noFill/>
          <a:ln w="507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735200" y="1739880"/>
            <a:ext cx="761760" cy="398520"/>
          </a:xfrm>
          <a:prstGeom prst="ellipse">
            <a:avLst/>
          </a:prstGeom>
          <a:noFill/>
          <a:ln w="507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412920" y="1082520"/>
            <a:ext cx="8218440" cy="539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71400" y="1430280"/>
            <a:ext cx="1654200" cy="3974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Mail Eng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68080" y="3672000"/>
            <a:ext cx="1914840" cy="3974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User Datab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541680" y="1258920"/>
            <a:ext cx="2217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Message Cont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352920" y="1258920"/>
            <a:ext cx="22881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MIME format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693880" y="3895560"/>
            <a:ext cx="53352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3859560" y="3894120"/>
            <a:ext cx="1495080" cy="822600"/>
            <a:chOff x="3859560" y="3894120"/>
            <a:chExt cx="1495080" cy="822600"/>
          </a:xfrm>
        </p:grpSpPr>
        <p:sp>
          <p:nvSpPr>
            <p:cNvPr id="286" name=""/>
            <p:cNvSpPr/>
            <p:nvPr/>
          </p:nvSpPr>
          <p:spPr>
            <a:xfrm>
              <a:off x="3919680" y="3902040"/>
              <a:ext cx="1434960" cy="74916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3859560" y="3894120"/>
              <a:ext cx="1364760" cy="82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969696"/>
                  </a:solidFill>
                  <a:latin typeface="Palatino"/>
                </a:rPr>
                <a:t>ed@rsa.com</a:t>
              </a:r>
              <a:br>
                <a:rPr sz="1600"/>
              </a:br>
              <a:r>
                <a:rPr b="0" lang="en-US" sz="1600" spc="-1" strike="noStrike">
                  <a:solidFill>
                    <a:srgbClr val="969696"/>
                  </a:solidFill>
                  <a:latin typeface="Palatino"/>
                </a:rPr>
                <a:t>5h2d1fa54</a:t>
              </a:r>
              <a:br>
                <a:rPr sz="1600"/>
              </a:br>
              <a:r>
                <a:rPr b="0" lang="en-US" sz="1600" spc="-1" strike="noStrike">
                  <a:solidFill>
                    <a:srgbClr val="969696"/>
                  </a:solidFill>
                  <a:latin typeface="Palatino"/>
                </a:rPr>
                <a:t>bc732a3df..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"/>
          <p:cNvSpPr/>
          <p:nvPr/>
        </p:nvSpPr>
        <p:spPr>
          <a:xfrm>
            <a:off x="3699360" y="2935440"/>
            <a:ext cx="194544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Address Info</a:t>
            </a:r>
            <a:br>
              <a:rPr sz="2000"/>
            </a:br>
            <a:r>
              <a:rPr b="0" lang="en-US" sz="1600" spc="-1" strike="noStrike">
                <a:solidFill>
                  <a:srgbClr val="000000"/>
                </a:solidFill>
                <a:latin typeface="Palatino"/>
              </a:rPr>
              <a:t>(Name, certificate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Palatino"/>
              </a:rPr>
              <a:t>public key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7418520" y="2905200"/>
            <a:ext cx="0" cy="4572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462720" y="3463920"/>
            <a:ext cx="1844640" cy="70236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/MIME-C Eng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7418520" y="4181400"/>
            <a:ext cx="0" cy="4572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2" name=""/>
          <p:cNvGrpSpPr/>
          <p:nvPr/>
        </p:nvGrpSpPr>
        <p:grpSpPr>
          <a:xfrm>
            <a:off x="6973920" y="5051520"/>
            <a:ext cx="888840" cy="1117440"/>
            <a:chOff x="6973920" y="5051520"/>
            <a:chExt cx="888840" cy="1117440"/>
          </a:xfrm>
        </p:grpSpPr>
        <p:grpSp>
          <p:nvGrpSpPr>
            <p:cNvPr id="293" name=""/>
            <p:cNvGrpSpPr/>
            <p:nvPr/>
          </p:nvGrpSpPr>
          <p:grpSpPr>
            <a:xfrm>
              <a:off x="7043760" y="5121360"/>
              <a:ext cx="749160" cy="977760"/>
              <a:chOff x="7043760" y="5121360"/>
              <a:chExt cx="749160" cy="977760"/>
            </a:xfrm>
          </p:grpSpPr>
          <p:sp>
            <p:nvSpPr>
              <p:cNvPr id="294" name=""/>
              <p:cNvSpPr/>
              <p:nvPr/>
            </p:nvSpPr>
            <p:spPr>
              <a:xfrm>
                <a:off x="7043760" y="5121360"/>
                <a:ext cx="749160" cy="977760"/>
              </a:xfrm>
              <a:prstGeom prst="rect">
                <a:avLst/>
              </a:prstGeom>
              <a:noFill/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7113600" y="5343480"/>
                <a:ext cx="609480" cy="0"/>
              </a:xfrm>
              <a:prstGeom prst="line">
                <a:avLst/>
              </a:prstGeom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7113600" y="5495760"/>
                <a:ext cx="609480" cy="0"/>
              </a:xfrm>
              <a:prstGeom prst="line">
                <a:avLst/>
              </a:prstGeom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7113600" y="5648400"/>
                <a:ext cx="609480" cy="0"/>
              </a:xfrm>
              <a:prstGeom prst="line">
                <a:avLst/>
              </a:prstGeom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7113600" y="5800680"/>
                <a:ext cx="609480" cy="0"/>
              </a:xfrm>
              <a:prstGeom prst="line">
                <a:avLst/>
              </a:prstGeom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7113600" y="5267160"/>
                <a:ext cx="609480" cy="0"/>
              </a:xfrm>
              <a:prstGeom prst="line">
                <a:avLst/>
              </a:prstGeom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7113600" y="5419800"/>
                <a:ext cx="609480" cy="0"/>
              </a:xfrm>
              <a:prstGeom prst="line">
                <a:avLst/>
              </a:prstGeom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7113600" y="5572080"/>
                <a:ext cx="609480" cy="0"/>
              </a:xfrm>
              <a:prstGeom prst="line">
                <a:avLst/>
              </a:prstGeom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7113600" y="5724360"/>
                <a:ext cx="609480" cy="0"/>
              </a:xfrm>
              <a:prstGeom prst="line">
                <a:avLst/>
              </a:prstGeom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7113600" y="5877000"/>
                <a:ext cx="609480" cy="0"/>
              </a:xfrm>
              <a:prstGeom prst="line">
                <a:avLst/>
              </a:prstGeom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7113600" y="5952960"/>
                <a:ext cx="609480" cy="0"/>
              </a:xfrm>
              <a:prstGeom prst="line">
                <a:avLst/>
              </a:prstGeom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113600" y="6029280"/>
                <a:ext cx="609480" cy="0"/>
              </a:xfrm>
              <a:prstGeom prst="line">
                <a:avLst/>
              </a:prstGeom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6" name=""/>
            <p:cNvSpPr/>
            <p:nvPr/>
          </p:nvSpPr>
          <p:spPr>
            <a:xfrm>
              <a:off x="6973920" y="5051520"/>
              <a:ext cx="888840" cy="1117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7" name=""/>
          <p:cNvSpPr/>
          <p:nvPr/>
        </p:nvSpPr>
        <p:spPr>
          <a:xfrm>
            <a:off x="6469920" y="4640400"/>
            <a:ext cx="18705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MIME tagg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3352320" y="4925880"/>
            <a:ext cx="2694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cure Mail Mess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849840" y="5337000"/>
            <a:ext cx="1346040" cy="812880"/>
            <a:chOff x="3849840" y="5337000"/>
            <a:chExt cx="1346040" cy="812880"/>
          </a:xfrm>
        </p:grpSpPr>
        <p:sp>
          <p:nvSpPr>
            <p:cNvPr id="310" name=""/>
            <p:cNvSpPr/>
            <p:nvPr/>
          </p:nvSpPr>
          <p:spPr>
            <a:xfrm>
              <a:off x="3919680" y="5406840"/>
              <a:ext cx="1206360" cy="673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3849840" y="5337000"/>
              <a:ext cx="1346040" cy="812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913200" y="5400720"/>
              <a:ext cx="609480" cy="304560"/>
            </a:xfrm>
            <a:prstGeom prst="line">
              <a:avLst/>
            </a:prstGeom>
            <a:ln w="507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 flipV="1">
              <a:off x="4522680" y="5400720"/>
              <a:ext cx="609840" cy="304560"/>
            </a:xfrm>
            <a:prstGeom prst="line">
              <a:avLst/>
            </a:prstGeom>
            <a:ln w="507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3912840" y="5400720"/>
              <a:ext cx="15228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 flipH="1">
              <a:off x="4065480" y="5400720"/>
              <a:ext cx="15264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 flipH="1">
              <a:off x="4217760" y="5400720"/>
              <a:ext cx="15228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 flipH="1">
              <a:off x="4370040" y="5400720"/>
              <a:ext cx="15228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 flipH="1">
              <a:off x="4522680" y="5400720"/>
              <a:ext cx="15264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>
              <a:off x="4674960" y="5400720"/>
              <a:ext cx="15228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 flipH="1">
              <a:off x="4827240" y="5400720"/>
              <a:ext cx="15228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 flipH="1">
              <a:off x="4979880" y="5400720"/>
              <a:ext cx="15264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2" name=""/>
          <p:cNvSpPr/>
          <p:nvPr/>
        </p:nvSpPr>
        <p:spPr>
          <a:xfrm>
            <a:off x="2693880" y="1685880"/>
            <a:ext cx="53352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H="1">
            <a:off x="2693880" y="5419800"/>
            <a:ext cx="53352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 flipH="1">
            <a:off x="5894280" y="5400720"/>
            <a:ext cx="53352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570960" y="4751280"/>
            <a:ext cx="2224080" cy="112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Message out</a:t>
            </a:r>
            <a:br>
              <a:rPr sz="2000"/>
            </a:br>
            <a:r>
              <a:rPr b="0" lang="en-US" sz="1600" spc="-1" strike="noStrike">
                <a:solidFill>
                  <a:srgbClr val="000000"/>
                </a:solidFill>
                <a:latin typeface="Palatino"/>
              </a:rPr>
              <a:t>(Transport decisions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Palatino"/>
              </a:rPr>
              <a:t>are independent o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Palatino"/>
              </a:rPr>
              <a:t>SD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4224240" y="1844640"/>
            <a:ext cx="673200" cy="825480"/>
            <a:chOff x="4224240" y="1844640"/>
            <a:chExt cx="673200" cy="825480"/>
          </a:xfrm>
        </p:grpSpPr>
        <p:sp>
          <p:nvSpPr>
            <p:cNvPr id="327" name=""/>
            <p:cNvSpPr/>
            <p:nvPr/>
          </p:nvSpPr>
          <p:spPr>
            <a:xfrm>
              <a:off x="4224240" y="1844640"/>
              <a:ext cx="673200" cy="82548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286160" y="2049480"/>
              <a:ext cx="54936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4286160" y="1973520"/>
              <a:ext cx="54936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4286160" y="2125800"/>
              <a:ext cx="54936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286160" y="2202120"/>
              <a:ext cx="54936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4286160" y="2278080"/>
              <a:ext cx="54936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4286160" y="2354400"/>
              <a:ext cx="54936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4286160" y="2430720"/>
              <a:ext cx="54936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4286160" y="2506680"/>
              <a:ext cx="54936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86160" y="2583000"/>
              <a:ext cx="54936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7" name=""/>
          <p:cNvGrpSpPr/>
          <p:nvPr/>
        </p:nvGrpSpPr>
        <p:grpSpPr>
          <a:xfrm>
            <a:off x="6973920" y="1774800"/>
            <a:ext cx="812880" cy="965160"/>
            <a:chOff x="6973920" y="1774800"/>
            <a:chExt cx="812880" cy="965160"/>
          </a:xfrm>
        </p:grpSpPr>
        <p:sp>
          <p:nvSpPr>
            <p:cNvPr id="338" name=""/>
            <p:cNvSpPr/>
            <p:nvPr/>
          </p:nvSpPr>
          <p:spPr>
            <a:xfrm>
              <a:off x="6973920" y="1774800"/>
              <a:ext cx="812880" cy="965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9" name=""/>
            <p:cNvGrpSpPr/>
            <p:nvPr/>
          </p:nvGrpSpPr>
          <p:grpSpPr>
            <a:xfrm>
              <a:off x="7043760" y="1844280"/>
              <a:ext cx="673200" cy="825120"/>
              <a:chOff x="7043760" y="1844280"/>
              <a:chExt cx="673200" cy="825120"/>
            </a:xfrm>
          </p:grpSpPr>
          <p:sp>
            <p:nvSpPr>
              <p:cNvPr id="340" name=""/>
              <p:cNvSpPr/>
              <p:nvPr/>
            </p:nvSpPr>
            <p:spPr>
              <a:xfrm>
                <a:off x="7043760" y="1844280"/>
                <a:ext cx="673200" cy="825120"/>
              </a:xfrm>
              <a:prstGeom prst="rect">
                <a:avLst/>
              </a:prstGeom>
              <a:noFill/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7105680" y="2048760"/>
                <a:ext cx="549360" cy="0"/>
              </a:xfrm>
              <a:prstGeom prst="line">
                <a:avLst/>
              </a:prstGeom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7105680" y="1972800"/>
                <a:ext cx="549360" cy="0"/>
              </a:xfrm>
              <a:prstGeom prst="line">
                <a:avLst/>
              </a:prstGeom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7105680" y="2125080"/>
                <a:ext cx="549360" cy="0"/>
              </a:xfrm>
              <a:prstGeom prst="line">
                <a:avLst/>
              </a:prstGeom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7105680" y="2201400"/>
                <a:ext cx="549360" cy="0"/>
              </a:xfrm>
              <a:prstGeom prst="line">
                <a:avLst/>
              </a:prstGeom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7105680" y="2277360"/>
                <a:ext cx="549360" cy="0"/>
              </a:xfrm>
              <a:prstGeom prst="line">
                <a:avLst/>
              </a:prstGeom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7105680" y="2353680"/>
                <a:ext cx="549360" cy="0"/>
              </a:xfrm>
              <a:prstGeom prst="line">
                <a:avLst/>
              </a:prstGeom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7105680" y="2430000"/>
                <a:ext cx="549360" cy="0"/>
              </a:xfrm>
              <a:prstGeom prst="line">
                <a:avLst/>
              </a:prstGeom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7105680" y="2505960"/>
                <a:ext cx="549360" cy="0"/>
              </a:xfrm>
              <a:prstGeom prst="line">
                <a:avLst/>
              </a:prstGeom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7105680" y="2582280"/>
                <a:ext cx="549360" cy="0"/>
              </a:xfrm>
              <a:prstGeom prst="line">
                <a:avLst/>
              </a:prstGeom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50" name=""/>
          <p:cNvSpPr/>
          <p:nvPr/>
        </p:nvSpPr>
        <p:spPr>
          <a:xfrm>
            <a:off x="5818320" y="1685880"/>
            <a:ext cx="53316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1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/MIME E-Mail Environ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990360" y="190440"/>
            <a:ext cx="7543800" cy="68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/MIME E-mail Client: Need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768672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f9a05d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Digital Envelopes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9a05d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Digital Signatures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9a05d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Certificate Chaining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9a05d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Certificate Requests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9a05d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Export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1"/>
          <a:stretch/>
        </p:blipFill>
        <p:spPr>
          <a:xfrm>
            <a:off x="4654440" y="324000"/>
            <a:ext cx="1959120" cy="147636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99600" y="228600"/>
            <a:ext cx="7543800" cy="68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/MIME E-mail Client: Construct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47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f9a05d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Message Format </a:t>
            </a:r>
            <a:r>
              <a:rPr b="1" lang="en-US" sz="2400" spc="-1" strike="noStrike">
                <a:solidFill>
                  <a:srgbClr val="6666ff"/>
                </a:solidFill>
                <a:latin typeface="Arial"/>
              </a:rPr>
              <a:t>PKCS #7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9a05d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Certificates </a:t>
            </a:r>
            <a:r>
              <a:rPr b="1" lang="en-US" sz="2400" spc="-1" strike="noStrike">
                <a:solidFill>
                  <a:srgbClr val="6666ff"/>
                </a:solidFill>
                <a:latin typeface="Arial"/>
              </a:rPr>
              <a:t>X.509 v3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9a05d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Algorithms </a:t>
            </a:r>
            <a:r>
              <a:rPr b="1" lang="en-US" sz="2400" spc="-1" strike="noStrike">
                <a:solidFill>
                  <a:srgbClr val="6666ff"/>
                </a:solidFill>
                <a:latin typeface="Arial"/>
              </a:rPr>
              <a:t>RSA, SHA-1, RC2, Triple-DES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pic>
        <p:nvPicPr>
          <p:cNvPr id="357" name="" descr=""/>
          <p:cNvPicPr/>
          <p:nvPr/>
        </p:nvPicPr>
        <p:blipFill>
          <a:blip r:embed="rId1"/>
          <a:stretch/>
        </p:blipFill>
        <p:spPr>
          <a:xfrm>
            <a:off x="4654440" y="324000"/>
            <a:ext cx="1959120" cy="147636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076040" y="152280"/>
            <a:ext cx="7543800" cy="68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BSAFE S/MIME-C API Call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768672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5f5f5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mtMsg_EncryptAndSign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5f5f5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mtMsg_DecryptAndVerify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5f5f5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lso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24"/>
              </a:spcBef>
              <a:buClr>
                <a:srgbClr val="5f5f5f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mtCert_EnumCerts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24"/>
              </a:spcBef>
              <a:buClr>
                <a:srgbClr val="5f5f5f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mtAddress_AttachCertificate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4654440" y="324000"/>
            <a:ext cx="1959120" cy="147636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142640" y="209520"/>
            <a:ext cx="7543800" cy="68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Other Application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768672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f9a05d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EDI Over Internet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9a05d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Downloading Secure Objects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9a05d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Executable Signing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9a05d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_____________________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9a05d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_____________________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1"/>
          <a:stretch/>
        </p:blipFill>
        <p:spPr>
          <a:xfrm>
            <a:off x="4654440" y="324000"/>
            <a:ext cx="1959120" cy="147636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117080" y="-360"/>
            <a:ext cx="7759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Link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361800" y="1987560"/>
            <a:ext cx="8515440" cy="411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This Presentation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lvl="1" marL="741240" indent="-28404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www.rsaconference.com/presentations/RSA00-Crypto301.ppt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Developing Secure Applications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lvl="1" marL="741240" indent="-28404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http://www.rsasecurity.com/developers/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Tim Matthews 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lvl="1" marL="741240" indent="-28404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tim@rsasecurity.com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7543800" cy="68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roblem #2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768672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1c1c1c"/>
                </a:solidFill>
                <a:latin typeface="Arial"/>
              </a:rPr>
              <a:t>Rough security architecture design...</a:t>
            </a:r>
            <a:endParaRPr b="1" lang="en-US" sz="3600" spc="-1" strike="noStrike">
              <a:solidFill>
                <a:srgbClr val="1c1c1c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1c1c1c"/>
              </a:solidFill>
              <a:latin typeface="Arial"/>
            </a:endParaRPr>
          </a:p>
          <a:p>
            <a:pPr marL="3430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1c1c1c"/>
                </a:solidFill>
                <a:latin typeface="Arial"/>
              </a:rPr>
              <a:t>…</a:t>
            </a:r>
            <a:r>
              <a:rPr b="0" i="1" lang="en-US" sz="3600" spc="-1" strike="noStrike">
                <a:solidFill>
                  <a:srgbClr val="1c1c1c"/>
                </a:solidFill>
                <a:latin typeface="Arial"/>
              </a:rPr>
              <a:t>No detailed implementation path</a:t>
            </a:r>
            <a:endParaRPr b="1" lang="en-US" sz="3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transition>
    <p:pull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6864480" y="247680"/>
            <a:ext cx="1958760" cy="1476360"/>
          </a:xfrm>
          <a:prstGeom prst="rect">
            <a:avLst/>
          </a:prstGeom>
          <a:ln w="0">
            <a:noFill/>
          </a:ln>
        </p:spPr>
      </p:pic>
      <p:grpSp>
        <p:nvGrpSpPr>
          <p:cNvPr id="96" name=""/>
          <p:cNvGrpSpPr/>
          <p:nvPr/>
        </p:nvGrpSpPr>
        <p:grpSpPr>
          <a:xfrm>
            <a:off x="304920" y="1220760"/>
            <a:ext cx="8381880" cy="5170680"/>
            <a:chOff x="304920" y="1220760"/>
            <a:chExt cx="8381880" cy="5170680"/>
          </a:xfrm>
        </p:grpSpPr>
        <p:sp>
          <p:nvSpPr>
            <p:cNvPr id="97" name=""/>
            <p:cNvSpPr/>
            <p:nvPr/>
          </p:nvSpPr>
          <p:spPr>
            <a:xfrm>
              <a:off x="890640" y="1220760"/>
              <a:ext cx="7796160" cy="5170680"/>
            </a:xfrm>
            <a:prstGeom prst="roundRect">
              <a:avLst>
                <a:gd name="adj" fmla="val 12495"/>
              </a:avLst>
            </a:prstGeom>
            <a:solidFill>
              <a:srgbClr val="004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90640" y="1351080"/>
              <a:ext cx="7710480" cy="4952880"/>
            </a:xfrm>
            <a:prstGeom prst="roundRect">
              <a:avLst>
                <a:gd name="adj" fmla="val 12495"/>
              </a:avLst>
            </a:prstGeom>
            <a:solidFill>
              <a:srgbClr val="216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92080" y="1349280"/>
              <a:ext cx="268560" cy="4948200"/>
            </a:xfrm>
            <a:custGeom>
              <a:avLst/>
              <a:gdLst/>
              <a:ahLst/>
              <a:rect l="l" t="t" r="r" b="b"/>
              <a:pathLst>
                <a:path w="169" h="3117">
                  <a:moveTo>
                    <a:pt x="168" y="0"/>
                  </a:moveTo>
                  <a:lnTo>
                    <a:pt x="103" y="14"/>
                  </a:lnTo>
                  <a:lnTo>
                    <a:pt x="49" y="48"/>
                  </a:lnTo>
                  <a:lnTo>
                    <a:pt x="12" y="98"/>
                  </a:lnTo>
                  <a:lnTo>
                    <a:pt x="0" y="156"/>
                  </a:lnTo>
                  <a:lnTo>
                    <a:pt x="0" y="2959"/>
                  </a:lnTo>
                  <a:lnTo>
                    <a:pt x="12" y="3019"/>
                  </a:lnTo>
                  <a:lnTo>
                    <a:pt x="49" y="3070"/>
                  </a:lnTo>
                  <a:lnTo>
                    <a:pt x="103" y="3103"/>
                  </a:lnTo>
                  <a:lnTo>
                    <a:pt x="168" y="3116"/>
                  </a:lnTo>
                  <a:lnTo>
                    <a:pt x="82" y="2979"/>
                  </a:lnTo>
                  <a:lnTo>
                    <a:pt x="82" y="115"/>
                  </a:lnTo>
                  <a:lnTo>
                    <a:pt x="168" y="0"/>
                  </a:lnTo>
                </a:path>
              </a:pathLst>
            </a:custGeom>
            <a:solidFill>
              <a:srgbClr val="80c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598760" y="1666800"/>
              <a:ext cx="6467400" cy="432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74560" y="2946240"/>
              <a:ext cx="906480" cy="1744920"/>
            </a:xfrm>
            <a:custGeom>
              <a:avLst/>
              <a:gdLst/>
              <a:ahLst/>
              <a:rect l="l" t="t" r="r" b="b"/>
              <a:pathLst>
                <a:path w="571" h="1099">
                  <a:moveTo>
                    <a:pt x="0" y="367"/>
                  </a:moveTo>
                  <a:lnTo>
                    <a:pt x="10" y="297"/>
                  </a:lnTo>
                  <a:lnTo>
                    <a:pt x="44" y="230"/>
                  </a:lnTo>
                  <a:lnTo>
                    <a:pt x="90" y="170"/>
                  </a:lnTo>
                  <a:lnTo>
                    <a:pt x="150" y="115"/>
                  </a:lnTo>
                  <a:lnTo>
                    <a:pt x="212" y="69"/>
                  </a:lnTo>
                  <a:lnTo>
                    <a:pt x="277" y="31"/>
                  </a:lnTo>
                  <a:lnTo>
                    <a:pt x="342" y="9"/>
                  </a:lnTo>
                  <a:lnTo>
                    <a:pt x="396" y="0"/>
                  </a:lnTo>
                  <a:lnTo>
                    <a:pt x="461" y="14"/>
                  </a:lnTo>
                  <a:lnTo>
                    <a:pt x="520" y="45"/>
                  </a:lnTo>
                  <a:lnTo>
                    <a:pt x="557" y="96"/>
                  </a:lnTo>
                  <a:lnTo>
                    <a:pt x="564" y="129"/>
                  </a:lnTo>
                  <a:lnTo>
                    <a:pt x="570" y="160"/>
                  </a:lnTo>
                  <a:lnTo>
                    <a:pt x="570" y="937"/>
                  </a:lnTo>
                  <a:lnTo>
                    <a:pt x="564" y="968"/>
                  </a:lnTo>
                  <a:lnTo>
                    <a:pt x="557" y="997"/>
                  </a:lnTo>
                  <a:lnTo>
                    <a:pt x="520" y="1052"/>
                  </a:lnTo>
                  <a:lnTo>
                    <a:pt x="461" y="1083"/>
                  </a:lnTo>
                  <a:lnTo>
                    <a:pt x="432" y="1093"/>
                  </a:lnTo>
                  <a:lnTo>
                    <a:pt x="396" y="1098"/>
                  </a:lnTo>
                  <a:lnTo>
                    <a:pt x="342" y="1088"/>
                  </a:lnTo>
                  <a:lnTo>
                    <a:pt x="277" y="1061"/>
                  </a:lnTo>
                  <a:lnTo>
                    <a:pt x="212" y="1023"/>
                  </a:lnTo>
                  <a:lnTo>
                    <a:pt x="150" y="968"/>
                  </a:lnTo>
                  <a:lnTo>
                    <a:pt x="90" y="908"/>
                  </a:lnTo>
                  <a:lnTo>
                    <a:pt x="44" y="845"/>
                  </a:lnTo>
                  <a:lnTo>
                    <a:pt x="10" y="771"/>
                  </a:lnTo>
                  <a:lnTo>
                    <a:pt x="0" y="701"/>
                  </a:lnTo>
                  <a:lnTo>
                    <a:pt x="0" y="367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74560" y="2962440"/>
              <a:ext cx="906480" cy="1706400"/>
            </a:xfrm>
            <a:custGeom>
              <a:avLst/>
              <a:gdLst/>
              <a:ahLst/>
              <a:rect l="l" t="t" r="r" b="b"/>
              <a:pathLst>
                <a:path w="571" h="1075">
                  <a:moveTo>
                    <a:pt x="0" y="362"/>
                  </a:moveTo>
                  <a:lnTo>
                    <a:pt x="10" y="293"/>
                  </a:lnTo>
                  <a:lnTo>
                    <a:pt x="44" y="223"/>
                  </a:lnTo>
                  <a:lnTo>
                    <a:pt x="90" y="165"/>
                  </a:lnTo>
                  <a:lnTo>
                    <a:pt x="150" y="110"/>
                  </a:lnTo>
                  <a:lnTo>
                    <a:pt x="212" y="64"/>
                  </a:lnTo>
                  <a:lnTo>
                    <a:pt x="277" y="31"/>
                  </a:lnTo>
                  <a:lnTo>
                    <a:pt x="342" y="9"/>
                  </a:lnTo>
                  <a:lnTo>
                    <a:pt x="396" y="0"/>
                  </a:lnTo>
                  <a:lnTo>
                    <a:pt x="461" y="14"/>
                  </a:lnTo>
                  <a:lnTo>
                    <a:pt x="520" y="45"/>
                  </a:lnTo>
                  <a:lnTo>
                    <a:pt x="557" y="96"/>
                  </a:lnTo>
                  <a:lnTo>
                    <a:pt x="564" y="122"/>
                  </a:lnTo>
                  <a:lnTo>
                    <a:pt x="570" y="156"/>
                  </a:lnTo>
                  <a:lnTo>
                    <a:pt x="570" y="917"/>
                  </a:lnTo>
                  <a:lnTo>
                    <a:pt x="564" y="949"/>
                  </a:lnTo>
                  <a:lnTo>
                    <a:pt x="557" y="977"/>
                  </a:lnTo>
                  <a:lnTo>
                    <a:pt x="520" y="1028"/>
                  </a:lnTo>
                  <a:lnTo>
                    <a:pt x="461" y="1059"/>
                  </a:lnTo>
                  <a:lnTo>
                    <a:pt x="396" y="1074"/>
                  </a:lnTo>
                  <a:lnTo>
                    <a:pt x="342" y="1064"/>
                  </a:lnTo>
                  <a:lnTo>
                    <a:pt x="277" y="1042"/>
                  </a:lnTo>
                  <a:lnTo>
                    <a:pt x="212" y="1001"/>
                  </a:lnTo>
                  <a:lnTo>
                    <a:pt x="150" y="949"/>
                  </a:lnTo>
                  <a:lnTo>
                    <a:pt x="90" y="896"/>
                  </a:lnTo>
                  <a:lnTo>
                    <a:pt x="44" y="826"/>
                  </a:lnTo>
                  <a:lnTo>
                    <a:pt x="10" y="756"/>
                  </a:lnTo>
                  <a:lnTo>
                    <a:pt x="0" y="689"/>
                  </a:lnTo>
                  <a:lnTo>
                    <a:pt x="0" y="362"/>
                  </a:lnTo>
                </a:path>
              </a:pathLst>
            </a:cu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74560" y="2978280"/>
              <a:ext cx="906480" cy="1674720"/>
            </a:xfrm>
            <a:custGeom>
              <a:avLst/>
              <a:gdLst/>
              <a:ahLst/>
              <a:rect l="l" t="t" r="r" b="b"/>
              <a:pathLst>
                <a:path w="571" h="1055">
                  <a:moveTo>
                    <a:pt x="0" y="352"/>
                  </a:moveTo>
                  <a:lnTo>
                    <a:pt x="10" y="283"/>
                  </a:lnTo>
                  <a:lnTo>
                    <a:pt x="44" y="218"/>
                  </a:lnTo>
                  <a:lnTo>
                    <a:pt x="90" y="160"/>
                  </a:lnTo>
                  <a:lnTo>
                    <a:pt x="150" y="110"/>
                  </a:lnTo>
                  <a:lnTo>
                    <a:pt x="212" y="62"/>
                  </a:lnTo>
                  <a:lnTo>
                    <a:pt x="277" y="26"/>
                  </a:lnTo>
                  <a:lnTo>
                    <a:pt x="342" y="7"/>
                  </a:lnTo>
                  <a:lnTo>
                    <a:pt x="396" y="0"/>
                  </a:lnTo>
                  <a:lnTo>
                    <a:pt x="461" y="12"/>
                  </a:lnTo>
                  <a:lnTo>
                    <a:pt x="520" y="45"/>
                  </a:lnTo>
                  <a:lnTo>
                    <a:pt x="557" y="96"/>
                  </a:lnTo>
                  <a:lnTo>
                    <a:pt x="564" y="122"/>
                  </a:lnTo>
                  <a:lnTo>
                    <a:pt x="570" y="156"/>
                  </a:lnTo>
                  <a:lnTo>
                    <a:pt x="570" y="897"/>
                  </a:lnTo>
                  <a:lnTo>
                    <a:pt x="564" y="931"/>
                  </a:lnTo>
                  <a:lnTo>
                    <a:pt x="557" y="957"/>
                  </a:lnTo>
                  <a:lnTo>
                    <a:pt x="520" y="1008"/>
                  </a:lnTo>
                  <a:lnTo>
                    <a:pt x="461" y="1041"/>
                  </a:lnTo>
                  <a:lnTo>
                    <a:pt x="396" y="1054"/>
                  </a:lnTo>
                  <a:lnTo>
                    <a:pt x="342" y="1044"/>
                  </a:lnTo>
                  <a:lnTo>
                    <a:pt x="277" y="1022"/>
                  </a:lnTo>
                  <a:lnTo>
                    <a:pt x="212" y="981"/>
                  </a:lnTo>
                  <a:lnTo>
                    <a:pt x="150" y="936"/>
                  </a:lnTo>
                  <a:lnTo>
                    <a:pt x="90" y="876"/>
                  </a:lnTo>
                  <a:lnTo>
                    <a:pt x="44" y="811"/>
                  </a:lnTo>
                  <a:lnTo>
                    <a:pt x="10" y="741"/>
                  </a:lnTo>
                  <a:lnTo>
                    <a:pt x="0" y="674"/>
                  </a:lnTo>
                  <a:lnTo>
                    <a:pt x="0" y="352"/>
                  </a:lnTo>
                </a:path>
              </a:pathLst>
            </a:custGeom>
            <a:solidFill>
              <a:srgbClr val="9292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74560" y="2986200"/>
              <a:ext cx="906480" cy="1652400"/>
            </a:xfrm>
            <a:custGeom>
              <a:avLst/>
              <a:gdLst/>
              <a:ahLst/>
              <a:rect l="l" t="t" r="r" b="b"/>
              <a:pathLst>
                <a:path w="571" h="1041">
                  <a:moveTo>
                    <a:pt x="0" y="348"/>
                  </a:moveTo>
                  <a:lnTo>
                    <a:pt x="10" y="283"/>
                  </a:lnTo>
                  <a:lnTo>
                    <a:pt x="44" y="218"/>
                  </a:lnTo>
                  <a:lnTo>
                    <a:pt x="90" y="158"/>
                  </a:lnTo>
                  <a:lnTo>
                    <a:pt x="150" y="105"/>
                  </a:lnTo>
                  <a:lnTo>
                    <a:pt x="212" y="62"/>
                  </a:lnTo>
                  <a:lnTo>
                    <a:pt x="277" y="26"/>
                  </a:lnTo>
                  <a:lnTo>
                    <a:pt x="342" y="7"/>
                  </a:lnTo>
                  <a:lnTo>
                    <a:pt x="396" y="0"/>
                  </a:lnTo>
                  <a:lnTo>
                    <a:pt x="461" y="12"/>
                  </a:lnTo>
                  <a:lnTo>
                    <a:pt x="520" y="45"/>
                  </a:lnTo>
                  <a:lnTo>
                    <a:pt x="557" y="96"/>
                  </a:lnTo>
                  <a:lnTo>
                    <a:pt x="564" y="122"/>
                  </a:lnTo>
                  <a:lnTo>
                    <a:pt x="570" y="156"/>
                  </a:lnTo>
                  <a:lnTo>
                    <a:pt x="570" y="883"/>
                  </a:lnTo>
                  <a:lnTo>
                    <a:pt x="564" y="917"/>
                  </a:lnTo>
                  <a:lnTo>
                    <a:pt x="557" y="943"/>
                  </a:lnTo>
                  <a:lnTo>
                    <a:pt x="520" y="994"/>
                  </a:lnTo>
                  <a:lnTo>
                    <a:pt x="461" y="1027"/>
                  </a:lnTo>
                  <a:lnTo>
                    <a:pt x="396" y="1040"/>
                  </a:lnTo>
                  <a:lnTo>
                    <a:pt x="342" y="1032"/>
                  </a:lnTo>
                  <a:lnTo>
                    <a:pt x="277" y="1008"/>
                  </a:lnTo>
                  <a:lnTo>
                    <a:pt x="212" y="967"/>
                  </a:lnTo>
                  <a:lnTo>
                    <a:pt x="150" y="922"/>
                  </a:lnTo>
                  <a:lnTo>
                    <a:pt x="90" y="862"/>
                  </a:lnTo>
                  <a:lnTo>
                    <a:pt x="44" y="797"/>
                  </a:lnTo>
                  <a:lnTo>
                    <a:pt x="10" y="732"/>
                  </a:lnTo>
                  <a:lnTo>
                    <a:pt x="0" y="665"/>
                  </a:lnTo>
                  <a:lnTo>
                    <a:pt x="0" y="348"/>
                  </a:lnTo>
                </a:path>
              </a:pathLst>
            </a:cu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74560" y="2998800"/>
              <a:ext cx="906480" cy="1620720"/>
            </a:xfrm>
            <a:custGeom>
              <a:avLst/>
              <a:gdLst/>
              <a:ahLst/>
              <a:rect l="l" t="t" r="r" b="b"/>
              <a:pathLst>
                <a:path w="571" h="1021">
                  <a:moveTo>
                    <a:pt x="0" y="345"/>
                  </a:moveTo>
                  <a:lnTo>
                    <a:pt x="10" y="280"/>
                  </a:lnTo>
                  <a:lnTo>
                    <a:pt x="44" y="216"/>
                  </a:lnTo>
                  <a:lnTo>
                    <a:pt x="90" y="156"/>
                  </a:lnTo>
                  <a:lnTo>
                    <a:pt x="150" y="105"/>
                  </a:lnTo>
                  <a:lnTo>
                    <a:pt x="212" y="60"/>
                  </a:lnTo>
                  <a:lnTo>
                    <a:pt x="277" y="28"/>
                  </a:lnTo>
                  <a:lnTo>
                    <a:pt x="342" y="9"/>
                  </a:lnTo>
                  <a:lnTo>
                    <a:pt x="396" y="0"/>
                  </a:lnTo>
                  <a:lnTo>
                    <a:pt x="461" y="14"/>
                  </a:lnTo>
                  <a:lnTo>
                    <a:pt x="520" y="45"/>
                  </a:lnTo>
                  <a:lnTo>
                    <a:pt x="557" y="93"/>
                  </a:lnTo>
                  <a:lnTo>
                    <a:pt x="564" y="120"/>
                  </a:lnTo>
                  <a:lnTo>
                    <a:pt x="570" y="151"/>
                  </a:lnTo>
                  <a:lnTo>
                    <a:pt x="570" y="873"/>
                  </a:lnTo>
                  <a:lnTo>
                    <a:pt x="564" y="904"/>
                  </a:lnTo>
                  <a:lnTo>
                    <a:pt x="557" y="931"/>
                  </a:lnTo>
                  <a:lnTo>
                    <a:pt x="520" y="979"/>
                  </a:lnTo>
                  <a:lnTo>
                    <a:pt x="461" y="1010"/>
                  </a:lnTo>
                  <a:lnTo>
                    <a:pt x="396" y="1020"/>
                  </a:lnTo>
                  <a:lnTo>
                    <a:pt x="342" y="1010"/>
                  </a:lnTo>
                  <a:lnTo>
                    <a:pt x="277" y="986"/>
                  </a:lnTo>
                  <a:lnTo>
                    <a:pt x="212" y="950"/>
                  </a:lnTo>
                  <a:lnTo>
                    <a:pt x="150" y="904"/>
                  </a:lnTo>
                  <a:lnTo>
                    <a:pt x="90" y="849"/>
                  </a:lnTo>
                  <a:lnTo>
                    <a:pt x="44" y="784"/>
                  </a:lnTo>
                  <a:lnTo>
                    <a:pt x="10" y="720"/>
                  </a:lnTo>
                  <a:lnTo>
                    <a:pt x="0" y="657"/>
                  </a:lnTo>
                  <a:lnTo>
                    <a:pt x="0" y="345"/>
                  </a:lnTo>
                </a:path>
              </a:pathLst>
            </a:cu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74560" y="3011400"/>
              <a:ext cx="906480" cy="1592280"/>
            </a:xfrm>
            <a:custGeom>
              <a:avLst/>
              <a:gdLst/>
              <a:ahLst/>
              <a:rect l="l" t="t" r="r" b="b"/>
              <a:pathLst>
                <a:path w="571" h="1003">
                  <a:moveTo>
                    <a:pt x="0" y="336"/>
                  </a:moveTo>
                  <a:lnTo>
                    <a:pt x="10" y="271"/>
                  </a:lnTo>
                  <a:lnTo>
                    <a:pt x="44" y="211"/>
                  </a:lnTo>
                  <a:lnTo>
                    <a:pt x="90" y="151"/>
                  </a:lnTo>
                  <a:lnTo>
                    <a:pt x="150" y="100"/>
                  </a:lnTo>
                  <a:lnTo>
                    <a:pt x="212" y="60"/>
                  </a:lnTo>
                  <a:lnTo>
                    <a:pt x="277" y="28"/>
                  </a:lnTo>
                  <a:lnTo>
                    <a:pt x="342" y="9"/>
                  </a:lnTo>
                  <a:lnTo>
                    <a:pt x="396" y="0"/>
                  </a:lnTo>
                  <a:lnTo>
                    <a:pt x="461" y="9"/>
                  </a:lnTo>
                  <a:lnTo>
                    <a:pt x="520" y="40"/>
                  </a:lnTo>
                  <a:lnTo>
                    <a:pt x="557" y="88"/>
                  </a:lnTo>
                  <a:lnTo>
                    <a:pt x="564" y="115"/>
                  </a:lnTo>
                  <a:lnTo>
                    <a:pt x="570" y="146"/>
                  </a:lnTo>
                  <a:lnTo>
                    <a:pt x="570" y="855"/>
                  </a:lnTo>
                  <a:lnTo>
                    <a:pt x="557" y="910"/>
                  </a:lnTo>
                  <a:lnTo>
                    <a:pt x="520" y="956"/>
                  </a:lnTo>
                  <a:lnTo>
                    <a:pt x="461" y="987"/>
                  </a:lnTo>
                  <a:lnTo>
                    <a:pt x="396" y="1002"/>
                  </a:lnTo>
                  <a:lnTo>
                    <a:pt x="342" y="992"/>
                  </a:lnTo>
                  <a:lnTo>
                    <a:pt x="277" y="970"/>
                  </a:lnTo>
                  <a:lnTo>
                    <a:pt x="212" y="932"/>
                  </a:lnTo>
                  <a:lnTo>
                    <a:pt x="150" y="886"/>
                  </a:lnTo>
                  <a:lnTo>
                    <a:pt x="90" y="831"/>
                  </a:lnTo>
                  <a:lnTo>
                    <a:pt x="44" y="771"/>
                  </a:lnTo>
                  <a:lnTo>
                    <a:pt x="10" y="708"/>
                  </a:lnTo>
                  <a:lnTo>
                    <a:pt x="0" y="643"/>
                  </a:lnTo>
                  <a:lnTo>
                    <a:pt x="0" y="336"/>
                  </a:lnTo>
                </a:path>
              </a:pathLst>
            </a:custGeom>
            <a:solidFill>
              <a:srgbClr val="aeae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74560" y="3029040"/>
              <a:ext cx="906480" cy="1560600"/>
            </a:xfrm>
            <a:custGeom>
              <a:avLst/>
              <a:gdLst/>
              <a:ahLst/>
              <a:rect l="l" t="t" r="r" b="b"/>
              <a:pathLst>
                <a:path w="571" h="983">
                  <a:moveTo>
                    <a:pt x="0" y="326"/>
                  </a:moveTo>
                  <a:lnTo>
                    <a:pt x="10" y="261"/>
                  </a:lnTo>
                  <a:lnTo>
                    <a:pt x="44" y="201"/>
                  </a:lnTo>
                  <a:lnTo>
                    <a:pt x="90" y="146"/>
                  </a:lnTo>
                  <a:lnTo>
                    <a:pt x="150" y="100"/>
                  </a:lnTo>
                  <a:lnTo>
                    <a:pt x="212" y="60"/>
                  </a:lnTo>
                  <a:lnTo>
                    <a:pt x="277" y="26"/>
                  </a:lnTo>
                  <a:lnTo>
                    <a:pt x="342" y="9"/>
                  </a:lnTo>
                  <a:lnTo>
                    <a:pt x="396" y="0"/>
                  </a:lnTo>
                  <a:lnTo>
                    <a:pt x="461" y="9"/>
                  </a:lnTo>
                  <a:lnTo>
                    <a:pt x="520" y="40"/>
                  </a:lnTo>
                  <a:lnTo>
                    <a:pt x="557" y="86"/>
                  </a:lnTo>
                  <a:lnTo>
                    <a:pt x="564" y="115"/>
                  </a:lnTo>
                  <a:lnTo>
                    <a:pt x="570" y="141"/>
                  </a:lnTo>
                  <a:lnTo>
                    <a:pt x="570" y="835"/>
                  </a:lnTo>
                  <a:lnTo>
                    <a:pt x="564" y="866"/>
                  </a:lnTo>
                  <a:lnTo>
                    <a:pt x="557" y="895"/>
                  </a:lnTo>
                  <a:lnTo>
                    <a:pt x="520" y="941"/>
                  </a:lnTo>
                  <a:lnTo>
                    <a:pt x="461" y="972"/>
                  </a:lnTo>
                  <a:lnTo>
                    <a:pt x="396" y="982"/>
                  </a:lnTo>
                  <a:lnTo>
                    <a:pt x="342" y="972"/>
                  </a:lnTo>
                  <a:lnTo>
                    <a:pt x="277" y="950"/>
                  </a:lnTo>
                  <a:lnTo>
                    <a:pt x="212" y="912"/>
                  </a:lnTo>
                  <a:lnTo>
                    <a:pt x="150" y="866"/>
                  </a:lnTo>
                  <a:lnTo>
                    <a:pt x="90" y="816"/>
                  </a:lnTo>
                  <a:lnTo>
                    <a:pt x="44" y="756"/>
                  </a:lnTo>
                  <a:lnTo>
                    <a:pt x="10" y="693"/>
                  </a:lnTo>
                  <a:lnTo>
                    <a:pt x="0" y="629"/>
                  </a:lnTo>
                  <a:lnTo>
                    <a:pt x="0" y="326"/>
                  </a:lnTo>
                </a:path>
              </a:pathLst>
            </a:custGeom>
            <a:solidFill>
              <a:srgbClr val="b7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74560" y="3043080"/>
              <a:ext cx="906480" cy="1522440"/>
            </a:xfrm>
            <a:custGeom>
              <a:avLst/>
              <a:gdLst/>
              <a:ahLst/>
              <a:rect l="l" t="t" r="r" b="b"/>
              <a:pathLst>
                <a:path w="571" h="959">
                  <a:moveTo>
                    <a:pt x="0" y="321"/>
                  </a:moveTo>
                  <a:lnTo>
                    <a:pt x="10" y="261"/>
                  </a:lnTo>
                  <a:lnTo>
                    <a:pt x="44" y="201"/>
                  </a:lnTo>
                  <a:lnTo>
                    <a:pt x="90" y="146"/>
                  </a:lnTo>
                  <a:lnTo>
                    <a:pt x="150" y="100"/>
                  </a:lnTo>
                  <a:lnTo>
                    <a:pt x="212" y="60"/>
                  </a:lnTo>
                  <a:lnTo>
                    <a:pt x="277" y="26"/>
                  </a:lnTo>
                  <a:lnTo>
                    <a:pt x="342" y="9"/>
                  </a:lnTo>
                  <a:lnTo>
                    <a:pt x="396" y="0"/>
                  </a:lnTo>
                  <a:lnTo>
                    <a:pt x="461" y="9"/>
                  </a:lnTo>
                  <a:lnTo>
                    <a:pt x="520" y="40"/>
                  </a:lnTo>
                  <a:lnTo>
                    <a:pt x="557" y="81"/>
                  </a:lnTo>
                  <a:lnTo>
                    <a:pt x="564" y="110"/>
                  </a:lnTo>
                  <a:lnTo>
                    <a:pt x="570" y="136"/>
                  </a:lnTo>
                  <a:lnTo>
                    <a:pt x="570" y="821"/>
                  </a:lnTo>
                  <a:lnTo>
                    <a:pt x="564" y="847"/>
                  </a:lnTo>
                  <a:lnTo>
                    <a:pt x="557" y="876"/>
                  </a:lnTo>
                  <a:lnTo>
                    <a:pt x="520" y="917"/>
                  </a:lnTo>
                  <a:lnTo>
                    <a:pt x="461" y="950"/>
                  </a:lnTo>
                  <a:lnTo>
                    <a:pt x="396" y="958"/>
                  </a:lnTo>
                  <a:lnTo>
                    <a:pt x="342" y="950"/>
                  </a:lnTo>
                  <a:lnTo>
                    <a:pt x="277" y="926"/>
                  </a:lnTo>
                  <a:lnTo>
                    <a:pt x="212" y="895"/>
                  </a:lnTo>
                  <a:lnTo>
                    <a:pt x="150" y="847"/>
                  </a:lnTo>
                  <a:lnTo>
                    <a:pt x="90" y="797"/>
                  </a:lnTo>
                  <a:lnTo>
                    <a:pt x="44" y="739"/>
                  </a:lnTo>
                  <a:lnTo>
                    <a:pt x="10" y="679"/>
                  </a:lnTo>
                  <a:lnTo>
                    <a:pt x="0" y="614"/>
                  </a:lnTo>
                  <a:lnTo>
                    <a:pt x="0" y="321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109520" y="3041640"/>
              <a:ext cx="254160" cy="2174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117440" y="3041640"/>
              <a:ext cx="230400" cy="217440"/>
            </a:xfrm>
            <a:prstGeom prst="ellipse">
              <a:avLst/>
            </a:prstGeom>
            <a:solidFill>
              <a:srgbClr val="1b1b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117440" y="3041640"/>
              <a:ext cx="222480" cy="201600"/>
            </a:xfrm>
            <a:prstGeom prst="ellipse">
              <a:avLst/>
            </a:prstGeom>
            <a:solidFill>
              <a:srgbClr val="3737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117440" y="3049560"/>
              <a:ext cx="212760" cy="193680"/>
            </a:xfrm>
            <a:prstGeom prst="ellipse">
              <a:avLst/>
            </a:prstGeom>
            <a:solidFill>
              <a:srgbClr val="525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17440" y="3049560"/>
              <a:ext cx="204840" cy="187200"/>
            </a:xfrm>
            <a:prstGeom prst="ellipse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117440" y="3049560"/>
              <a:ext cx="196920" cy="182520"/>
            </a:xfrm>
            <a:prstGeom prst="ellipse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117440" y="3049560"/>
              <a:ext cx="189000" cy="174600"/>
            </a:xfrm>
            <a:prstGeom prst="ellipse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125360" y="3057480"/>
              <a:ext cx="165240" cy="15228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109520" y="4410000"/>
              <a:ext cx="254160" cy="2253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117440" y="4410000"/>
              <a:ext cx="230400" cy="212760"/>
            </a:xfrm>
            <a:prstGeom prst="ellipse">
              <a:avLst/>
            </a:prstGeom>
            <a:solidFill>
              <a:srgbClr val="1b1b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117440" y="4417920"/>
              <a:ext cx="222480" cy="204840"/>
            </a:xfrm>
            <a:prstGeom prst="ellipse">
              <a:avLst/>
            </a:prstGeom>
            <a:solidFill>
              <a:srgbClr val="3737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117440" y="4417920"/>
              <a:ext cx="212760" cy="198360"/>
            </a:xfrm>
            <a:prstGeom prst="ellipse">
              <a:avLst/>
            </a:prstGeom>
            <a:solidFill>
              <a:srgbClr val="525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117440" y="4417920"/>
              <a:ext cx="204840" cy="190440"/>
            </a:xfrm>
            <a:prstGeom prst="ellipse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117440" y="4425840"/>
              <a:ext cx="196920" cy="166680"/>
            </a:xfrm>
            <a:prstGeom prst="ellipse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117440" y="4425840"/>
              <a:ext cx="189000" cy="166680"/>
            </a:xfrm>
            <a:prstGeom prst="ellipse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125360" y="4425840"/>
              <a:ext cx="165240" cy="15876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04920" y="2541600"/>
              <a:ext cx="1431720" cy="2535120"/>
            </a:xfrm>
            <a:custGeom>
              <a:avLst/>
              <a:gdLst/>
              <a:ahLst/>
              <a:rect l="l" t="t" r="r" b="b"/>
              <a:pathLst>
                <a:path w="902" h="1597">
                  <a:moveTo>
                    <a:pt x="0" y="614"/>
                  </a:moveTo>
                  <a:lnTo>
                    <a:pt x="401" y="504"/>
                  </a:lnTo>
                  <a:lnTo>
                    <a:pt x="714" y="537"/>
                  </a:lnTo>
                  <a:lnTo>
                    <a:pt x="714" y="50"/>
                  </a:lnTo>
                  <a:lnTo>
                    <a:pt x="901" y="0"/>
                  </a:lnTo>
                  <a:lnTo>
                    <a:pt x="901" y="1596"/>
                  </a:lnTo>
                  <a:lnTo>
                    <a:pt x="714" y="1569"/>
                  </a:lnTo>
                  <a:lnTo>
                    <a:pt x="714" y="1077"/>
                  </a:lnTo>
                  <a:lnTo>
                    <a:pt x="401" y="1111"/>
                  </a:lnTo>
                  <a:lnTo>
                    <a:pt x="0" y="996"/>
                  </a:lnTo>
                  <a:lnTo>
                    <a:pt x="0" y="614"/>
                  </a:lnTo>
                </a:path>
              </a:pathLst>
            </a:custGeom>
            <a:solidFill>
              <a:srgbClr val="c0c0c0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725480" y="2523960"/>
              <a:ext cx="95400" cy="25718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51000" y="3411360"/>
              <a:ext cx="618840" cy="839880"/>
            </a:xfrm>
            <a:custGeom>
              <a:avLst/>
              <a:gdLst/>
              <a:ahLst/>
              <a:rect l="l" t="t" r="r" b="b"/>
              <a:pathLst>
                <a:path w="390" h="529">
                  <a:moveTo>
                    <a:pt x="389" y="0"/>
                  </a:moveTo>
                  <a:lnTo>
                    <a:pt x="0" y="96"/>
                  </a:lnTo>
                  <a:lnTo>
                    <a:pt x="5" y="436"/>
                  </a:lnTo>
                  <a:lnTo>
                    <a:pt x="383" y="528"/>
                  </a:lnTo>
                  <a:lnTo>
                    <a:pt x="59" y="405"/>
                  </a:lnTo>
                  <a:lnTo>
                    <a:pt x="59" y="115"/>
                  </a:lnTo>
                  <a:lnTo>
                    <a:pt x="389" y="0"/>
                  </a:lnTo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49360" y="3586320"/>
              <a:ext cx="65160" cy="502920"/>
            </a:xfrm>
            <a:custGeom>
              <a:avLst/>
              <a:gdLst>
                <a:gd name="textAreaLeft" fmla="*/ 2160 w 65160"/>
                <a:gd name="textAreaRight" fmla="*/ 63000 w 65160"/>
                <a:gd name="textAreaTop" fmla="*/ 2160 h 502920"/>
                <a:gd name="textAreaBottom" fmla="*/ 500760 h 502920"/>
              </a:gdLst>
              <a:ahLst/>
              <a:rect l="textAreaLeft" t="textAreaTop" r="textAreaRight" b="textAreaBottom"/>
              <a:pathLst>
                <a:path w="21600" h="165916">
                  <a:moveTo>
                    <a:pt x="2699" y="0"/>
                  </a:moveTo>
                  <a:arcTo wR="2699" hR="2699" stAng="16200000" swAng="-5400000"/>
                  <a:lnTo>
                    <a:pt x="0" y="163217"/>
                  </a:lnTo>
                  <a:arcTo wR="2699" hR="2699" stAng="10800000" swAng="-5400000"/>
                  <a:lnTo>
                    <a:pt x="18901" y="165916"/>
                  </a:lnTo>
                  <a:arcTo wR="2699" hR="2699" stAng="5400000" swAng="-5400000"/>
                  <a:lnTo>
                    <a:pt x="21600" y="2699"/>
                  </a:lnTo>
                  <a:arcTo wR="2699" hR="2699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41440" y="3586320"/>
              <a:ext cx="65160" cy="502920"/>
            </a:xfrm>
            <a:custGeom>
              <a:avLst/>
              <a:gdLst>
                <a:gd name="textAreaLeft" fmla="*/ 2160 w 65160"/>
                <a:gd name="textAreaRight" fmla="*/ 63000 w 65160"/>
                <a:gd name="textAreaTop" fmla="*/ 2160 h 502920"/>
                <a:gd name="textAreaBottom" fmla="*/ 500760 h 502920"/>
              </a:gdLst>
              <a:ahLst/>
              <a:rect l="textAreaLeft" t="textAreaTop" r="textAreaRight" b="textAreaBottom"/>
              <a:pathLst>
                <a:path w="21600" h="165916">
                  <a:moveTo>
                    <a:pt x="2699" y="0"/>
                  </a:moveTo>
                  <a:arcTo wR="2699" hR="2699" stAng="16200000" swAng="-5400000"/>
                  <a:lnTo>
                    <a:pt x="0" y="163217"/>
                  </a:lnTo>
                  <a:arcTo wR="2699" hR="2699" stAng="10800000" swAng="-5400000"/>
                  <a:lnTo>
                    <a:pt x="18901" y="165916"/>
                  </a:lnTo>
                  <a:arcTo wR="2699" hR="2699" stAng="5400000" swAng="-5400000"/>
                  <a:lnTo>
                    <a:pt x="21600" y="2699"/>
                  </a:lnTo>
                  <a:arcTo wR="2699" hR="2699" stAng="0" swAng="-5400000"/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52320" y="3586320"/>
              <a:ext cx="65160" cy="502920"/>
            </a:xfrm>
            <a:custGeom>
              <a:avLst/>
              <a:gdLst>
                <a:gd name="textAreaLeft" fmla="*/ 2160 w 65160"/>
                <a:gd name="textAreaRight" fmla="*/ 63000 w 65160"/>
                <a:gd name="textAreaTop" fmla="*/ 2160 h 502920"/>
                <a:gd name="textAreaBottom" fmla="*/ 500760 h 502920"/>
              </a:gdLst>
              <a:ahLst/>
              <a:rect l="textAreaLeft" t="textAreaTop" r="textAreaRight" b="textAreaBottom"/>
              <a:pathLst>
                <a:path w="21600" h="165916">
                  <a:moveTo>
                    <a:pt x="2699" y="0"/>
                  </a:moveTo>
                  <a:arcTo wR="2699" hR="2699" stAng="16200000" swAng="-5400000"/>
                  <a:lnTo>
                    <a:pt x="0" y="163217"/>
                  </a:lnTo>
                  <a:arcTo wR="2699" hR="2699" stAng="10800000" swAng="-5400000"/>
                  <a:lnTo>
                    <a:pt x="18901" y="165916"/>
                  </a:lnTo>
                  <a:arcTo wR="2699" hR="2699" stAng="5400000" swAng="-5400000"/>
                  <a:lnTo>
                    <a:pt x="21600" y="2699"/>
                  </a:lnTo>
                  <a:arcTo wR="2699" hR="2699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44400" y="3586320"/>
              <a:ext cx="65160" cy="502920"/>
            </a:xfrm>
            <a:custGeom>
              <a:avLst/>
              <a:gdLst>
                <a:gd name="textAreaLeft" fmla="*/ 2160 w 65160"/>
                <a:gd name="textAreaRight" fmla="*/ 63000 w 65160"/>
                <a:gd name="textAreaTop" fmla="*/ 2160 h 502920"/>
                <a:gd name="textAreaBottom" fmla="*/ 500760 h 502920"/>
              </a:gdLst>
              <a:ahLst/>
              <a:rect l="textAreaLeft" t="textAreaTop" r="textAreaRight" b="textAreaBottom"/>
              <a:pathLst>
                <a:path w="21600" h="165916">
                  <a:moveTo>
                    <a:pt x="2699" y="0"/>
                  </a:moveTo>
                  <a:arcTo wR="2699" hR="2699" stAng="16200000" swAng="-5400000"/>
                  <a:lnTo>
                    <a:pt x="0" y="163217"/>
                  </a:lnTo>
                  <a:arcTo wR="2699" hR="2699" stAng="10800000" swAng="-5400000"/>
                  <a:lnTo>
                    <a:pt x="18901" y="165916"/>
                  </a:lnTo>
                  <a:arcTo wR="2699" hR="2699" stAng="5400000" swAng="-5400000"/>
                  <a:lnTo>
                    <a:pt x="21600" y="2699"/>
                  </a:lnTo>
                  <a:arcTo wR="2699" hR="2699" stAng="0" swAng="-5400000"/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58880" y="3586320"/>
              <a:ext cx="65160" cy="502920"/>
            </a:xfrm>
            <a:custGeom>
              <a:avLst/>
              <a:gdLst>
                <a:gd name="textAreaLeft" fmla="*/ 2160 w 65160"/>
                <a:gd name="textAreaRight" fmla="*/ 63000 w 65160"/>
                <a:gd name="textAreaTop" fmla="*/ 2160 h 502920"/>
                <a:gd name="textAreaBottom" fmla="*/ 500760 h 502920"/>
              </a:gdLst>
              <a:ahLst/>
              <a:rect l="textAreaLeft" t="textAreaTop" r="textAreaRight" b="textAreaBottom"/>
              <a:pathLst>
                <a:path w="21600" h="165916">
                  <a:moveTo>
                    <a:pt x="2699" y="0"/>
                  </a:moveTo>
                  <a:arcTo wR="2699" hR="2699" stAng="16200000" swAng="-5400000"/>
                  <a:lnTo>
                    <a:pt x="0" y="163217"/>
                  </a:lnTo>
                  <a:arcTo wR="2699" hR="2699" stAng="10800000" swAng="-5400000"/>
                  <a:lnTo>
                    <a:pt x="18901" y="165916"/>
                  </a:lnTo>
                  <a:arcTo wR="2699" hR="2699" stAng="5400000" swAng="-5400000"/>
                  <a:lnTo>
                    <a:pt x="21600" y="2699"/>
                  </a:lnTo>
                  <a:arcTo wR="2699" hR="2699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68240" y="3586320"/>
              <a:ext cx="65160" cy="502920"/>
            </a:xfrm>
            <a:custGeom>
              <a:avLst/>
              <a:gdLst>
                <a:gd name="textAreaLeft" fmla="*/ 2160 w 65160"/>
                <a:gd name="textAreaRight" fmla="*/ 63000 w 65160"/>
                <a:gd name="textAreaTop" fmla="*/ 2160 h 502920"/>
                <a:gd name="textAreaBottom" fmla="*/ 500760 h 502920"/>
              </a:gdLst>
              <a:ahLst/>
              <a:rect l="textAreaLeft" t="textAreaTop" r="textAreaRight" b="textAreaBottom"/>
              <a:pathLst>
                <a:path w="21600" h="165916">
                  <a:moveTo>
                    <a:pt x="2699" y="0"/>
                  </a:moveTo>
                  <a:arcTo wR="2699" hR="2699" stAng="16200000" swAng="-5400000"/>
                  <a:lnTo>
                    <a:pt x="0" y="163217"/>
                  </a:lnTo>
                  <a:arcTo wR="2699" hR="2699" stAng="10800000" swAng="-5400000"/>
                  <a:lnTo>
                    <a:pt x="18901" y="165916"/>
                  </a:lnTo>
                  <a:arcTo wR="2699" hR="2699" stAng="5400000" swAng="-5400000"/>
                  <a:lnTo>
                    <a:pt x="21600" y="2699"/>
                  </a:lnTo>
                  <a:arcTo wR="2699" hR="2699" stAng="0" swAng="-5400000"/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871560" y="3484440"/>
              <a:ext cx="65160" cy="700200"/>
            </a:xfrm>
            <a:custGeom>
              <a:avLst/>
              <a:gdLst>
                <a:gd name="textAreaLeft" fmla="*/ 2160 w 65160"/>
                <a:gd name="textAreaRight" fmla="*/ 63000 w 65160"/>
                <a:gd name="textAreaTop" fmla="*/ 2160 h 700200"/>
                <a:gd name="textAreaBottom" fmla="*/ 698040 h 700200"/>
              </a:gdLst>
              <a:ahLst/>
              <a:rect l="textAreaLeft" t="textAreaTop" r="textAreaRight" b="textAreaBottom"/>
              <a:pathLst>
                <a:path w="21600" h="230954">
                  <a:moveTo>
                    <a:pt x="2699" y="0"/>
                  </a:moveTo>
                  <a:arcTo wR="2699" hR="2699" stAng="16200000" swAng="-5400000"/>
                  <a:lnTo>
                    <a:pt x="0" y="228255"/>
                  </a:lnTo>
                  <a:arcTo wR="2699" hR="2699" stAng="10800000" swAng="-5400000"/>
                  <a:lnTo>
                    <a:pt x="18901" y="230954"/>
                  </a:lnTo>
                  <a:arcTo wR="2699" hR="2699" stAng="5400000" swAng="-5400000"/>
                  <a:lnTo>
                    <a:pt x="21600" y="2699"/>
                  </a:lnTo>
                  <a:arcTo wR="2699" hR="2699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879480" y="3484440"/>
              <a:ext cx="65160" cy="700200"/>
            </a:xfrm>
            <a:custGeom>
              <a:avLst/>
              <a:gdLst>
                <a:gd name="textAreaLeft" fmla="*/ 2160 w 65160"/>
                <a:gd name="textAreaRight" fmla="*/ 63000 w 65160"/>
                <a:gd name="textAreaTop" fmla="*/ 2160 h 700200"/>
                <a:gd name="textAreaBottom" fmla="*/ 698040 h 700200"/>
              </a:gdLst>
              <a:ahLst/>
              <a:rect l="textAreaLeft" t="textAreaTop" r="textAreaRight" b="textAreaBottom"/>
              <a:pathLst>
                <a:path w="21600" h="230954">
                  <a:moveTo>
                    <a:pt x="2699" y="0"/>
                  </a:moveTo>
                  <a:arcTo wR="2699" hR="2699" stAng="16200000" swAng="-5400000"/>
                  <a:lnTo>
                    <a:pt x="0" y="228255"/>
                  </a:lnTo>
                  <a:arcTo wR="2699" hR="2699" stAng="10800000" swAng="-5400000"/>
                  <a:lnTo>
                    <a:pt x="18901" y="230954"/>
                  </a:lnTo>
                  <a:arcTo wR="2699" hR="2699" stAng="5400000" swAng="-5400000"/>
                  <a:lnTo>
                    <a:pt x="21600" y="2699"/>
                  </a:lnTo>
                  <a:arcTo wR="2699" hR="2699" stAng="0" swAng="-5400000"/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988920" y="3484440"/>
              <a:ext cx="66600" cy="700200"/>
            </a:xfrm>
            <a:custGeom>
              <a:avLst/>
              <a:gdLst>
                <a:gd name="textAreaLeft" fmla="*/ 2160 w 66600"/>
                <a:gd name="textAreaRight" fmla="*/ 64440 w 66600"/>
                <a:gd name="textAreaTop" fmla="*/ 2160 h 700200"/>
                <a:gd name="textAreaBottom" fmla="*/ 698040 h 700200"/>
              </a:gdLst>
              <a:ahLst/>
              <a:rect l="textAreaLeft" t="textAreaTop" r="textAreaRight" b="textAreaBottom"/>
              <a:pathLst>
                <a:path w="21600" h="225987">
                  <a:moveTo>
                    <a:pt x="2699" y="0"/>
                  </a:moveTo>
                  <a:arcTo wR="2699" hR="2699" stAng="16200000" swAng="-5400000"/>
                  <a:lnTo>
                    <a:pt x="0" y="223288"/>
                  </a:lnTo>
                  <a:arcTo wR="2699" hR="2699" stAng="10800000" swAng="-5400000"/>
                  <a:lnTo>
                    <a:pt x="18901" y="225987"/>
                  </a:lnTo>
                  <a:arcTo wR="2699" hR="2699" stAng="5400000" swAng="-5400000"/>
                  <a:lnTo>
                    <a:pt x="21600" y="2699"/>
                  </a:lnTo>
                  <a:arcTo wR="2699" hR="2699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988920" y="3484440"/>
              <a:ext cx="66600" cy="700200"/>
            </a:xfrm>
            <a:custGeom>
              <a:avLst/>
              <a:gdLst>
                <a:gd name="textAreaLeft" fmla="*/ 2160 w 66600"/>
                <a:gd name="textAreaRight" fmla="*/ 64440 w 66600"/>
                <a:gd name="textAreaTop" fmla="*/ 2160 h 700200"/>
                <a:gd name="textAreaBottom" fmla="*/ 698040 h 700200"/>
              </a:gdLst>
              <a:ahLst/>
              <a:rect l="textAreaLeft" t="textAreaTop" r="textAreaRight" b="textAreaBottom"/>
              <a:pathLst>
                <a:path w="21600" h="225987">
                  <a:moveTo>
                    <a:pt x="2699" y="0"/>
                  </a:moveTo>
                  <a:arcTo wR="2699" hR="2699" stAng="16200000" swAng="-5400000"/>
                  <a:lnTo>
                    <a:pt x="0" y="223288"/>
                  </a:lnTo>
                  <a:arcTo wR="2699" hR="2699" stAng="10800000" swAng="-5400000"/>
                  <a:lnTo>
                    <a:pt x="18901" y="225987"/>
                  </a:lnTo>
                  <a:arcTo wR="2699" hR="2699" stAng="5400000" swAng="-5400000"/>
                  <a:lnTo>
                    <a:pt x="21600" y="2699"/>
                  </a:lnTo>
                  <a:arcTo wR="2699" hR="2699" stAng="0" swAng="-5400000"/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100160" y="3484440"/>
              <a:ext cx="68400" cy="700200"/>
            </a:xfrm>
            <a:custGeom>
              <a:avLst/>
              <a:gdLst>
                <a:gd name="textAreaLeft" fmla="*/ 2160 w 68400"/>
                <a:gd name="textAreaRight" fmla="*/ 66240 w 68400"/>
                <a:gd name="textAreaTop" fmla="*/ 2160 h 700200"/>
                <a:gd name="textAreaBottom" fmla="*/ 698040 h 700200"/>
              </a:gdLst>
              <a:ahLst/>
              <a:rect l="textAreaLeft" t="textAreaTop" r="textAreaRight" b="textAreaBottom"/>
              <a:pathLst>
                <a:path w="21600" h="220071">
                  <a:moveTo>
                    <a:pt x="2699" y="0"/>
                  </a:moveTo>
                  <a:arcTo wR="2699" hR="2699" stAng="16200000" swAng="-5400000"/>
                  <a:lnTo>
                    <a:pt x="0" y="217372"/>
                  </a:lnTo>
                  <a:arcTo wR="2699" hR="2699" stAng="10800000" swAng="-5400000"/>
                  <a:lnTo>
                    <a:pt x="18901" y="220071"/>
                  </a:lnTo>
                  <a:arcTo wR="2699" hR="2699" stAng="5400000" swAng="-5400000"/>
                  <a:lnTo>
                    <a:pt x="21600" y="2699"/>
                  </a:lnTo>
                  <a:arcTo wR="2699" hR="2699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100160" y="3484440"/>
              <a:ext cx="68400" cy="700200"/>
            </a:xfrm>
            <a:custGeom>
              <a:avLst/>
              <a:gdLst>
                <a:gd name="textAreaLeft" fmla="*/ 2160 w 68400"/>
                <a:gd name="textAreaRight" fmla="*/ 66240 w 68400"/>
                <a:gd name="textAreaTop" fmla="*/ 2160 h 700200"/>
                <a:gd name="textAreaBottom" fmla="*/ 698040 h 700200"/>
              </a:gdLst>
              <a:ahLst/>
              <a:rect l="textAreaLeft" t="textAreaTop" r="textAreaRight" b="textAreaBottom"/>
              <a:pathLst>
                <a:path w="21600" h="220071">
                  <a:moveTo>
                    <a:pt x="2699" y="0"/>
                  </a:moveTo>
                  <a:arcTo wR="2699" hR="2699" stAng="16200000" swAng="-5400000"/>
                  <a:lnTo>
                    <a:pt x="0" y="217372"/>
                  </a:lnTo>
                  <a:arcTo wR="2699" hR="2699" stAng="10800000" swAng="-5400000"/>
                  <a:lnTo>
                    <a:pt x="18901" y="220071"/>
                  </a:lnTo>
                  <a:arcTo wR="2699" hR="2699" stAng="5400000" swAng="-5400000"/>
                  <a:lnTo>
                    <a:pt x="21600" y="2699"/>
                  </a:lnTo>
                  <a:arcTo wR="2699" hR="2699" stAng="0" swAng="-5400000"/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Impact"/>
              </a:rPr>
              <a:t>Task Lis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820880" y="2460600"/>
            <a:ext cx="6346800" cy="33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685800" indent="-628560">
              <a:lnSpc>
                <a:spcPct val="1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0) Get a grip on securit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628560">
              <a:lnSpc>
                <a:spcPct val="1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1) Home Banking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628560">
              <a:lnSpc>
                <a:spcPct val="1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2) Secure Messaging Cli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848240" y="-71280"/>
            <a:ext cx="13834080" cy="9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ÂrÒÞú/{N`_x0006__x0007_v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’¥á_x0005_Šqª8_x001f_¤_x0017_ _x001e_á_x0007_ìÃù_x0019_Bñƒ~§_x0016_‘²y_x001f_û{Oáÿ¤P×DÉ_x001f_%iâ4_x0013_ù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{/_x001e_Œú‡&amp;_x001d__x001c_BC+\_x0008__x001e_Ì™¼Òk±áŸ±5|_x001f__x0003_Ð D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ÚN¢ˆ_x0006_2šI”"@_x001c_¨ÓÎ_x0002_ÀxÕ`­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#K]_x0015_r·G¥ì•ûÈÉ©¡d5þfÌë0‡:„_x0002_®G_x0017_Bi8_x0013_ïû( ¤DG¹Ü±–yQéÂ_x0006__x001d_Aš:K…E»E(L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`°_x0018_÷_x001c_÷_PÌ#A{fØ˜Ì—´DêC3S´= _x0004_Šê)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_x0006_î…‚ Zwø„Ûá¥×&gt;³¬&amp;—Ú«A_x0011_Â_x0006_ÄuÍª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ÖüTOµƒ‘A[tiBçw±ð_x0013_ÇõkfxCUF½qx2t¸¬_•(4s/_x0002_|9öÍ_x0017_ù_x001c_7¯)Šù_x000f_«™Çóà÷’)&amp;Ó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_x001e_&gt;„Èêô¥ÈGP¾_x001b__x001a_šn¿yk¹tq /õx¡Ô»Öüf_p¥ê'A®À¤‹Ü4Œ D’z_x001a_¡Ôn§Õ5øëÿ]T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&gt;ªÄa&amp;_x0012_}”x_x0016_Gó¹âÄÐ_x0005_f©ß\›á„½_x001b_]_x0018_0ôÂ9mb_x0006_×u4'­Œ_x0018_0G_x000f_Ý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¿«7•_x001f_²~Æ¯¯;yMö_x0015_ÉmR,’I?ª*IùëFðÔ1å…­ý=&amp;¥_x001a__Ö§^ l²d¥Ôì+ ‡»ë_x0005_þ£Hì«±k‰8_x000c_;ë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¿’sØÔ‡°hŒÃß6ˆ_x001b_£d‚í_x001d_»_x000f_™N¯_x0002__x0015_é)šÉ·h1þe_x0004__x0005_A_x000c_•$‚ _x0010_R«l\jÔ°ÏÏ__x0002_3±_x0012_4_x0002_7©PÓ2gæ›·Ê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_x0006_â‚½+N Çþ«]¬’£s=_x0011_f‡4ÜÂrÒÞú/{N`_x0006__x0007_v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’¥á_x0005_Šqª8_x001f_¤_x0017_ _x001e_á_x0007_ìÃù_x0019_Bñƒ~§_x0016_‘²y_x001f_û{Oáÿ¤P×DÉ_x001f_%iâ4_x0013_ù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{/_x001e_Œú‡&amp;_x001d__x001c_BC+\_x0008__x001e_Ì™¼Òk±áŸ±5|_x001f__x0003_Ð D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ÚN¢ˆ_x0006_2šI”"@_x001c_¨ÓÎ_x0002_ÀxÕ`­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#K]_x0015_r·G¥ì•ûÈÉ©¡d5þfÌë0‡:„_x0002_®G_x0017_Bi8_x0013_ïû( ¤DG¹Ü±–yQéÂ_x0006__x001d_Aš:K…E»E(L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`°_x0018_÷_x001c_÷_PÌ#A{fØ˜Ì—´DêC3S´= _x0004_Šê)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_x0006_î…‚ Zwø„Ûá¥×&gt;³¬&amp;—Ú«A_x0011_Â_x0006_ÄuÍª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ÖüTOµƒ‘A[tiBçw±ð_x0013_ÇõkfxCUF½qx2t¸¬_•(4s/_x0002_|9öÍ_x0017_ù_x001c_7¯)Šù_x000f_«™Çóà÷’)&amp;Ó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_x001e_&gt;„Èêô¥ÈGP¾_x001b__x001a_šn¿yk¹tq /õx¡Ô»Öüf_p¥ê'A®À¤‹Ü4Œ D’z_x001a_¡Ôn§Õ5øëÿ]T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&gt;ªÄa&amp;_x0012_}”x_x0016_Gó¹âÄÐ_x0005_f©ß\›á„½_x001b_]_x0018_0ôÂ9mb_x0006_×u4'­Œ_x0018_0G_x000f_Ý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¿«7•_x001f_²~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Æ¯¯;yMö_x0015_ÉmR,’I?ª*IùëFðÔ1å…­ý=&amp;¥_x001a__Ö§^ l²d¥Ôì+ ‡»ë_x0005_þ£Hì«±k‰8_x000c_;ë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¿’sØÔ‡°hŒÃß6ˆ_x001b_£d‚í_x001d_»_x000f_™N¯_x0002__x0015_é)šÉ·h1þe_x0004__x0005_A_x000c_•$‚ _x0010_R«l\jÔ°ÏÏ__x0002_3±_x0012_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_x0002_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©PÓ2gæ›·Ê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_x0006_â‚½+N Çþ«]¬’£s=_x0011_f‡4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7543800" cy="68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ompetitive Strategy/ Cryptography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49000" y="1219320"/>
            <a:ext cx="826596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96880" y="609480"/>
            <a:ext cx="7861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96880" y="1981080"/>
            <a:ext cx="78613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5f5f5f"/>
              </a:buClr>
              <a:buFont typeface="Times New Roma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5f5f5f"/>
              </a:buClr>
              <a:buFont typeface="Times New Roma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at is Cryptograph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57840" y="2384280"/>
            <a:ext cx="3330720" cy="19227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yptographer’s 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va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Integ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hent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-Repudi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712760" y="2384280"/>
            <a:ext cx="3335040" cy="19227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siness 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ust/Com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aud Prot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ent/Authent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uarantee/Recour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7543800" cy="68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ompetitive Strategy/ Cryptography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49000" y="1219320"/>
            <a:ext cx="826596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49360" y="4552920"/>
            <a:ext cx="801360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2171880" indent="-2171880">
              <a:lnSpc>
                <a:spcPct val="100000"/>
              </a:lnSpc>
              <a:spcBef>
                <a:spcPts val="1125"/>
              </a:spcBef>
              <a:buClr>
                <a:srgbClr val="5f5f5f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3120" y="5753160"/>
            <a:ext cx="8013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48000"/>
          </a:bodyPr>
          <a:p>
            <a:pPr marL="1042200" indent="-1042200">
              <a:lnSpc>
                <a:spcPct val="100000"/>
              </a:lnSpc>
              <a:spcBef>
                <a:spcPts val="1500"/>
              </a:spcBef>
              <a:buClr>
                <a:srgbClr val="5f5f5f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42200" indent="-1042200">
              <a:lnSpc>
                <a:spcPct val="100000"/>
              </a:lnSpc>
              <a:spcBef>
                <a:spcPts val="1500"/>
              </a:spcBef>
              <a:buClr>
                <a:srgbClr val="5f5f5f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42200" indent="-1042200">
              <a:lnSpc>
                <a:spcPct val="100000"/>
              </a:lnSpc>
              <a:spcBef>
                <a:spcPts val="1500"/>
              </a:spcBef>
              <a:buClr>
                <a:srgbClr val="5f5f5f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96880" y="609480"/>
            <a:ext cx="7861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6348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pping Concepts to Practices - Cryptographic Analo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04920" y="2325600"/>
            <a:ext cx="3863880" cy="14950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Cryptographic Construc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igital Envelop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igital Signatur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igital Certificat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240080" y="2325600"/>
            <a:ext cx="4499280" cy="14950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rivacy, Protectio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ssent, Authorization, Integrit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dentit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2819520"/>
            <a:ext cx="533520" cy="228600"/>
          </a:xfrm>
          <a:prstGeom prst="rightArrow">
            <a:avLst>
              <a:gd name="adj1" fmla="val 50000"/>
              <a:gd name="adj2" fmla="val 58346"/>
            </a:avLst>
          </a:prstGeom>
          <a:solidFill>
            <a:srgbClr val="8cc6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3200400"/>
            <a:ext cx="533520" cy="228600"/>
          </a:xfrm>
          <a:prstGeom prst="rightArrow">
            <a:avLst>
              <a:gd name="adj1" fmla="val 50000"/>
              <a:gd name="adj2" fmla="val 58346"/>
            </a:avLst>
          </a:prstGeom>
          <a:solidFill>
            <a:srgbClr val="8cc6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29000" y="3505320"/>
            <a:ext cx="533520" cy="228600"/>
          </a:xfrm>
          <a:prstGeom prst="rightArrow">
            <a:avLst>
              <a:gd name="adj1" fmla="val 50000"/>
              <a:gd name="adj2" fmla="val 58346"/>
            </a:avLst>
          </a:prstGeom>
          <a:solidFill>
            <a:srgbClr val="8cc6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289160" y="-360"/>
            <a:ext cx="775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Building in Security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RSA%20BSAFE%20diagram1" descr=""/>
          <p:cNvPicPr/>
          <p:nvPr/>
        </p:nvPicPr>
        <p:blipFill>
          <a:blip r:embed="rId1"/>
          <a:stretch/>
        </p:blipFill>
        <p:spPr>
          <a:xfrm>
            <a:off x="765000" y="1973160"/>
            <a:ext cx="7764480" cy="333720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28600" y="204840"/>
            <a:ext cx="8709120" cy="68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side a Crypto Stack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74200" y="1234800"/>
            <a:ext cx="83883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0">
              <a:spcBef>
                <a:spcPts val="174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1c1c1c"/>
              </a:solidFill>
              <a:latin typeface="Arial"/>
            </a:endParaRPr>
          </a:p>
          <a:p>
            <a:pPr marL="230040" indent="0">
              <a:spcBef>
                <a:spcPts val="174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27200" y="1387440"/>
            <a:ext cx="838836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marL="230040" indent="-230040">
              <a:spcBef>
                <a:spcPts val="1749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1749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1749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CryptoC%20framework" descr=""/>
          <p:cNvPicPr/>
          <p:nvPr/>
        </p:nvPicPr>
        <p:blipFill>
          <a:blip r:embed="rId1"/>
          <a:stretch/>
        </p:blipFill>
        <p:spPr>
          <a:xfrm>
            <a:off x="2590920" y="1359000"/>
            <a:ext cx="3720960" cy="521964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28T18:45:54Z</dcterms:created>
  <dc:creator>BGrainge</dc:creator>
  <dc:description/>
  <dc:language>en-US</dc:language>
  <cp:lastModifiedBy>Tim Matthews</cp:lastModifiedBy>
  <cp:lastPrinted>1999-11-01T23:24:49Z</cp:lastPrinted>
  <dcterms:modified xsi:type="dcterms:W3CDTF">2000-01-11T02:41:20Z</dcterms:modified>
  <cp:revision>141</cp:revision>
  <dc:subject/>
  <dc:title>Security Dynamics Product Strategy</dc:title>
</cp:coreProperties>
</file>