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BC95-A5D8-41BD-947F-C95857F96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A427-68AE-43B9-BE1D-85E0C3F01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A5A4-8062-4D01-81D2-2944AB9D1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17FE-2D1B-4E76-9FD1-3B956C3A9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3B7F-AB12-409C-927B-C26C3881A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CB41-ED4E-4D6E-80AB-C850F23F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EB02-A87B-4B02-9C92-93E0EB027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B159-6F78-42BC-A2F5-557FFCFE6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5D50-8CF0-4E54-8182-2FF840CE7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D706-5BD7-45B0-9183-8C1DD0F1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8148-42E3-4B92-9A5F-7F1304D9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C933-0D0F-4BA8-B70A-E1C5D03A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06E7D-668D-4BD8-8942-D8BF5F19B4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KCS Workshop ‘9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KCS #12 / PFX Comment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ake Ramsd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ef (Applied) Cryptograp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ldtalk Corpo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/7/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429000" cy="11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m I yapping ab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isting PKCS #12 compla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y br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ompatible implementations (mostly resolv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ways to do the same 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word-derived symmetric keys lumped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single source for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 I doing this right?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mit the sco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go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ep private keys sec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existing 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prec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ify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ompatible implemen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the spec said, what Vendor M did and what Vendor N d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do I put i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ryptedPrivateKey vs. Encrypted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ck, do bo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mmetric key der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ongs in PKCS #5, not lumped in with PKCS #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y within ASN.1 lim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sure there are no shortcuts for dictionary or other atta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ish th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need a completed PKCS #12, not PKCS #12 plus email threa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vec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h, we need th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act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3840" y="2133720"/>
            <a:ext cx="4569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ake C. Ramsdel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blaker@deming.co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ttp://www.worldtalk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6T02:00:29Z</dcterms:created>
  <dc:creator>Blake C. Ramsdell</dc:creator>
  <dc:description/>
  <dc:language>en-US</dc:language>
  <cp:lastModifiedBy>Shari Oto</cp:lastModifiedBy>
  <cp:lastPrinted>1998-10-07T16:02:56Z</cp:lastPrinted>
  <dcterms:modified xsi:type="dcterms:W3CDTF">1998-10-07T17:19:46Z</dcterms:modified>
  <cp:revision>7</cp:revision>
  <dc:subject/>
  <dc:title>PKCS #12 / PFX Commentary</dc:title>
</cp:coreProperties>
</file>