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6F08-4BBD-4805-A20E-C9E7D5131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29CE-0A09-4BE5-B12F-90EE4F2F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910E-3A76-4206-A5F8-68CFD45E6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9600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9216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9984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9600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9216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4B75-F3DC-4E12-97A4-EFFDEBE75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99840" y="2282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8043-B5AE-405F-8BC0-543756CD1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99600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39216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59984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99600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39216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BEF4-471A-4B1E-9589-39913DF68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58BA-E3EC-46AE-AE35-E2F898901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793E-74B8-47F6-BC9B-3788128BC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99840" y="2282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C5D3-26FC-4978-862F-2D56F11F7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5A6C-F51B-4655-BF49-0E25004A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2A65-240A-4550-B3BF-8FD56091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AD62-C5CC-4E08-A230-7EC35F87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71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RSA 19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40080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B51DB-ADBF-4FA8-8F7C-04F37E6ADB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96160" y="6111720"/>
            <a:ext cx="1284480" cy="682920"/>
          </a:xfrm>
          <a:prstGeom prst="rect">
            <a:avLst/>
          </a:prstGeom>
          <a:ln w="0">
            <a:noFill/>
          </a:ln>
        </p:spPr>
      </p:pic>
      <p:pic>
        <p:nvPicPr>
          <p:cNvPr id="6" name="keys" descr=""/>
          <p:cNvPicPr/>
          <p:nvPr/>
        </p:nvPicPr>
        <p:blipFill>
          <a:blip r:embed="rId3"/>
          <a:stretch/>
        </p:blipFill>
        <p:spPr>
          <a:xfrm>
            <a:off x="0" y="0"/>
            <a:ext cx="13762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14400" y="1828800"/>
            <a:ext cx="8229600" cy="304920"/>
          </a:xfrm>
          <a:prstGeom prst="rect">
            <a:avLst/>
          </a:prstGeom>
          <a:solidFill>
            <a:srgbClr val="e48800"/>
          </a:solidFill>
          <a:ln w="0">
            <a:noFill/>
          </a:ln>
          <a:effectLst>
            <a:outerShdw dist="17819" dir="2700000" blurRad="0" rotWithShape="0">
              <a:srgbClr val="8851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14475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A Data Security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keys" descr=""/>
          <p:cNvPicPr/>
          <p:nvPr/>
        </p:nvPicPr>
        <p:blipFill>
          <a:blip r:embed="rId2"/>
          <a:stretch/>
        </p:blipFill>
        <p:spPr>
          <a:xfrm>
            <a:off x="0" y="0"/>
            <a:ext cx="13762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KCS #13: Elliptic Curve Cryptography Standard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1237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rt Kalisk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SA Labora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KCS Worksh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tober 7, 19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IP Consideration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CC in general is not patented, but specific choices may be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QV key agre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 compression (app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validation (app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osed profile is intended to be unencumbered, though some implementation techniques may be pat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Discuss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the choices appropria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profile too gener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, would fewer choice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it necessar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b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EEE P1363 Profile for PKCS Applica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ould be a better tit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 plan and sched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liptic curve cryptography is emerging as a new public-key 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standardization underwa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SI X9.62,.63, IEEE P1363, ISO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KCS #13: a profile of existing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us: in preparation, this is a propo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ECC: Primary Choic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finite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yptographic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int re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Finite Field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d characteristic: GF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GF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e.g.,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 characteristic: GF(2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field representa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 generally faster (esp. in hardware), odd leverages existing modular arithmetic implemen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Key Agreement Schem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ie-Hell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fied” Diffie-Hell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Q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H basic, “unified” more flexible, MQV more efficient for joint static/ephem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1363, X9.63 draft have all th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Signature Schem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yberg-Ruepp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nor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SA “standard,” NR allows message recovery, Schnorr more “provabl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1363 has first two, X9.62 has D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Encryption Schem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gamal (= DH + multipli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/MIME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heng-Seberry, Bellare-Rogaway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gamal basic, S/MIME enhanced, ZS and BR “provable”, more flex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S, BR submitted to P1363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 in X9.63 dra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oint Representat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compressed: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compressed: only one bit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compacted: one less bit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ly (with algorithm chang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ze, processing tradeof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1363 supports uncompressed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compre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roposed Profil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F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and GF(2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ith ration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CDH, ECDSA, P1363a E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compressed, with P1363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 parameter and key generation, validation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Burt Kaliski</dc:creator>
  <dc:description/>
  <dc:language>en-US</dc:language>
  <cp:lastModifiedBy>Burt Kaliski</cp:lastModifiedBy>
  <cp:lastPrinted>1998-08-07T15:04:05Z</cp:lastPrinted>
  <dcterms:modified xsi:type="dcterms:W3CDTF">1998-10-05T17:10:35Z</dcterms:modified>
  <cp:revision>178</cp:revision>
  <dc:subject/>
  <dc:title>PKCS #13: Elliptic Curve Cryptography Standard</dc:title>
</cp:coreProperties>
</file>