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107-60C8-4DCD-8CEC-6E0A5C0D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C82-E880-478A-B58C-AACC2D1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00B-5F6D-4254-B6EA-B664FC03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842-65D4-4114-B736-C8DC1049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989-855C-49FA-8C64-3E5D15C3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A86-1103-4D74-8D27-43181F58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FF1-F9C8-4057-9F4C-80BE23AA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ADA-6081-4117-9827-58E39635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2D3-8D9A-447B-BC69-F57F786D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351-D390-4799-B874-408C6BE1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AD5-7976-4B03-9845-2D908DA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DE7-B393-4BE4-BD60-F0584E4E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Data Security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fld id="{681B0EDC-748C-4D6D-9201-A2A8B23B0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77D2-4CAA-4A16-849D-0AAE2CF3D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: Pseudo-Random Number Gener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. Baldwin - RSA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dwin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W. Gray, III - 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gray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KCS Workshop ’98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tober 7-9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ta-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New Algorithm Must Be Bet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 Existing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easure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Multiple Sets of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flicting Se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rt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tion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ull Digest, Not Hash-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Passes Randomness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inimum Cycle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Brute Force State Gu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Output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3D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256-Bit A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Use of Se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Known Cryptanalytic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Against Cipher or Digest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Forward and Backward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er Control of Some Seed Does Not Help M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servative Securi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n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Studied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Known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Properties of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Intellectual Proper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Well-Defined 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Owner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tents On An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Primitives Not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Whole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Understood Licensing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iscriminator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AP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Full Set of Operations for a PR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“Random”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and Restore Sta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Te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Needs-More-S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Bytes Output Since Last S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ucture of PRNG Algorithm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Seed Material to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One Block of Output From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State Without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&amp; Restore State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mparing PRNG &amp; KDF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5720" y="1571760"/>
          <a:ext cx="6519960" cy="38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571760"/>
                    <a:ext cx="651996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 = Concate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x | = Bit Size of “x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= Unsigned Integer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= Unsigned Integer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^ =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= Exclusive-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X1 .. Xn = Seed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 Y1 .. Ym = Outpu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z) = Digest of value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(k, m) = Encrypt block m with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bcRes(k, M) = CBC Residue of message M with key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(PRF) Family of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via MD5, SHA1, RIPEMD-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 or 160 Bit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ES needs 168-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 by Diges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Digest (Gutmann, Yarr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Addition of Digested Seed (BSAFE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 (State || Seed) (BSAFE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1 || S2 = Inter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S | = 256 Bits,  | S1 | = | S2 | =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Pad1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Pad2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Up To 256 Bits of Entr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HMAC (S, S ||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D (S xor Pad1 || D (S xor Pad2 || S|| j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 = D (S xor Pad1 || D (S xor Pad2 || j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| = 192 Bits (Room for End Pad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is just:  j = j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put Diagram for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07320" y="151596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hows 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4880" y="310032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4880" y="312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76680" y="2282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2739960"/>
            <a:ext cx="0" cy="224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4160" y="327024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8160" y="340200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36655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85880" y="385920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536904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4880" y="481968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4880" y="4842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4160" y="4989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8160" y="512136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7080" y="537372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85880" y="557856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38400" y="41767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90760" y="45036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25800" y="24559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8160" y="27828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772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1000" y="54259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24200" y="3835440"/>
            <a:ext cx="544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24200" y="5567400"/>
            <a:ext cx="196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592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4816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1240" y="5381640"/>
            <a:ext cx="81576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3120" y="543708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2880" y="230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819520"/>
            <a:ext cx="0" cy="82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25720" y="2976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8920" y="2787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0480" y="2727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1640" y="4460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25720" y="4683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94120" y="3062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11840" y="337824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06800" y="3344760"/>
            <a:ext cx="8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84640" y="3848040"/>
            <a:ext cx="81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0760" y="3859200"/>
            <a:ext cx="0" cy="152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4760" y="384012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3280" y="44323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37360" y="477504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32680" y="4743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31120" y="5603760"/>
            <a:ext cx="977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596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05560" y="5610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18080" y="55720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1560" y="214776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 | = | j | = 25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320" y="26319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F = SHA1-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346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89320" y="5054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2000" y="5659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 Consensus on 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Discussion of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up Interested Participants For Furth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S xor Pad1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S xor Pad2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Initial Seeding With S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Digest-PRNG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2^192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utput Cycle Length May B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From Literature on H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Krawczyk, Bellare, Roga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Digest-PRNG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void Back-Tracking Atta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ofs of Security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d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 Than BSAF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for Outpu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New Digest-PRNG Algorithm #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developed by Jim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”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Hash Compression Function Rather than Full Digest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Und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9.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are, Rogaway,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o MAC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wczyk, Davis, Meyer,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Often Unspec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Digest (MDC2, Davies-Mey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= Key and Message-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Message-Block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, 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Counter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ogaway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64-bit block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Keys Of At Least 12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, RC5, 3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eneralize to AES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One-Way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S = S1 || S2 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Prefix2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refix1 | = | Prefix2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da-san:  Ask why 3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Increase System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: Users and Developers Feel Sa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Lawyers Are Happier  :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ccepted Good Busines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11036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CbcRes (GK,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 = Generat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” sets key change rate. 0 &lt; d &lt;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Res = 64-bit CBC Resid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cRes (K, S1 || S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nc (K, S2 xor Enc (K, S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1 | = | S2 | = 6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 State (L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 + C modulo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128-Bit P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Care to Avoid Tim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CbcRes Ke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^d Outpu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K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H(Prefix2 || M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P (~2^128)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Cycle May B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t Faster Than Diges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Rogaway, Bellare, Dav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tection Against Back 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Direct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-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eam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Key Stream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4, PIKE, SEAL, VESTA, A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Stream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Non-Purposes for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“Entropy” Gathering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Ensure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: state sav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dular Exponentiation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Function of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arity, LSB, O(log log n) Bi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for BBS, ACGS, and 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 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 of 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ocumenting BSAFE En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Cipher-Based PRNGs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tent-Free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NG Construct and/or Primi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-Seeding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gest Function Internals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stablish Accepted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e Literature (Provable Proper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ocus for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Document Evalua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Evaluate Differen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Repeat RIP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Input to Othe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Document the 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log All Know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roke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One Ideal PR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or Each Major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Criteria for Goo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urrent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BSAF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a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Existing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onstruct OK With Proo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e Preliminar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&amp; RSA Bullet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ob Baldwin</cp:lastModifiedBy>
  <cp:lastPrinted>1998-10-01T16:58:14Z</cp:lastPrinted>
  <dcterms:modified xsi:type="dcterms:W3CDTF">1998-10-09T21:22:50Z</dcterms:modified>
  <cp:revision>274</cp:revision>
  <dc:subject/>
  <dc:title>Emerging Standards for Public-Key Cryptography</dc:title>
</cp:coreProperties>
</file>