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F03-85CA-4923-963A-44E442BD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5B9-5645-46F4-ADD0-E5A67FD1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ADB-55AE-4B6A-91E8-1C967A4A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C43-A93D-428B-8E66-71B7A7A3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C07-E22D-4427-8B12-ED7253B5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7BF-652B-47D1-A481-E1AEA344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547-2A03-4D95-95A9-02FDD1D7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141-6982-4936-AD93-59141D99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490-14CD-4DB3-9A1B-EB1776BE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BF5-0929-4423-A699-7441B5B3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A9B-55C8-4816-BFA2-71D5ECF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7B0-D87A-45B8-8340-868DFF12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E1B7-E5EE-42CF-9325-28135336E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: Password-Based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9, 1998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minor 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Cryptography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ublished 10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modular encryp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dular message authentic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Key Derivation Fun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KDF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mpute block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H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Output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MAC widely implemented, “provably secure” under reasonab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viewed as a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increases cost, preserves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length through vary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encryp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such as IV selected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ssage Authentica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S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message authentic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ddressing the Limit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model /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still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support wider hash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practical problem for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pporting Techniqu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, DES-EDE3, RC2, RC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 CBC mode with PKCS #5 v1.5 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-EDE2, DESX, RC4 to be ad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AC-SHA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deriv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BKDF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kdf2 ::= pkcs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KDF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 (1..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eyLength [0] INTEGER DEFAULT 16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shFunc [1] AlgID {{pbkdf2Hashs}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EFAULT sha1Identifier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OIDs as in v1.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2AndDES-CBC ::= pkcs-5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5AndDES-CBC ::= pkcs-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SHA1AndRC2-CBC ::= pkcs-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Parameter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 SIZE (8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es2 ::= pkcs-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S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es2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nc AlgID {{pbes2En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MAC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mac1 ::= pkcs-5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MAC1-params ::= 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mac1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c AlgID {{pbmac1Ma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pper” and usag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ssword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with a passwor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,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ome peculiar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s are not convention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are they very “rando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eneral Mod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-based key deri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BKD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vents dictionary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licates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conventional crypto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Encryption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ed 11/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5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nerate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ash with password to derive key, I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Has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Pad message and encry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-CBC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nt to recip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imitations of v1.5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wo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padding, assumes CBC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ormal model or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hanc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Data Security ext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2-CBC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2 password-based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Workshop ’97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PKCS #5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New key derivation function to b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Modular encryption, message authentic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for underlying scheme (e.g., IV) manag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urt Kaliski</cp:lastModifiedBy>
  <cp:lastPrinted>1998-08-07T15:04:05Z</cp:lastPrinted>
  <dcterms:modified xsi:type="dcterms:W3CDTF">1998-10-13T15:25:00Z</dcterms:modified>
  <cp:revision>185</cp:revision>
  <dc:subject/>
  <dc:title>Emerging Standards for Public-Key Cryptography</dc:title>
</cp:coreProperties>
</file>