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" name="header-slide-wholepage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RSASecurity_logo-slides" descr=""/>
            <p:cNvPicPr/>
            <p:nvPr/>
          </p:nvPicPr>
          <p:blipFill>
            <a:blip r:embed="rId3"/>
            <a:stretch/>
          </p:blipFill>
          <p:spPr>
            <a:xfrm>
              <a:off x="228600" y="6006960"/>
              <a:ext cx="8589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440"/>
            <a:ext cx="9144000" cy="6855120"/>
            <a:chOff x="0" y="1440"/>
            <a:chExt cx="9144000" cy="6855120"/>
          </a:xfrm>
        </p:grpSpPr>
        <p:pic>
          <p:nvPicPr>
            <p:cNvPr id="42" name="header-title-wholepage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685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403200" y="5872320"/>
              <a:ext cx="1047600" cy="7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Welcome to PKCS ’99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yal Institute of Technology, Stockhol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9 September – 1 October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88280" indent="-1882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ecent developments, work in progress, future directions for the Public-Key Cryptography Standard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88280" indent="-1882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ednesday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07680" indent="-2325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of. Johan Håstad, KTH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07680" indent="-2325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5, #12, Contributors’ Agreement, #9, #11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07680" indent="-2325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oduct demonstratio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88280" indent="-1882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ursday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07680" indent="-2325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1, #14, #15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07680" indent="-2325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nteroperability workshop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88280" indent="-1882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riday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07680" indent="-2325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13, ASN.1, new work item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0768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KCS Distin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urpos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atalyst for formal and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de facto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standard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issing pieces”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cop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ublic-key infrastructure, as well as cryptograph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oces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nformal,” “intervendor”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SA Security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ew name for merger of three compani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urity Dynamics Technologies (Bedford, MA, USA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SA Data Security (San Mateo, CA, USA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ynasoft AB (Stockholm, Sweden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ree business lin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SA SecurID: strong authentic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SA BSAFE: PKI component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SA Keon: advanced PKI solutio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 Laboratories is the advanced technology and standards development group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orkshop Represen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s of last Wednesday, among the 38 designating a country in our “informal” registration process ..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ustria, France, Ireland, Israel, Japan, Taiwan (1 ea.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Finland (2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anada, UK (3 ea.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Germany, USA (4 ea.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weden (16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urrent registration is ~56</a:t>
            </a:r>
            <a:br>
              <a:rPr sz="2400"/>
            </a:b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urt Kaliski</cp:lastModifiedBy>
  <dcterms:modified xsi:type="dcterms:W3CDTF">1999-09-29T04:56:14Z</dcterms:modified>
  <cp:revision>2</cp:revision>
  <dc:subject/>
  <dc:title>Welcome to PKCS ’99</dc:title>
</cp:coreProperties>
</file>