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PKCS Documents and ASN.1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A Laborat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CS Workshop,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N.1 has been used in PKCS documents since the early day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Only lately have truly compilable modules been included (PKCS #5 v2.0, PKCS #12 v1.0, PKCS #15v1.0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N.1 Syntax is varying between 1988 version and 1994 version in other documents (and is sometimes not even correct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s has led to some confusion (e.g. IMPLICIT or EXPLICIT tags?) and difficulties for developer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oals of the initiative presented her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ake life easier for developers (enables use of ASN.1 compilers, conformance testing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implify creation of test-vector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ropos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Laboratories intends to publish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compilable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ASN.1 modules for all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PKCS documents that use ASN.1 (I.e. #1, #5, #7(?), #8, #9, #10, #12, #13, #15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se modules will cross-reference each other and import types from other standards as need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roposal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ll modules will be written in the 1994/1997 ASN.1 notation (but will be compatible with existing documents using 1988 version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ll modules will be published at RSA Laboratories’ web sit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Modu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ith permission from ISO/IEC, we intend to publish ASN.1 modules from selected ISO standards as well, in order to simplify the task of compiling PKCS modul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s will mostly be a subset of X.500 modul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ame discussion with ANSI X9F1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me 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mpilable ASN.1 modules for PKCS documents will be published during this fal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ublication of selected (parts of) ISO/IEC and/or ANSI X9F1 modules will take place as soon as we receive permission to do so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acting U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mments? Suggestions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-tng@rsasecurity.co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-editor@rsasecurity.co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06:22:26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10-01T06:40:24Z</dcterms:modified>
  <cp:revision>2</cp:revision>
  <dc:subject/>
  <dc:title>PKCS Documents and ASN.1</dc:title>
</cp:coreProperties>
</file>