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ader-slide-wholep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RSALabs_logo" descr=""/>
          <p:cNvPicPr/>
          <p:nvPr/>
        </p:nvPicPr>
        <p:blipFill>
          <a:blip r:embed="rId3"/>
          <a:stretch/>
        </p:blipFill>
        <p:spPr>
          <a:xfrm>
            <a:off x="228600" y="5694480"/>
            <a:ext cx="129528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header-title-wholepage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RSALabs_logo" descr=""/>
          <p:cNvPicPr/>
          <p:nvPr/>
        </p:nvPicPr>
        <p:blipFill>
          <a:blip r:embed="rId3"/>
          <a:stretch/>
        </p:blipFill>
        <p:spPr>
          <a:xfrm>
            <a:off x="152280" y="5724360"/>
            <a:ext cx="137160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PKCS #14    Status of 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5080" y="2892600"/>
            <a:ext cx="466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Jan-Ove Lar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RSA Laboratories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jlarsson@rsasecurit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000000"/>
                </a:solidFill>
                <a:latin typeface="Times New Roman"/>
              </a:rPr>
              <a:t>PKCS Workshop ’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000000"/>
                </a:solidFill>
                <a:latin typeface="Times New Roman"/>
              </a:rPr>
              <a:t>Sep 29 - Oc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000000"/>
                </a:solidFill>
                <a:latin typeface="Times New Roman"/>
              </a:rPr>
              <a:t>Stockholm, Sw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2720" y="1752120"/>
            <a:ext cx="69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600" spc="-1" strike="noStrike">
                <a:solidFill>
                  <a:srgbClr val="000000"/>
                </a:solidFill>
                <a:latin typeface="Times New Roman"/>
              </a:rPr>
              <a:t>Pseudo Random Number Gen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89154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ttacks on PRNG:s                                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6960" y="1674000"/>
            <a:ext cx="7192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Timing Attacks on State Advanc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Ensure That the Advance Function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Constan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If That Is Not Possible, Random Dela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Gives Worse Performan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89154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ttacks on PRNG:s                                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440" y="1684080"/>
            <a:ext cx="766800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Direct Cryptanalytic Attacks on Outpu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Strong Cipher or Preimage Resistant H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Truncate Output From Outpu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89154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ttacks on PRNG:s                                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7680" y="1837080"/>
            <a:ext cx="773208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tacks After a Compromise of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Backward Tracking Attack: After a Compromis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State, Try to Determine Previous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Forward T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89154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lgo Proposals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(due to Bob Baldwin)</a:t>
            </a: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          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1421280"/>
            <a:ext cx="7218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pher Based Single Width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 = Counter Value, C = Counter Incr., K = Encr.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e Update From S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K’ = Hash ( K  || X[ i ] ) ,   K = ” ” at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 = C = Odd( Enc( K’ , 0 )),  (K’ determines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e Advance after 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’ = S + C ( mod 2 ** |S|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put Gen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Y[ j ] = Enc( K ,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89154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lgo Proposals                                       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1421280"/>
            <a:ext cx="7218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gest Based Single Width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 = Counter Value, C = Counter Incr., K = Secre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e Update From S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K’ = Hash ( K  || X[ i ] ) ,   K = ” ” at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 = C = Odd( Hash( K’ , </a:t>
            </a: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)),  (K’ determines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e Advance after 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’ = S + C ( mod 2 ** |S|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put Gen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Y[ j ] = Hash( K ||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89154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lgo Proposals                                       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1428480"/>
            <a:ext cx="8001000" cy="29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pher Based Double Width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KL = Cipher Key Length, BL = Cipher Block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0x20” = Block of BL bytes equal to 0x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Dmac(K1, K2, S) = Enc(K1, CbcMac(K2, 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H2(x) = Dmac(”0x20”, ”0x20”, x) || Dmac(”0x21”, ”0x21”,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89154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lgo Proposals                                       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1391400"/>
            <a:ext cx="80010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pher Based Double Width Algorithm Cont’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e Update From Seed: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        Secret State is(K1, K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K1 || K2 = H2 (K1 || K2  || X[ i ] ) ,   K1 = K2 = ” ” at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1 = DMac(K1, K2, 2BL-zeros) ; S = C1 || BL-z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2 = DMac(K1, K2, S) ; C = S = C1 || C2 ; C = Odd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e Advance after Output: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S’ = S + C ( mod 2 ** B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put Generation: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Y[ j ] = DMac( K1, K2,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89154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lgo Proposals                                       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388520"/>
            <a:ext cx="80010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gest Based Double Width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BL = Output Block Length For Di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ML = Input Block Length For the Digest Compression F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H(x) = Digest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Ext(x) = ML-byte value, x padded to the right with 0-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Mac(K1, K2, S) = H(Ext(K1) || H(Ext(K2) || 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H2(K1, K2, x) = Nmac(K1, K2, x) || Nmac(K2, K1,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89154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lgo Proposals                                       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391400"/>
            <a:ext cx="80010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gest Based Double Width Algorithm Cont’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e Update From Seed: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        Secret State is(K1, K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K1 || K2 = H2 (K1 || K2  || X[ i ] ) ,   K1 = K2 = ” ” at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1 = NMac(K1, K2, 2BL-zeros) ; S = C1 || BL-z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2 = NMac(K1, K2, S) ; C = S = C1 || C2 ; C = Odd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e Advance after Output: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S’ = S + C ( mod 2 ** B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put Generation: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Y[ j ] = NMac( K1, K2,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38000" y="1828800"/>
            <a:ext cx="4837680" cy="44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Motivation for PRNG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Design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Set of Operations for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Model for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Basic Security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Attacks on PRNG: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Algo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otivation for PRNG Stand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36920" y="1863720"/>
            <a:ext cx="6062040" cy="45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Increases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Complements Other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Support to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strength, correctness via test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Legal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liability in cases of fra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Public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home-ba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e-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other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Design Criter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1893960"/>
            <a:ext cx="746748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Build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proven security properties if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 well-studied algorithms and 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Be Conser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Promote Simp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better performance, easier to 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Building Bloc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89396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2800" y="1427040"/>
            <a:ext cx="8526240" cy="49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In Accordance With Our Design Criteria We Bu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the PRNG Using Well-Studied Algorithms and Primi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There Are Several Possibilities Inclu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Block Cip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CBCMAC: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Stream Cip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Modular Exponentiation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Cryptographic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- HMAC: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- NMAC: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Set of Operations for PR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3440" y="1827360"/>
            <a:ext cx="59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State Update from New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State Advance after Outpu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Outpu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31880" y="4029120"/>
            <a:ext cx="32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Save / Restor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Self-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59400" y="41752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Model for PR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1538280"/>
            <a:ext cx="1752480" cy="53352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22760" y="161460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[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743200"/>
            <a:ext cx="914400" cy="609480"/>
          </a:xfrm>
          <a:custGeom>
            <a:avLst/>
            <a:gdLst>
              <a:gd name="textAreaLeft" fmla="*/ 200880 w 914400"/>
              <a:gd name="textAreaRight" fmla="*/ 713520 w 914400"/>
              <a:gd name="textAreaTop" fmla="*/ 133920 h 609480"/>
              <a:gd name="textAreaBottom" fmla="*/ 475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0720" y="2785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3886200"/>
            <a:ext cx="1218960" cy="9144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3240" y="405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5181480"/>
            <a:ext cx="609840" cy="60984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6920" y="5181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2071800"/>
            <a:ext cx="0" cy="6714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352680"/>
            <a:ext cx="0" cy="547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276720" y="3352680"/>
            <a:ext cx="0" cy="547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4129200"/>
            <a:ext cx="609840" cy="53316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1752480"/>
            <a:ext cx="990720" cy="144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218960" y="3062160"/>
            <a:ext cx="1600200" cy="10670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4267080"/>
            <a:ext cx="1143000" cy="144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1447560" y="4495680"/>
            <a:ext cx="1143000" cy="144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800600"/>
            <a:ext cx="0" cy="3952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360" y="2065680"/>
            <a:ext cx="4569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riables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, Input to Seed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X[ ], Array of Blocks of Seed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Y[ ], Array of Output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, Inter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H, State Update From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F, State Advance Afte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G, Generation of Output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5805360"/>
            <a:ext cx="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5560" y="618588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[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1600" y="15231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Basic Security Propert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2360" y="1920960"/>
            <a:ext cx="644868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Use Large Seed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Knowledge of Part of Seed Shall B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No Help For an Adver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Good Seed Usage: Make the State De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on All Previous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Large, Unbiased Interna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Output Shall Pass Randomness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Output Shall Be Unpredic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309600"/>
            <a:ext cx="89154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ttacks on PRNG:s                                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9040" y="1676520"/>
            <a:ext cx="7657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Guessing of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Entropy of X[i] Need to Be Large to Pr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an Exhaustive Search Att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Chosen Seed Input / State Cycle Shor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29440" y="4876920"/>
            <a:ext cx="990360" cy="761760"/>
          </a:xfrm>
          <a:custGeom>
            <a:avLst/>
            <a:gdLst>
              <a:gd name="textAreaLeft" fmla="*/ 217800 w 990360"/>
              <a:gd name="textAreaRight" fmla="*/ 772560 w 990360"/>
              <a:gd name="textAreaTop" fmla="*/ 167400 h 761760"/>
              <a:gd name="textAreaBottom" fmla="*/ 5943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05560" y="4267080"/>
            <a:ext cx="0" cy="6098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62760" y="4267080"/>
            <a:ext cx="0" cy="6098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15080" y="5638680"/>
            <a:ext cx="0" cy="5335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42960" y="36565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X[ i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13560" y="40662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Ol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6360" y="624744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e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62760" y="4267080"/>
            <a:ext cx="5335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2360" y="5042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in Larsson</cp:lastModifiedBy>
  <cp:lastPrinted>1999-09-28T20:15:01Z</cp:lastPrinted>
  <dcterms:modified xsi:type="dcterms:W3CDTF">1999-10-08T07:10:41Z</dcterms:modified>
  <cp:revision>27</cp:revision>
  <dc:subject/>
  <dc:title>PKCS #14 Pseudo Random Number Generation</dc:title>
</cp:coreProperties>
</file>