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8899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2D72-BC2E-4E8C-856F-7322D34BA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FBD5-10B4-4CFF-851A-7A0244A8A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051F-AD96-4829-BE0D-3C3317D5E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CC8A-4235-41BA-BF94-3E0EBCAF2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1658B-C910-497A-B8AE-5DD0E3805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4B586-AACD-4D5D-9C1E-EF138F18F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58B1E-2856-4D46-BCC5-8229C1129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8D514-9CE7-4711-97B7-4410E36BE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241B3-A220-4FC7-9806-EA3970B26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8088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3B211-FD1A-4D50-A39F-5A2DDDA5F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CC75D-73F6-46EC-AA88-AFA67121B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820F-52C8-4AD2-8644-CDC5A4096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773B5-ED56-4810-B8B1-AFD731F54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4519B-FC30-46BF-9048-588DAD49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AB9A2-3EF3-4B1F-BF3B-0CBCA913A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BE301-D562-4399-A676-0CA8F9DC3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9C3FA-F22C-43E6-B60B-3EFFDED7B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4D58-5B3F-4C3A-9D6C-7AFEBA323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8D36-9EFD-4F5C-A40D-578025E09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22D8-2869-4396-AD43-E4CD6A31A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B4C2-B52F-443B-B77C-771F3DEC5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0242-802D-4177-9D36-28F3CF8C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9A80-1241-4DB8-AEB7-FDC2F6E90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DB87-DCE9-41CF-B6D7-E380152DD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1515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1515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2DD4F-0A05-4899-8F48-A9A429671D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1515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BA69D-97DC-4730-A556-885FBFEF86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1515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1676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C6—The elegant AES choi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n Rivest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ivest@mit.edu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t Robshaw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robshaw@supanet.co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iqun Lisa Yi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iqun@nttmcl.co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 on 64-bit CP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enerally good 64-bit performan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A64-performance only fair but anomalous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-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lower than Pentium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te 3x improvement with IA64++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uture chips will optimize A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addition, RC6 gains dramatically with multi-block processing compared to other schem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3059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jor Trends: Java and DSP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creasing use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Jav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 e-commerce and embedded app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C6 provides excellent speed with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minima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ode size and memory usa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creasing use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DSP chip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kely to be more significant than IA64 or 8-bit processo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C6 gives excellent performan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lexi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C6 is fully parameteriz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ey size, number of rounds, and block length can be readily changed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ll-suited for hash func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C6 is only AES finalist that naturally gives DES and triple-DES compatible variants (64-bit block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do we grade candidat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urity (corroborated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formance (speed+memory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2-bi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(30%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av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(20%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S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(15%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4-bi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(15%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rdwar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(15%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8-bi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(5%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ase of implementatio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icit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lexibilit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verall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0/25/15/10/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"/>
          <p:cNvSpPr/>
          <p:nvPr/>
        </p:nvSpPr>
        <p:spPr>
          <a:xfrm>
            <a:off x="5867280" y="2438280"/>
            <a:ext cx="685800" cy="2362320"/>
          </a:xfrm>
          <a:custGeom>
            <a:avLst/>
            <a:gdLst>
              <a:gd name="textAreaLeft" fmla="*/ 0 w 685800"/>
              <a:gd name="textAreaRight" fmla="*/ 247680 w 6858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924680" y="4876920"/>
            <a:ext cx="609840" cy="304560"/>
          </a:xfrm>
          <a:prstGeom prst="rect">
            <a:avLst/>
          </a:prstGeom>
          <a:solidFill>
            <a:srgbClr val="41f1e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924680" y="5334120"/>
            <a:ext cx="609840" cy="304560"/>
          </a:xfrm>
          <a:prstGeom prst="rect">
            <a:avLst/>
          </a:prstGeom>
          <a:solidFill>
            <a:srgbClr val="41f1e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924680" y="5791320"/>
            <a:ext cx="609840" cy="304560"/>
          </a:xfrm>
          <a:prstGeom prst="rect">
            <a:avLst/>
          </a:prstGeom>
          <a:solidFill>
            <a:srgbClr val="41f1e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6248520"/>
            <a:ext cx="609840" cy="304560"/>
          </a:xfrm>
          <a:prstGeom prst="rect">
            <a:avLst/>
          </a:prstGeom>
          <a:solidFill>
            <a:srgbClr val="41f1e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924680" y="3276720"/>
            <a:ext cx="609840" cy="304560"/>
          </a:xfrm>
          <a:prstGeom prst="rect">
            <a:avLst/>
          </a:prstGeom>
          <a:solidFill>
            <a:srgbClr val="41f1e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4419720"/>
            <a:ext cx="609480" cy="304560"/>
          </a:xfrm>
          <a:prstGeom prst="rect">
            <a:avLst/>
          </a:prstGeom>
          <a:solidFill>
            <a:srgbClr val="41f1e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91120" y="4038480"/>
            <a:ext cx="609480" cy="304920"/>
          </a:xfrm>
          <a:prstGeom prst="rect">
            <a:avLst/>
          </a:prstGeom>
          <a:solidFill>
            <a:srgbClr val="41f1e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191120" y="3657600"/>
            <a:ext cx="609480" cy="304920"/>
          </a:xfrm>
          <a:prstGeom prst="rect">
            <a:avLst/>
          </a:prstGeom>
          <a:solidFill>
            <a:srgbClr val="41f1e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91120" y="3276720"/>
            <a:ext cx="609480" cy="304560"/>
          </a:xfrm>
          <a:prstGeom prst="rect">
            <a:avLst/>
          </a:prstGeom>
          <a:solidFill>
            <a:srgbClr val="41f1e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91120" y="2819520"/>
            <a:ext cx="609480" cy="304560"/>
          </a:xfrm>
          <a:prstGeom prst="rect">
            <a:avLst/>
          </a:prstGeom>
          <a:solidFill>
            <a:srgbClr val="41f1e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91120" y="2438280"/>
            <a:ext cx="609480" cy="304920"/>
          </a:xfrm>
          <a:prstGeom prst="rect">
            <a:avLst/>
          </a:prstGeom>
          <a:solidFill>
            <a:srgbClr val="41f1e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924680" y="1523880"/>
            <a:ext cx="609840" cy="304920"/>
          </a:xfrm>
          <a:prstGeom prst="rect">
            <a:avLst/>
          </a:prstGeom>
          <a:solidFill>
            <a:srgbClr val="41f1e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C6 is a simple yet remarkably strong ciph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od performance on most important platfor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mple to code for good performanc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cellent flexibil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most studied finali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best understood finali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C6 is the secure and “elegant” choice for the A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The End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C6 is the right AES choi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ur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ase of implement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lexibil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C6 is simple: only 12 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 = B + S[ 0 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 = D + S[ 1 ]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i  =  1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20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{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t  =  ( B  x  ( 2B  + 1 ) )  &lt;&lt;&lt;  5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u  =  ( D  x  ( 2D + 1 ) )  &lt;&lt;&lt;  5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A  =  ( ( 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 )  &lt;&lt;&lt;  u )  +  S[ 2i 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C  =  ( ( C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u )  &lt;&lt;&lt;  t )  +  S[ 2i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 1 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(A, B, C, D)  =  (B, C, D, A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}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= A + S[ 42 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 =  C + S[ 43 ]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plicity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acilitates and encourages analys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ows rapid understanding of secur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kes direct analysis straightforward (contrast with Mars and Twofish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ables easy implement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ows compilers to produce high-quality co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bviates complicated optimiza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vides good performance with minimal effor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C6 security is well-analyz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C6 is probably most studied AES finalis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C6 is based on RC5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C6 analysis builds directly on RC5 analys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iginal RC6 analysis is very detail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C6 simplified variants studied extensivel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mall-scale versions allowed experiment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10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C6 key schedule is rock-soli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1853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udied for more than six yea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u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orough mixing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e-way function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key separation (cf. Twofish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related-key attacks (cf. Rijndael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iginal analysis still accur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C6 meets original design criteri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urity estimates from 1998 still good today; independent analyses supportiv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ure, even in theory, even with analysis improvements far beyond those seen for DES during its lifetim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C6 provides a solid, well-tuned margin for securit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32-bit 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cellent performanc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2-bit CPUs ar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IST reference platfor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significant fraction of installed computers throughout the AES lifetim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coming more prevalent in cheaper devices (e.g. ARM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mart Card Suit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C6 fits in the cheapest smart cards, and well-suited for many (e.g. ARM processor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andwidth, not CPU, likely to be most significant bottleneck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8-bit CPUs will become far less important over the AES lifetim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26:58Z</dcterms:created>
  <dc:creator>Ronald L. Rivest</dc:creator>
  <dc:description/>
  <dc:language>en-US</dc:language>
  <cp:lastModifiedBy>Ron Rivest</cp:lastModifiedBy>
  <cp:lastPrinted>1998-04-19T17:05:34Z</cp:lastPrinted>
  <dcterms:modified xsi:type="dcterms:W3CDTF">2000-04-14T04:01:03Z</dcterms:modified>
  <cp:revision>113</cp:revision>
  <dc:subject/>
  <dc:title>RSA: 1977--1997 and beyond</dc:title>
</cp:coreProperties>
</file>