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3B3-C08E-4018-9D90-2426E693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7F4-CF70-4EED-8166-1988CCDA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5FA-3BA0-4677-BB61-347AAEC9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7AF-5317-49C6-8857-20FE5E97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50FA-6B1B-4A74-8868-5DCDCC16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051D-E09B-4448-9EB5-6F1F1A25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9295-6013-4D8D-A4FF-9FB2BF18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51ED-B8D7-4589-8F2F-9C411F4E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2FA-D075-4A7D-AE0D-389E692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178-E7F4-4AE6-8CE2-AB386708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102F-FD7F-46FD-A6C9-58CE44E4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19D-07FF-4EE1-922D-723C38E9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4A70-620F-4B75-A4AB-FF945E4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F2CD-00C6-4234-8D22-809B561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E4E9-1076-4978-B843-8E85C6EB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466-D5E8-41C6-BC22-4EF4E60F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8DDC-BCED-415A-ACDB-692D8DBC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30E-BD48-4838-8136-51EA8305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D70-5EFA-4639-BDB2-B188FFD7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79B-AC5E-496A-8161-09B0BBA7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4AC-F18E-490E-99B4-449A7C24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EF1-4CCA-40FF-94DF-80F0B61D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2AF-4581-4FC0-B071-911A8D6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9BF-64DB-49AB-AB3C-6EF407D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A918-34A0-4044-9FBB-A453E8815D1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6E3-F18F-450A-943D-142C62BB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2000" y="1104840"/>
            <a:ext cx="1447560" cy="7621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 RC6  Block Cipher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A simple fast sec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AES propos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7240" y="3809520"/>
            <a:ext cx="777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nald L. Rivest    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 Robshaw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y Sidney    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qun Lisa Yin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ugust 21, 1998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Expansion (Same as RC5’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:     array  L[ 0 … c-1 ] of input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put:   array S[ 0 … 43 ]  of round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[ 0 ] = 0xB7E1516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43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[i] = S[i-1] + 0x9E3779B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B = i = j = 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32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A = S[ i ] = ( S[ i ] + A + B ) &lt;&lt;&lt;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B = L[ j ] = ( L[ j ] + A + B ) &lt;&lt;&lt; ( A + B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i = ( i + 1 )   mod 4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j = ( j + 1 )  mod c      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RC5 to RC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in seven easy ste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) Start with RC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encryption inner loo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B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C5 be strengthened by having rotation amount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its of 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5181480"/>
            <a:ext cx="714708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35000" y="1523880"/>
            <a:ext cx="795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dul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ow-order bits of  ( B  mod d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 sl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 ( c x B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 to pick  c  well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adra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( B x (2B+1)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st right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tter rotation amoun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 x (2B+1) i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one-to-o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mod 2</a:t>
            </a:r>
            <a:r>
              <a:rPr b="0" lang="en-US" sz="44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By contradiction.  If  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  but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x (2B + 1) = C x (2C + 1)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(B - C) x (2B+2C+1) = 0     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(B-C) is nonzero and (2B+2C+1) is odd; their product can’t be zero!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rolla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unifo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 x (2B+1) unifor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nd high-order bits are uniform too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-order bits of  B x (2B+1)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4640" y="156204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igh-order bits of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B) = B x ( 2B + 1 )  =  2B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epend on all the bits of  B 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 B  =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bin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pping bit  i  of input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s bits  0 … i-1  of  f(B)  unchang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i  of  f(B)  with probability on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j  of  f(B) ,  for j &gt; i , with probability approximately 1/2  (1/4…1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likely to change some high-order b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25520" y="2552760"/>
            <a:ext cx="417996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2320" y="3043080"/>
            <a:ext cx="284400" cy="3463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t )  + S[ 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now much of the output of this nice multiplication is being wasted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520" y="266400"/>
            <a:ext cx="8610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) Quadratic Rotation Amount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140360" y="3022560"/>
            <a:ext cx="30456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t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AES requires 128-bit block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ould use two 64-bit registers, bu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4-bit operations are poorly supported with typical C compilers..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3760" y="255240"/>
            <a:ext cx="8045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) Use  t, not B, as xor inp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086600" y="4000680"/>
            <a:ext cx="45720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1480" y="4813200"/>
            <a:ext cx="6170400" cy="139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4) Do two RC5’s in parall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our 32-bit regs (A,B,C,D), and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on (C,D) in parallel with RC5 on (A,B):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t )  +  S[ 2i ]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u )  +  S[ 2i + 1 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C, D ) = ( D, C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47840" y="5562720"/>
            <a:ext cx="45720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 Mix up data between cop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800600"/>
            <a:ext cx="38088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7920" y="5207040"/>
            <a:ext cx="38124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 rotation amounts between copies, and cyclically permute registers instead of swapping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Res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Round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986440" y="29145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2720" y="29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44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430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30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8400" y="3797280"/>
            <a:ext cx="144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42720" y="46530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30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82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047840" y="501984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430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16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0"/>
            <a:endCxn id="142" idx="1"/>
          </p:cNvCxnSpPr>
          <p:nvPr/>
        </p:nvCxnSpPr>
        <p:spPr>
          <a:xfrm>
            <a:off x="21427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>
            <a:off x="4047840" y="2124000"/>
            <a:ext cx="216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0"/>
            <a:endCxn id="146" idx="0"/>
          </p:cNvCxnSpPr>
          <p:nvPr/>
        </p:nvCxnSpPr>
        <p:spPr>
          <a:xfrm>
            <a:off x="21427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47" idx="0"/>
          </p:cNvCxnSpPr>
          <p:nvPr/>
        </p:nvCxnSpPr>
        <p:spPr>
          <a:xfrm>
            <a:off x="4047840" y="5484960"/>
            <a:ext cx="1080" cy="38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1"/>
            <a:endCxn id="143" idx="0"/>
          </p:cNvCxnSpPr>
          <p:nvPr/>
        </p:nvCxnSpPr>
        <p:spPr>
          <a:xfrm>
            <a:off x="21427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endCxn id="140" idx="2"/>
          </p:cNvCxnSpPr>
          <p:nvPr/>
        </p:nvCxnSpPr>
        <p:spPr>
          <a:xfrm flipH="1">
            <a:off x="1904760" y="2730240"/>
            <a:ext cx="4672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9" idx="0"/>
            <a:endCxn id="139" idx="2"/>
          </p:cNvCxnSpPr>
          <p:nvPr/>
        </p:nvCxnSpPr>
        <p:spPr>
          <a:xfrm>
            <a:off x="2142720" y="4171680"/>
            <a:ext cx="1080" cy="477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39" idx="1"/>
            <a:endCxn id="139" idx="3"/>
          </p:cNvCxnSpPr>
          <p:nvPr/>
        </p:nvCxnSpPr>
        <p:spPr>
          <a:xfrm>
            <a:off x="19047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8862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62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12400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628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14880" y="3800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4880" y="46386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48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5019840"/>
            <a:ext cx="48769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148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34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H="1">
            <a:off x="5342760" y="27334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3" idx="0"/>
            <a:endCxn id="163" idx="1"/>
          </p:cNvCxnSpPr>
          <p:nvPr/>
        </p:nvCxnSpPr>
        <p:spPr>
          <a:xfrm>
            <a:off x="51145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1" idx="0"/>
            <a:endCxn id="170" idx="0"/>
          </p:cNvCxnSpPr>
          <p:nvPr/>
        </p:nvCxnSpPr>
        <p:spPr>
          <a:xfrm flipH="1">
            <a:off x="7017480" y="2114280"/>
            <a:ext cx="2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0" idx="0"/>
            <a:endCxn id="167" idx="0"/>
          </p:cNvCxnSpPr>
          <p:nvPr/>
        </p:nvCxnSpPr>
        <p:spPr>
          <a:xfrm>
            <a:off x="51145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0"/>
          </p:cNvCxnSpPr>
          <p:nvPr/>
        </p:nvCxnSpPr>
        <p:spPr>
          <a:xfrm>
            <a:off x="7019640" y="546732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3" idx="1"/>
            <a:endCxn id="164" idx="0"/>
          </p:cNvCxnSpPr>
          <p:nvPr/>
        </p:nvCxnSpPr>
        <p:spPr>
          <a:xfrm>
            <a:off x="51145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>
            <a:off x="4876560" y="2733480"/>
            <a:ext cx="4672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5" idx="0"/>
            <a:endCxn id="166" idx="0"/>
          </p:cNvCxnSpPr>
          <p:nvPr/>
        </p:nvCxnSpPr>
        <p:spPr>
          <a:xfrm>
            <a:off x="5114520" y="419076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59" idx="1"/>
            <a:endCxn id="159" idx="3"/>
          </p:cNvCxnSpPr>
          <p:nvPr/>
        </p:nvCxnSpPr>
        <p:spPr>
          <a:xfrm>
            <a:off x="48765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24360" y="2743200"/>
            <a:ext cx="180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2657160" y="2733840"/>
            <a:ext cx="10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2668320" y="3553560"/>
            <a:ext cx="219132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588816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4440" y="2486160"/>
            <a:ext cx="471240" cy="495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2320" y="2510280"/>
            <a:ext cx="3430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8200" y="2500560"/>
            <a:ext cx="3337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96200" y="1676520"/>
            <a:ext cx="5265720" cy="459720"/>
            <a:chOff x="1996200" y="1676520"/>
            <a:chExt cx="5265720" cy="459720"/>
          </a:xfrm>
        </p:grpSpPr>
        <p:sp>
          <p:nvSpPr>
            <p:cNvPr id="189" name=""/>
            <p:cNvSpPr/>
            <p:nvPr/>
          </p:nvSpPr>
          <p:spPr>
            <a:xfrm>
              <a:off x="1996200" y="1676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02400" y="1676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8000" y="1676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720" y="1676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7412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820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7160" y="2502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63240" y="24890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>
            <a:off x="5727600" y="3565080"/>
            <a:ext cx="1982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9" idx="6"/>
          </p:cNvCxnSpPr>
          <p:nvPr/>
        </p:nvCxnSpPr>
        <p:spPr>
          <a:xfrm>
            <a:off x="1343160" y="3568320"/>
            <a:ext cx="559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683320" y="269244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19360" y="269568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9400" y="2698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35160" y="4905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14880" y="49118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39840" y="40604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14880" y="406728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2752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098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5200" y="27399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37440" y="273528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324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14880" y="32302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143080" y="32270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88320" y="2695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44760" y="4406760"/>
            <a:ext cx="260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3520" y="44100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7880" y="420840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7640" y="44164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35640" y="4409640"/>
            <a:ext cx="264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7160" y="42274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+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32840" y="5867280"/>
            <a:ext cx="5265720" cy="459720"/>
            <a:chOff x="1932840" y="5867280"/>
            <a:chExt cx="5265720" cy="459720"/>
          </a:xfrm>
        </p:grpSpPr>
        <p:sp>
          <p:nvSpPr>
            <p:cNvPr id="222" name=""/>
            <p:cNvSpPr/>
            <p:nvPr/>
          </p:nvSpPr>
          <p:spPr>
            <a:xfrm>
              <a:off x="1932840" y="5867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9040" y="5867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4640" y="5867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5360" y="58672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709040" y="3467160"/>
            <a:ext cx="215640" cy="20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3560" y="3533760"/>
            <a:ext cx="74520" cy="7452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27160" y="3467160"/>
            <a:ext cx="216000" cy="203040"/>
            <a:chOff x="1127160" y="3467160"/>
            <a:chExt cx="216000" cy="203040"/>
          </a:xfrm>
        </p:grpSpPr>
        <p:sp>
          <p:nvSpPr>
            <p:cNvPr id="199" name=""/>
            <p:cNvSpPr/>
            <p:nvPr/>
          </p:nvSpPr>
          <p:spPr>
            <a:xfrm>
              <a:off x="1127160" y="34671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1680" y="3533400"/>
              <a:ext cx="74520" cy="74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98760" y="224964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32480" y="224316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5740560"/>
            <a:ext cx="3200400" cy="9144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523880"/>
            <a:ext cx="243828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120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6) Add Pre- and Post-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84400" y="6197760"/>
            <a:ext cx="60984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5715000"/>
            <a:ext cx="60948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53352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5638680"/>
            <a:ext cx="320040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8600" y="29196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7) Set r = 20 for high secur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912920" y="5602320"/>
            <a:ext cx="31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al RC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3480" y="13604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ed on analy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mplementation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086600" y="3733920"/>
            <a:ext cx="990720" cy="1676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3800" y="5727600"/>
            <a:ext cx="713880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5691240"/>
            <a:ext cx="72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 than two clocks per bit of plaint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6640" y="1913040"/>
          <a:ext cx="7858080" cy="40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13040"/>
                    <a:ext cx="78580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PU Cycles / Ope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32440" y="4025880"/>
            <a:ext cx="1981440" cy="1752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89000" y="2301840"/>
          <a:ext cx="7854840" cy="40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301840"/>
                    <a:ext cx="78548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rations/Second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15200" y="403848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02920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43000" y="2666880"/>
          <a:ext cx="77058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7705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ryption Rate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6765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Bytes / secon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egaBits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715000"/>
            <a:ext cx="52578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 100 Megabits / second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59436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01000" y="5486400"/>
            <a:ext cx="0" cy="4572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3040" y="5479920"/>
            <a:ext cx="3686400" cy="569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86000" y="3859200"/>
            <a:ext cx="5529240" cy="4953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9760" y="2313000"/>
            <a:ext cx="726264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n 8-bit process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8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ntel MCS51  ( 1 Mhz clock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9.2 Kbits/seco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3535 cycles/block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ctual implementa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setup 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 milliseco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 176  bytes needed for table of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ts on smart card (&lt; 256 bytes RAM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4648320"/>
            <a:ext cx="73152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stom RC6 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25 micron CMOS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round/clock at 200 MH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multiplier desig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05 mm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silic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1 milliwatts of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1.3 Gbits/seco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ipelining, can go faster, at cost of more area and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e our experience with RC5: us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chieve a high level of secur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 RC5 to meet AES require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dvantage of a new primitive for increased security and efficiency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32x32 multipl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ich executes quickly on modern processors, to compute rotation amou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nsive analysis, based on most effective known attacks (e.g. linear and differential cryptanalys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ze not only RC6, but also several “simplified” forms (e.g. with no quadratic function, no fixed rotation by 5 bits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ear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pproximations for  r-2  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ways to approximate  A = B &lt;&lt;&lt;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, C       (type 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 only    (type I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have bias  1/64; type I more use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-zero bias across f(B) only when input bit = output bit.  (Best for lsb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include effects of multiple linear approximations and linear hu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495680" y="5562720"/>
            <a:ext cx="2438640" cy="8380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/ciphertext pairs required to mount a linear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linear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372280" y="5572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l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1880" y="165096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use of (iterative and non-iterative)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fferential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ll as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haracterist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two notions of “difference”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(better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ation of quadratic function and fixed rotation by 5 bits very good at thwarting differential attack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88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terative RC6 different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89120" y="16765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             B               C              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1        0     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0               0               1&lt;&lt;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1&lt;&lt;26         1&lt;&lt;s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6       1&lt;&lt;21         0               1&lt;&lt;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1       1&lt;&lt;16          1&lt;&lt;v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 =  2</a:t>
            </a:r>
            <a:r>
              <a:rPr b="0" lang="en-US" sz="3200" spc="-1" strike="noStrike" baseline="46000">
                <a:solidFill>
                  <a:srgbClr val="000000"/>
                </a:solidFill>
                <a:latin typeface="Comic Sans MS"/>
              </a:rPr>
              <a:t>-9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95680" y="5029200"/>
            <a:ext cx="2438640" cy="1371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 pairs required to mount a differential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differential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of Key Expa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 is identical to that of RC5; no known weakn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weak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related-key atta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 keys appear to be a “random” function of the supplied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us: key expansion is quite “one-way”---difficult to infer supplied key from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9760" y="1657440"/>
            <a:ext cx="6186600" cy="2611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ore than meets the requirements for the AES; it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,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ore information, including copy of these slides, copy of RC6 description, and security analysis, s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rsa.com/rsalabs/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7560" y="167652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-w/r/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ord s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its:       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 32 )( lg(w) = 5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   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20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ey by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b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16, 24, or 32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s array  S[ 0 …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 of  w-bi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 ke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and Decryp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/Output in 32-bit registers A,B,C,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638680"/>
            <a:ext cx="8610480" cy="6858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Primitive Oper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60020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+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-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lt;&lt;&lt; 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ft by amount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-order  lg(w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bits of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gt;&gt;&gt;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, simi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,B,C,D) = (B,C,D,A)   Parallel 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x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ica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 rot="16202400">
            <a:off x="-167760" y="328896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26708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765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Generic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De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- S[ 43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 A - S[ 42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w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D, A, B, C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- S[ 2i + 1 ] ) &gt;&gt;&gt; t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- S[ 2i ] ) &gt;&gt;&gt; u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 = D - S[ 1 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= B - S[ 0 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Shari Oto</cp:lastModifiedBy>
  <cp:lastPrinted>1998-08-17T01:08:49Z</cp:lastPrinted>
  <dcterms:modified xsi:type="dcterms:W3CDTF">1998-08-18T21:24:26Z</dcterms:modified>
  <cp:revision>139</cp:revision>
  <dc:subject/>
  <dc:title>RSA: 1977--1997 and beyond</dc:title>
</cp:coreProperties>
</file>