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6D7-6782-4C1B-BD46-BB9D29E3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306-9FAB-4446-B65F-77FB23BA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A4D-1803-4DBD-9AE4-026BE93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F6F-DF19-402F-9E5A-9D649F26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98E8-EB07-41B8-AADB-0D1717CC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BD9-6062-4C25-BF99-3DF9B609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3DEB-179E-434D-90DD-B9349300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6688-1FF7-4522-B0A5-5F654347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765E-99CC-4424-9100-268DF01A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52C4-CA0A-44F9-A8EE-A8B2D59C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840F-A239-485C-920C-4574CCA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808-C57A-46FF-B231-906DC143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6D37-6D06-41E0-A96F-90036B4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0527-3EF4-4FA0-AF05-A82F85B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1142-41D5-428B-A50C-5B7737E4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3932-E25A-4711-B6A2-6B984166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222-8DF1-4EA2-A2DF-433FE7CB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861-476D-4530-92E8-26D793D9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E73-35FB-4048-BE51-5A9CEF2C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A78-8A9E-4DB3-849C-D5A7C15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BDE-FE05-41AC-8F4E-FCD943A0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B11-02E5-49A4-83ED-65FAEAC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31D-0DE6-4DE3-A8C3-88064379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6F5-E5EA-447F-8783-582FECC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and Discrete Logarithm Based Cryptograph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le of Two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 and Moses Lisk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DDD6-7069-4242-8DF1-D6F9EC970C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realized to be promising, it must be implem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ryptosystem must be made efficient enough to be practic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ryptosystems have not been made efficient enough to be widely accep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CDB-8506-4A84-8E7F-CD03CF2815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mplementation results can be used by both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DL require efficient modular exponentiation and multipl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L requires efficient EC multiplication and add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1C9-0471-49F7-9214-F138A2755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lization &amp; Standard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D85-10D6-4CFA-8C28-257D985D3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ability of the Crypto community to break an algorithm is reassu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that an algorithm is secure is far more desi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vably secure variation is often attainable, under some assump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BBA-022F-4F87-BEE6-80FEC989E0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ofs of Securit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 and PSS provide provably secure methods for using R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cheval-Stern and Brickell provide provably secure variants of DSA and ECD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 of equivalence betwee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8D1-A5C9-4B1A-805B-B8EFF992B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 algorithm is very well accepted, standards must be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are necessar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level of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standards, actual implementation and use is very difficu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8D9-6E80-4B6B-922C-08C6AB32FA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andardiz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families have survived this process; they are the only ones to have made it this f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ng (RSA): PKCS #1, ANSI X9.31, X9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DSA, DH): ANSI X9.30, X9.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 (ECC): ANSI X9.62, ANSI X9.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, IEEE P1363 covers all of th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204-586C-4E3C-88DA-ED71E81E7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 cryptosystem is fairly well established, it becomes a natural tool for more advanced techni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techniques solve limited, specific problems in new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Private Key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F36-1BEC-457F-9F54-4A40D41EA8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ced Techniq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(cont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ind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 Sharing / Threshol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niable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ro Knowledge Proofs of Key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B19-080F-4CB6-A7D4-F410F4E999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rete Logarithm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560" y="44956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iffi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DH7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038480" y="3657240"/>
            <a:ext cx="0" cy="304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80680" y="2895480"/>
            <a:ext cx="163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liptic Curve 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y Miller and Kobli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il86] [Kob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7520" y="5029200"/>
            <a:ext cx="157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ElGamal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Elg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191120"/>
            <a:ext cx="90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DSA</a:t>
            </a: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, DS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200400" y="2819160"/>
            <a:ext cx="0" cy="11430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1160" y="25146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962520"/>
            <a:ext cx="0" cy="76176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6320" y="4724280"/>
            <a:ext cx="111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Mod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Expon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[BGM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6000" y="4419720"/>
            <a:ext cx="153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H proved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o DL under cer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sumptions [Mau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962520"/>
            <a:ext cx="0" cy="1295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5960" y="53341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EC reduced to D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certai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MOV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295280" y="327636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5120" y="2703600"/>
            <a:ext cx="11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dex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thod [Adl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09680" y="25909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3440" y="2057400"/>
            <a:ext cx="129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DL [BM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53080" y="2514600"/>
            <a:ext cx="0" cy="1447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2920" y="1865160"/>
            <a:ext cx="91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Gor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15120" y="4379760"/>
            <a:ext cx="12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ppersmith 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on GF(2</a:t>
            </a:r>
            <a:r>
              <a:rPr b="0" lang="en-US" sz="12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op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29600" y="365724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48520" y="2855880"/>
            <a:ext cx="78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1st E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2767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543440" y="3657600"/>
            <a:ext cx="6858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172200" y="3352680"/>
            <a:ext cx="0" cy="6098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9840" y="289548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Authenticated 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developed [DVW9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81480" y="2666520"/>
            <a:ext cx="0" cy="12956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5600" y="21337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norr ID/sig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Sch9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0" cy="457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5240" y="44197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Chaum et al. Z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roof [CEGP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8400" y="533412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ballo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305920" y="2742840"/>
            <a:ext cx="0" cy="12193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560" y="2057400"/>
            <a:ext cx="120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62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X9.63 for 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10280" y="2895480"/>
            <a:ext cx="0" cy="10670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4160" y="24382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ANSI X9.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962520"/>
            <a:ext cx="0" cy="16002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1880" y="563868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dra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5AC-682B-47A3-B90E-C1E34C6427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.D.H. (Before Diffie-Hellman)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ymmetric cryptography ex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y didn’t focus on hard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research area: Key Distribu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result cracked the field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C1B-9433-4BFB-B908-D03D897C9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ctoring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960" y="449568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SA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invented [RSA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95280" y="2590920"/>
            <a:ext cx="0" cy="1371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4040" y="2017800"/>
            <a:ext cx="117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abin’s vari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of RSA [Rab7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477120" y="3429000"/>
            <a:ext cx="0" cy="5335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43000" y="2743200"/>
            <a:ext cx="130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Fast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implement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SA [SV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133720" y="3352680"/>
            <a:ext cx="0" cy="6098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52960" y="2666880"/>
            <a:ext cx="137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Chinese 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Theorem effici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result [QC8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200400" y="2590920"/>
            <a:ext cx="0" cy="137160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41160" y="228600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Times New Roman"/>
              </a:rPr>
              <a:t>Montgomery’s Method [M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33680" y="53341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Poly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Quadratic Sieve [Sil8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05720" y="3962520"/>
            <a:ext cx="0" cy="12189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4720" y="5181480"/>
            <a:ext cx="144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ener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ield Sieve [BLP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LZ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962520"/>
            <a:ext cx="0" cy="380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0360" y="4495680"/>
            <a:ext cx="124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SA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allenge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648320" y="35053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3962520"/>
            <a:ext cx="0" cy="4572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27360" y="4456080"/>
            <a:ext cx="121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elate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ttack [CFP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962520"/>
            <a:ext cx="0" cy="7617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4440" y="4800600"/>
            <a:ext cx="139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it Security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 RSA [ACGS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43434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105160" y="4343400"/>
            <a:ext cx="60948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6280" y="2971800"/>
            <a:ext cx="119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ublic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3 attack [Has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10280" y="2361960"/>
            <a:ext cx="0" cy="16002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39760" y="1865160"/>
            <a:ext cx="11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OAEP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96080" y="3580920"/>
            <a:ext cx="0" cy="38124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40320" y="3124080"/>
            <a:ext cx="99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PSS inv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[BR9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09880" y="3048120"/>
            <a:ext cx="0" cy="914400"/>
          </a:xfrm>
          <a:prstGeom prst="line">
            <a:avLst/>
          </a:prstGeom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9240" y="259092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Fiat-Shamir 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cc"/>
                </a:solidFill>
                <a:latin typeface="Times New Roman"/>
              </a:rPr>
              <a:t>scheme [FS8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305920" y="2971800"/>
            <a:ext cx="0" cy="9907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9800" y="2514600"/>
            <a:ext cx="95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NSI X9.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ado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37440" y="53704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638680" y="2666520"/>
            <a:ext cx="0" cy="129564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2096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KCS #1 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4343400"/>
            <a:ext cx="0" cy="76212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3280" y="502920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ISO/IEC 9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33"/>
                </a:solidFill>
                <a:latin typeface="Times New Roman"/>
              </a:rPr>
              <a:t>pu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033-A7A5-4B2A-8EE3-68453CED63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ther Techniques Timelin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3962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6104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40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36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429000"/>
            <a:ext cx="0" cy="533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2920" y="4495680"/>
            <a:ext cx="164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(Algebraic Co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3760" y="274320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[MH7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962520"/>
            <a:ext cx="0" cy="5331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304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3280" y="34290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00400" y="35053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5160" y="27795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erkle Pro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2160" y="460836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CR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962520"/>
            <a:ext cx="0" cy="457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4419720"/>
            <a:ext cx="83844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00600" y="2285640"/>
            <a:ext cx="0" cy="1676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1880" y="1828800"/>
            <a:ext cx="17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Revised Chor-Riv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Knapsack System [CR8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3962520"/>
            <a:ext cx="0" cy="12952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50680" y="5257800"/>
            <a:ext cx="139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LUC cryp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SS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4648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638680" y="3200040"/>
            <a:ext cx="0" cy="7621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305920" y="3276360"/>
            <a:ext cx="0" cy="6858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07160" y="2627280"/>
            <a:ext cx="154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Ajtai-Dwork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based cryptosystem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ome analysis [AD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42440" y="2475000"/>
            <a:ext cx="1613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Goppa code variant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McEliece cryp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roposed [GPT9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3657600"/>
            <a:ext cx="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5360" y="2819520"/>
            <a:ext cx="126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Knapsack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Sha8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3962520"/>
            <a:ext cx="0" cy="8380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04720" y="4800600"/>
            <a:ext cx="12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ultiple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erkle-Hell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ken [Bri8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2320" y="3505320"/>
            <a:ext cx="0" cy="1522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361960" y="3657600"/>
            <a:ext cx="5331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162920" y="2285640"/>
            <a:ext cx="0" cy="16765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9160" y="190512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r-Rivest att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SH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3962520"/>
            <a:ext cx="0" cy="685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96960" y="4608360"/>
            <a:ext cx="148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dvantages of LU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brought into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BBL9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962520"/>
            <a:ext cx="0" cy="18288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1920" y="579132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Goppa code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debunked [Gib9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10480" y="3962520"/>
            <a:ext cx="0" cy="1371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01120" y="5410080"/>
            <a:ext cx="129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cEliece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[CS98], [S9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9F3-D334-4359-9A0A-AB05A786C9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Two Familie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have held up through the full development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ther family has made it through the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based on seemingly hard but not NP-complet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DEE-7526-4D29-8CC5-70E692BCA9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is Better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ither DL nor Factoring is entirely better in practice; each has its own advant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one family often propagate to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key validation (DL to Facto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K identity schemes (Factoring to 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453-69F5-42BD-83F9-8E4F4725B0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possible that the DL problem and the Factoring problem could both become 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types of cryptography would give us a fallback in case this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8A2-4661-4078-A834-6FA8E10D4D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hould We Look for More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has been gained from our failed attempts at other types of crypto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were propo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tice reduction was used to break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as then found that lattice reduction bears some relation to factor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479-1421-4E63-8E24-EDF419FEE8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ere is Cryptography Going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 and Factoring will doubtless continue to be tested, and new, valuable result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deas will be proposed, and perhaps they can follow in the footsteps of the two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basic research benefits us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23F-1202-46B0-83CE-AA848D4365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00200" y="33526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ob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ce and Bob comp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reakthrough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ffie-Hellman key exchange system (197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lice and Bob share a secret ke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228-BAA0-42F9-A5CA-E9049ED2F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ffie-Hellman and RS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invented in 19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-key cryptosystem capable of encryption and signature as well as key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he stage for the next 20 ye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101-521B-4146-A14C-2C6F628BA9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wo Famil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and later ElGamal, DSA, and Elliptic Curve are all in the Discrete Logarithm (DL)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and related systems make up the Factoring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7AA-592A-4E1E-8971-A2CEA09E1A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ginning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cryptosystems are inven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e-Hellman invented in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 (197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le’s puzzles (197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apsack Cryptosystems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Eliece Cryptosystem (197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Curve Cryptography (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232-0757-405C-B64D-FC27DF0EF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cryptosystem is proposed, the Crypto community attempts to brea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cryptosystems that have been proposed outside of the two families failed at this st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knapsack cryptosystems were found to be in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895-06B4-4F13-B5D9-A38A1FF53E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, RSA, and Elliptic Curve all withstood analysis from the Crypto commu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an ongoing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0DA-EF90-4EB3-9C80-8364F027E1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ic Componen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Logarithm and Factoring both provide the same fundamental tools, but in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B51-D0CE-4DF6-8A77-7D0225DE27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4T20:16:34Z</dcterms:created>
  <dc:creator/>
  <dc:description/>
  <dc:language>en-US</dc:language>
  <cp:lastModifiedBy>Burt Kaliski</cp:lastModifiedBy>
  <cp:lastPrinted>1998-10-14T19:51:38Z</cp:lastPrinted>
  <dcterms:modified xsi:type="dcterms:W3CDTF">1998-10-29T17:17:24Z</dcterms:modified>
  <cp:revision>12</cp:revision>
  <dc:subject/>
  <dc:title>No Slide Title</dc:title>
</cp:coreProperties>
</file>