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ader-slide-wholep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RSALabs_logo" descr=""/>
          <p:cNvPicPr/>
          <p:nvPr/>
        </p:nvPicPr>
        <p:blipFill>
          <a:blip r:embed="rId3"/>
          <a:stretch/>
        </p:blipFill>
        <p:spPr>
          <a:xfrm>
            <a:off x="228600" y="5694480"/>
            <a:ext cx="129528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header-title-wholepage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RSALabs_logo" descr=""/>
          <p:cNvPicPr/>
          <p:nvPr/>
        </p:nvPicPr>
        <p:blipFill>
          <a:blip r:embed="rId3"/>
          <a:stretch/>
        </p:blipFill>
        <p:spPr>
          <a:xfrm>
            <a:off x="152280" y="572436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RSA Laboratories’ PKCS Series - a Tutorial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KCS #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us Nyström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,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vate-Key Information Syntax Stand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pecifies a syntax for private key inform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idely used to protect private key information in softwa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edecessor of PKCS #12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ivate key information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ivate ke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nformation about used algorith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 (possibly empty) set of attributes associated with the ke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PrivateKeyInfo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828800" y="2209680"/>
            <a:ext cx="5715000" cy="2362320"/>
            <a:chOff x="1828800" y="2209680"/>
            <a:chExt cx="5715000" cy="2362320"/>
          </a:xfrm>
        </p:grpSpPr>
        <p:sp>
          <p:nvSpPr>
            <p:cNvPr id="86" name=""/>
            <p:cNvSpPr/>
            <p:nvPr/>
          </p:nvSpPr>
          <p:spPr>
            <a:xfrm>
              <a:off x="1828800" y="2209680"/>
              <a:ext cx="5715000" cy="2362320"/>
            </a:xfrm>
            <a:prstGeom prst="rect">
              <a:avLst/>
            </a:prstGeom>
            <a:solidFill>
              <a:srgbClr val="8cc6a2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274320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28800" y="327672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98640" y="2249640"/>
              <a:ext cx="274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98640" y="2759040"/>
              <a:ext cx="495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vateKeyAlgorith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98640" y="3368520"/>
              <a:ext cx="33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vate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28800" y="396252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05120" y="4038480"/>
              <a:ext cx="33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9250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encryptedPrivateKeyInfo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2133720"/>
            <a:ext cx="5715000" cy="1295280"/>
          </a:xfrm>
          <a:prstGeom prst="rect">
            <a:avLst/>
          </a:prstGeom>
          <a:solidFill>
            <a:srgbClr val="8cc6a2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2666880"/>
            <a:ext cx="5715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98640" y="21733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ryption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98640" y="2682720"/>
            <a:ext cx="49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rypted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00080" y="3581280"/>
            <a:ext cx="7686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privateKeyInfo type is BER-encoded and then encrypt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ggested algorithms are from PKCS #5 (password-based encryption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ther PKCS #8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1.2 available 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ttp://www.rsasecurity.com/rsalabs/pkc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 planned changes, PKCS #8 is “algorithm-neutral”, but information on how to represent keys other than RSA (and D-H) keys may be usefu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21:00:49Z</dcterms:created>
  <dc:creator>Magnus Nystrom</dc:creator>
  <dc:description/>
  <dc:language>en-US</dc:language>
  <cp:lastModifiedBy>Magnus Nystrom</cp:lastModifiedBy>
  <cp:lastPrinted>1999-07-27T16:32:36Z</cp:lastPrinted>
  <dcterms:modified xsi:type="dcterms:W3CDTF">1999-09-27T21:37:23Z</dcterms:modified>
  <cp:revision>3</cp:revision>
  <dc:subject/>
  <dc:title>RSA Laboratories’ PKCS Series - a Tutorial</dc:title>
</cp:coreProperties>
</file>