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047010"/>
        <c:axId val="8760022"/>
      </c:barChart>
      <c:catAx>
        <c:axId val="810470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60022"/>
        <c:crosses val="autoZero"/>
        <c:auto val="1"/>
        <c:lblAlgn val="ctr"/>
        <c:lblOffset val="100"/>
        <c:noMultiLvlLbl val="0"/>
      </c:catAx>
      <c:valAx>
        <c:axId val="87600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0470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6E25-73DB-4B28-9D00-F99C44271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BB9D-DCB7-4478-83E8-E69C91F23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35F6-A433-4E44-A082-2381946C1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8A60-85E5-4A14-A97C-3F1793E41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DE56-6058-419D-ADD7-FECF8C817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54D6-9F61-4F7B-B19D-74E8253E1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7A8C-9981-41F8-AF35-1F7A20C9E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498D-A901-4820-96F1-CB6357AE0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D8DE-613D-4DDA-97B1-E43913A18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7995-8418-4365-955D-A4600A57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1C60-E85D-4133-91DA-6F764D61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9AF2-6EBE-465A-A61C-B3812498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EFB362-B0D3-4C96-AEE6-D9BB791C5F9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