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92414"/>
        <c:axId val="71763938"/>
      </c:barChart>
      <c:catAx>
        <c:axId val="60592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63938"/>
        <c:crosses val="autoZero"/>
        <c:auto val="1"/>
        <c:lblAlgn val="ctr"/>
        <c:lblOffset val="100"/>
        <c:noMultiLvlLbl val="0"/>
      </c:catAx>
      <c:valAx>
        <c:axId val="71763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92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27C-ECC7-44BB-951E-41F93A6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63E-C22D-458D-9587-4C45C8A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03B-E02E-4710-9803-E54DFCFE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C06-C3B6-402A-A9A7-AC880BDD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794-A7BF-4328-A206-1D1ADEA2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B24-D817-41F2-81BA-FC56A7E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075-10A3-4992-9486-C48E550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38A-6AB1-4891-A98A-1FB3019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93E-D9D5-49F9-9A84-0744F12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120-52C8-4F1A-A98B-288200D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60D-A870-41DD-A6B4-EB711B6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C8E-AAC7-43DC-871C-91CC38E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9D1AB-7078-4D2E-9DD1-ECCE828C5D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