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863706"/>
        <c:axId val="31048321"/>
      </c:barChart>
      <c:catAx>
        <c:axId val="998637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48321"/>
        <c:crosses val="autoZero"/>
        <c:auto val="1"/>
        <c:lblAlgn val="ctr"/>
        <c:lblOffset val="100"/>
        <c:noMultiLvlLbl val="0"/>
      </c:catAx>
      <c:valAx>
        <c:axId val="310483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637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A0A5-6182-4B98-AD0B-B9BB4E61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2AE2-6A83-4A34-AA59-9E162D4F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5072-4F09-4999-8E61-A5A00E27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E533-0CF7-49B4-9B9A-F9A3606C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16DD-C092-41F0-AC9B-5524ED09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EC52-90A2-4E81-93D6-D53B62E3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4354-E0F3-408A-9987-2E521C52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9597-F9D2-43AC-9B71-144DC421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D231-2552-40FD-8F19-2FA58FB5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574E-E82F-42EF-BD35-0BAC501A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79FD-049B-4CF6-9CC7-18420AC4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A154-EB07-4C31-B965-2EF77081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E8EA4-C9E4-472F-B326-088379803B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