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B88-D7D5-4D97-A6F1-8313EB87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151A-8A99-44D5-A6B4-27162630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A7EB-3437-4246-B771-9F788674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C19E-47A6-4248-A02C-80A21ADF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976-503F-491E-B673-529B233E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002-CF8C-4E59-8BF5-554F802F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77D4-50BC-46F3-9F4A-CB19B145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4C23-5F9D-4955-91EF-3C1DA76B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6A8F-F3CE-444A-9F24-6DCF7AB5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3DE8-DD7A-44AA-B0B3-4C86C2B1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CAC6-1490-4277-883A-E911BC6D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56F7-39F9-4041-A14C-029C3F48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F48D-30E3-4A77-94E0-39D805F02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1 : RSA Cryptography Standar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sica Stad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7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SAES-OAEP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EME-OAEP-Encod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SAEP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yp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ivate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SADP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vate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EME-OAEP-Decod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unded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bitrary length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ME-OAEP-Encode(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ction 9.1.1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output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G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mask gener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length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encoding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length of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ed message, EM (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r, “message too long”, or “parameter string too lo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AES-OAEP-Encrypt calls this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752480" y="838080"/>
          <a:ext cx="632484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838080"/>
                    <a:ext cx="63248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E-OAEP-En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uxiliary Functions (Section 10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tic functions, variable length input, fixed length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sion resistance important to deter forgery of v1.5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-1 is recommended for EME-OA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D2, MD5 and SHA-1 are recommended for all other encod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-61200"/>
            <a:ext cx="7086600" cy="65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99840" y="10666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k generation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tic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variable length input and output string of any predetermined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2.0 defines an MGF based on a hash function, MGF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-1 is the recommended hash function for MGF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GF1(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00200" y="9907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ed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length of the mask (the out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T be the empty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0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, do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 algn="just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n octet 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ength 4 with the primitive I2OS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2OSP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 algn="just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Concatenate the hash of the se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octet 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s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the lead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te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the octet 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N.1 for RSA-OAEP (Section 11.2.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391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ntax allows for increased functionality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hash functions, other types of MGF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ID for the RSAES-OAEP encryption sche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-RSAES-OAEP OBJECT IDENTIFIER ::= {pkcs-1 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ame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eld associated with this OI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gorithm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all have ty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SAEP-OAEP-param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769608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SAES-OAEP-params ::=  SEQUENC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Func [0] AlgorithmIdentifier{{oaepDigestAlgorithms}}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DEFAULT sha1Identifi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skGenFunc [1] AlgorithmIdentifier{{pkcs1MGFAlgorithms}}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DEFAULT mgf1SHA1Identifi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SourceFunc [2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gorithmIdentifier {{pkcs1pSourceAlgorithms}}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DEFAULT pSpecifiedEmptyIdentifier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9840" y="-23760"/>
            <a:ext cx="7086600" cy="65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-36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v2.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octet string that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explicitly, although the syntax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flex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kcs1pSourceAlgorithms ALGORITHM-IDENTIFIER ::= {{OCTET STRING IDENTIFIED BY id-pSpecified}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ncoding parameters are specified explicitly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-pSpecified OBJECT IDENTIFIER ::= {pkcs-1 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eld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-pSpecifi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all have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CT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ntaining the encoding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SpecifiedEmptyIdentifier ::=AlgorithmIdentifier {id-pSpecified, OCTET STRING SIZE (0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defaults for all the fields in RSAES-OAEP-params are used then the AlgID has the val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SAES-OAEP-Default-Identifier ::= AlgorithmIdentifier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id-RSAES-OAEP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{sha1Identifier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mgf1SHA1Identifier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pSpecifiedEmptyIdentifier }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date on status of v2.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v2.0 cont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chnical highlights of v2.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ilities for 2.x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ilities for v2.x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99840" y="1295280"/>
            <a:ext cx="7086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ture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able security (P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recovery (PSS-R, ISO/IEC 979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options (X9.31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gener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valid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SO/IEC 9796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national standard for signatures with message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involves padding, extending and adding redundancy to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provably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X9.31 rDS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ash based encoding 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h1"/>
                <a:ea typeface="Math1"/>
              </a:rPr>
              <a:t>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header || padding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|| tra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h1"/>
                <a:ea typeface="Math1"/>
              </a:rPr>
              <a:t>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notes the signature ope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Key generation method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 generation methods from ANSI draft X9.79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ime Number Generation and Validation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eving procedu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lity tests (probabilistic/deterministic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Key validation methods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an area of researc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ossibiliti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for show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roduct of two pr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of Liskov and Silverman for showing that the two factor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nearly eq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tus of v2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2.0 was posted for 30-day review on 7/14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2.0 was submitted as an Internet-Draft to the IETF on 8/6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ew comments were received…and the final document was posted on 9/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verview of v2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5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AEP-based encryption (Bellare-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1.5 encryption, for backward 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1.5 signature scheme with a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OIDs for the OAEP-based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echnical Highligh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47920" y="22093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SAES-OA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xiliary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tyle and terminology of v2.0 is similar to IEEE P1363: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 and de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ture and 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and signature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d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ncryption and signatures w/ append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xiliary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mathematical oper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s are used i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 RSAEP(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between 0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, output “message representative out of range” and st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Outpu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primitives and other techniques (e.g. encoding methods) to achieve a particular security go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SAES-OAEP (Section 7.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the random oracle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ably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ie security to the RSA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text-a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” generate valid ciphertext w/o the plai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sen-ciphertext attacks are in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Jessica Staddon</cp:lastModifiedBy>
  <dcterms:modified xsi:type="dcterms:W3CDTF">1998-10-07T03:17:20Z</dcterms:modified>
  <cp:revision>93</cp:revision>
  <dc:subject/>
  <dc:title>Emerging Standards for Public-Key Cryptography</dc:title>
</cp:coreProperties>
</file>