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1E0-7831-450F-9B97-940B0C0D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5FD-8C85-40AC-937A-04BA646E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CCF-0556-4325-8048-085E1413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415-AD6A-4B2B-B8B7-A9C3D6C0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C5F-596D-4A6E-B190-69C4DF6B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03F-B607-45C6-BCC0-9E6A37A9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C40-BD45-4109-9278-05E418FA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E49D-59C4-47DD-A5EB-F98F5CCD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1A6-4FB0-439E-A1B3-AA2E6125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961-0449-44E7-A37A-37EE5133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323-A761-4501-B0AB-6B0AFD1E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299-7F61-428D-8641-36C8A72D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CF70-0C8D-4140-94D0-42A0F30DB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KCS Workshop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KCS #12 / PFX Comment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ke Ramsd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ef (Applied) Cryptogra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talk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/7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42900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m I yapping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ing PKCS #12 compl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y 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patible implementations (mostly resolv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ways to do the same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word-derived symmetric keys lumpe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ngle source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 I doing this right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it the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private keys 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xisting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rec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mpatible implem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he spec said, what Vendor M did and what Vendor N d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I put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edPrivateKey vs. Encrypted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ck, do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metric key 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ongs in PKCS #5, not lumped in with PKCS #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y within ASN.1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there are no shortcuts for dictionary or other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ish th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a completed PKCS #12, not PKCS #12 plus email th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v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h, we need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3840" y="2133720"/>
            <a:ext cx="45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ke C. Ramsdel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blaker@deming.co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tp://www.worldtalk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6T02:00:29Z</dcterms:created>
  <dc:creator>Blake C. Ramsdell</dc:creator>
  <dc:description/>
  <dc:language>en-US</dc:language>
  <cp:lastModifiedBy>Shari Oto</cp:lastModifiedBy>
  <cp:lastPrinted>1998-10-07T16:02:56Z</cp:lastPrinted>
  <dcterms:modified xsi:type="dcterms:W3CDTF">1998-10-07T17:19:46Z</dcterms:modified>
  <cp:revision>7</cp:revision>
  <dc:subject/>
  <dc:title>PKCS #12 / PFX Commentary</dc:title>
</cp:coreProperties>
</file>