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685-0484-4CC7-AC8A-F980FD1C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574-DF19-492F-9610-D34363DF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1D5-F715-47D2-B471-3E93BC05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5DE-DE16-4DDA-99F0-848A1CF4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ECE-81F8-4307-BDCF-EE28743E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4BC-A6F0-432F-BE0A-FC0623E0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CB7-EB8F-44DE-A4F5-D832A085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068-7F69-4839-ADE5-03D425C8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DBB-7605-429F-942D-949A8B2B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1F4-6790-4D76-9662-AD0ADDA6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162-69EB-4A32-92A1-8E5C4C1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4AA-A983-4F9E-8559-C9C671D2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04D6-E300-47A7-AFBD-45A03B761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3: Elliptic Curve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P Consider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 in general is not patented, but specific choices may be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QV 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compress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profile is intended to be unencumbered, though some implementation techniques may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choices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file too gener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would fewer choice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EEE P1363 Profile for PKCS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be a better ti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ptic curve cryptography is emerging as a new public-key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ndardization underw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X9.62,.63, IEEE P1363, IS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3: a profile of exist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: in preparation, this is a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CC: Primary Choic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finit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ic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nite Fiel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characteristic: 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GF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e.g.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characteristic: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field represent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generally faster (esp. in hardware), odd leverages existing modular arithmetic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Agreement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” 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Q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H basic, “unified” more flexible, MQV more efficient for joint static/ephem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, X9.63 draft have all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berg-Rue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no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 “standard,” NR allows message recovery, Schnorr more “prov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has first two, X9.62 has D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(= DH + multipl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/MIM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eng-Seberry, Bellare-Rogaway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basic, S/MIME enhanced, ZS and BR “provable”,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S, BR submitted to P136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 in X9.63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: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ressed: only one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acted: one less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ly (with algorithm cha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, processing tradeo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supports uncompresse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Pro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ith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H, ECDSA, P1363a 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, with P1363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parameter and key generation, validat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Burt Kaliski</dc:creator>
  <dc:description/>
  <dc:language>en-US</dc:language>
  <cp:lastModifiedBy>Burt Kaliski</cp:lastModifiedBy>
  <cp:lastPrinted>1998-08-07T15:04:05Z</cp:lastPrinted>
  <dcterms:modified xsi:type="dcterms:W3CDTF">1998-10-05T17:10:35Z</dcterms:modified>
  <cp:revision>178</cp:revision>
  <dc:subject/>
  <dc:title>PKCS #13: Elliptic Curve Cryptography Standard</dc:title>
</cp:coreProperties>
</file>