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83A-AE87-4395-80C1-2D7350E3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45E-17A4-41D8-9723-E7E41A79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6A7E-3070-4359-8800-F3D3D071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8C4-53C3-4E7F-97AC-03C971F8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D5B-16E0-4132-ABE3-F6A0548D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A76-0EB0-4743-B663-E5700561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74DF-CFFD-4A32-A21F-0E5B52B4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1E5-D082-498D-B136-5C9F7D44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F22-304E-4F07-9FB2-574194AE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04BB-EED5-4FB6-9CC5-63F0281E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771-5F59-4F06-97BC-9336B590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5EBA-A5FD-4BF8-A7E5-5EE567AC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Data Security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fld id="{DE7AD3D9-78C3-41A4-977D-100988E0C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BFFA-CAE5-4FA5-B7DC-662722ADF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4: Pseudo-Random Number Gener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. Baldwin - RSA 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dwin@rs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W. Gray, III - 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gray@rs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KCS Workshop ’98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tober 7-9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-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-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eta-Criteri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New Algorithm Must Be Bet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 Existing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Measure Bet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haps Multiple Sets of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Conflicting Se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pher-Based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ort Reg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-Based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able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nentiation-Based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ull Digest, Not Hash-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Security Checklis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Passes Randomness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Minimum Cycle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Brute Force State Gu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Output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3DES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256-Bit AES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Use of Seed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Security Checklis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Known Cryptanalytic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l Against Cipher or Digest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ing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 Forward and Backward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ker Control of Some Seed Does Not Help Mu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Conservative Securit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n Security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Studied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Known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pted Properties of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Intellectual Propert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Well-Defined Own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Of Ownershi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atents On Any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s On Primitives Not Constr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s On Constr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s On Whole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Understood Licensing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Discriminatory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API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Full Set of Operations for a PR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Initial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“Random”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New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e and Restore Stat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 Te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for Needs-More-Se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Bytes Output Since Last S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-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-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tructure of PRNG Algorithm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Seed Material to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One Block of Output From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 State Without New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 (Mayb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 &amp; Restore State (Mayb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-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-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omparing PRNG &amp; KDF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55720" y="1571760"/>
          <a:ext cx="6519960" cy="38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5720" y="1571760"/>
                    <a:ext cx="651996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 = Concate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x | = Bit Size of “x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= Unsigned Integer Ad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= Unsigned Integer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^ =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or = Exclusive-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X1 .. Xn = Seed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 Y1 .. Ym = Output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z) = Digest of value 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(k, m) = Encrypt block m with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bcRes(k, M) = CBC Residue of message M with key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(PRF) Family of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SAFE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a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t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L K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via MD5, SHA1, RIPEMD-1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8 or 160 Bit 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ES needs 168-Bit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Output by Digest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Constant (BSA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FSR or L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Digest (Gutmann, Yarr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 Addition of Digested Seed (BSAFE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 (State || Seed) (BSAFE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Initial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S1 || S2 = Internal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S | = 256 Bits,  | S1 | = | S2 | =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 = D(Pad1 || X) truncated to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2 = D(Pad2 || X) truncated to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ad1 | = | Pad2 | = 51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ct Up To 256 Bits of Entr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j = HMAC (S, S || 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: Yj = HMAC (S,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j = D (S xor Pad1 || D (S xor Pad2 || S|| j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j = D (S xor Pad1 || D (S xor Pad2 || j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ad1 | = | Pad2 | = 51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j | = 192 Bits (Room for End Pad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 is just:  j = j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put Diagram for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07320" y="151596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hows Alternative: Yj = HMAC (S,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3649680"/>
            <a:ext cx="81612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4880" y="3100320"/>
            <a:ext cx="504720" cy="297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4880" y="3122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76680" y="2282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41560" y="2739960"/>
            <a:ext cx="0" cy="224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4160" y="327024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8160" y="3402000"/>
            <a:ext cx="0" cy="247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95640" y="36655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85880" y="3859200"/>
            <a:ext cx="309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5369040"/>
            <a:ext cx="81612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4880" y="4819680"/>
            <a:ext cx="504720" cy="297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4880" y="4842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4160" y="4989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8160" y="5121360"/>
            <a:ext cx="0" cy="247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97080" y="537372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85880" y="5578560"/>
            <a:ext cx="309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38400" y="4176720"/>
            <a:ext cx="7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90760" y="45036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25800" y="2455920"/>
            <a:ext cx="7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8160" y="27828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7720" y="370512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51000" y="542592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24200" y="3835440"/>
            <a:ext cx="544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24200" y="5567400"/>
            <a:ext cx="1967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55920" y="3649680"/>
            <a:ext cx="81612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48160" y="370512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1240" y="5381640"/>
            <a:ext cx="81576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83120" y="543708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2880" y="2306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760" y="2819520"/>
            <a:ext cx="0" cy="82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25720" y="29764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8920" y="27874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00480" y="27273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1640" y="44607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25720" y="46832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94120" y="306216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ad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11840" y="3378240"/>
            <a:ext cx="0" cy="258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06800" y="3344760"/>
            <a:ext cx="8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84640" y="3848040"/>
            <a:ext cx="81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00760" y="3859200"/>
            <a:ext cx="0" cy="152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54760" y="384012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83280" y="44323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ad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37360" y="477504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32680" y="47433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31120" y="5603760"/>
            <a:ext cx="977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59680" y="502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05560" y="56102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18080" y="55720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1560" y="214776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S | = | j | = 256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7320" y="263196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F = SHA1-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3465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89320" y="50547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62000" y="56595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gh Consensus on 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Discussion of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up Interested Participants For Further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, X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 = D(S xor Pad1 || Xk) truncated to 1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2 = D(S xor Pad2 || Xk) truncated to 1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ad1 | = | Pad2 | = 51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Initial Seeding With S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enefits of Digest-PRNG 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State Avoids 3DES Key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Cycle Length of 2^192 Bloc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Output Cycle Length May B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 From Literature on H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Literature (Krawczyk, Bellare, Roga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rawbacks of Digest-PRNG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lgorithm, No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Avoid Back-Tracking Attac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roofs of Security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d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er Than BSAFE’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X for Outpu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New Digest-PRNG Algorithm #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ing developed by Jim G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able” Security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Hash Compression Function Rather than Full Digest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Under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lock-Cipher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9.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are, Rogaway,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ed to MAC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awczyk, Davis, Meyer, and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lock-Cipher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Often Unspec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pher-Based Digest (MDC2, Davies-Meyer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= Key and Message-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by Encrypting Part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 Single Block 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-Residue of Large Counter (Micro-BSA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lock-Cipher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Message-Block and/or Key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Constant (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FSR or L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Encryption (X9.17, 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nd Counter (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Rogaway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64-bit block 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Keys Of At Least 128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, RC5, 3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Generalize to AES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) = Davies-Meyer One-Way H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= H(Prefix1 || X)  --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S = S1 || S2 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Prefix2 || X)  --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refix1 | = | Prefix2 | = 6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otivation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nda-san:  Ask why 3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Increase System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: Users and Developers Feel Sa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Lawyers Are Happier  :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Accepted Good Business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 Intellectu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711036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j = CbcRes (GK, 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K = H(K || j &gt;&gt; d) = Generatio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” sets key change rate. 0 &lt; d &lt;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Res = 64-bit CBC Resid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bcRes (K, S1 || S2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Enc (K, S2 xor Enc (K, S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S1 | = | S2 | = 64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j &gt;&gt; d | = 6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 State (L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S + C modulo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is 128-Bit Pr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Care to Avoid Timing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CbcRes Key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2^d Outpu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K = H(K || j &gt;&gt; 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j &gt;&gt; d | = 6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, X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) = Davies-Meyer H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= H(Prefix1 || K || X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 H(Prefix2 || M || X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enefits of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State Avoids 3DES Key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Cycle Length of P (~2^128)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Cycle May B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t Faster Than Digest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Literature (Rogaway, Bellare, Dav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rawbacks of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rotection Against Back Tr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lgorithm, No Direct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-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and Block-Cipher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Using 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by Encrypting Part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 Single Block 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-Residue of Large Counter (Micro-BSA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and Block Cipher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 and/or Key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Constant (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FSR or L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Encryption (X9.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Ha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tream Cipher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Using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Key Stream 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C4, PIKE, SEAL, VESTA, A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Stream Cip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Non-Purposes for 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: “Entropy” Gathering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: Ensure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: state save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odular Exponentiation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Using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Function of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arity, LSB, O(log log n) Bit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e 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ture for BBS, ACGS, and B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 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scussion of Criteri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ocumenting BSAFE Enoug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Cipher-Based PRNGs Nee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Patent-Free Requ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NG Construct and/or Primi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Re-Seeding Nee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Digest Function Internals Be U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Purposes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Establish Accepted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Ensure Correc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V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Ensure Str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e Literature (Provable Propert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ocus for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Purposes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be: Document Evaluat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be: Evaluate Different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: Repeat RIP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Input to Other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Scope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Document the BSAFE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alog All Known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roke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One Ideal PRNG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 Few Goo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for Each Major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Criteria for Goo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urrent Scope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a Few Goo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ing BSAF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May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Existing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Construct OK With Proo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e Preliminar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ure &amp; RSA Bullet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ob Baldwin</cp:lastModifiedBy>
  <cp:lastPrinted>1998-10-01T16:58:14Z</cp:lastPrinted>
  <dcterms:modified xsi:type="dcterms:W3CDTF">1998-10-09T21:22:50Z</dcterms:modified>
  <cp:revision>274</cp:revision>
  <dc:subject/>
  <dc:title>Emerging Standards for Public-Key Cryptography</dc:title>
</cp:coreProperties>
</file>