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25A5-53CB-4183-8848-CDDD4334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5295-8329-436C-AF27-353DB03C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4F02-9CA7-4BA0-B94D-3BB9C916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315F-C2C7-4507-857F-B5445657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B282-430C-444C-8C05-F830D2D5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361F-68FB-4317-B4A7-9B94ADA8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1EC5-9A93-40D3-AE19-FDA6A242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B994-8BB8-4E0A-94E0-897FC3B7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094C-8C8F-4CEB-91F2-DEEEB8F0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8118-269F-4F83-BCF3-BDEB834C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8F32-2BA0-4358-9744-7BCDAD24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8311-54F0-4BDC-823F-6B009B12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5967-83B5-4590-AD1D-66E13A371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#15 - 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n ICC File Format Recommend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us Nyströ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CS Worksho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ard layo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198108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335268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F(PKCS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457200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D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457200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4572000"/>
            <a:ext cx="8384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r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29400" y="335268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D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952520" y="25909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25909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885840" y="39625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39625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388620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4572000"/>
            <a:ext cx="8384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ken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742840" y="380988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914400" y="1905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259092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37339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5638680" y="51814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4648320"/>
            <a:ext cx="83808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4572000"/>
            <a:ext cx="8384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inIn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4038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4724280" y="4952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The TokenInfo fil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information about the tok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its capabilities (and peculiarit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sponds roughly to PKCS#11 CK_TOKEN_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16765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DF - Object Directory Fil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to all objects on the 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ir attributes (or pointers to their attribu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160020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in Information Fil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 needs to kn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PIN is case-sen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given PIN needs to be ‘padde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everal PINs, there is a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ssociate PINs with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know if a PIN is local or 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16765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en Object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values for one or more token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contain their other attribute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not be in same DF as O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16765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7496"/>
                </a:moveTo>
                <a:lnTo>
                  <a:pt x="7301" y="7496"/>
                </a:lnTo>
                <a:lnTo>
                  <a:pt x="7301" y="12832"/>
                </a:lnTo>
                <a:cubicBezTo>
                  <a:pt x="7301" y="13754"/>
                  <a:pt x="8102" y="14485"/>
                  <a:pt x="9138" y="14485"/>
                </a:cubicBezTo>
                <a:lnTo>
                  <a:pt x="10800" y="14485"/>
                </a:lnTo>
                <a:cubicBezTo>
                  <a:pt x="11836" y="14485"/>
                  <a:pt x="12636" y="13754"/>
                  <a:pt x="12636" y="12832"/>
                </a:cubicBezTo>
                <a:lnTo>
                  <a:pt x="12636" y="7496"/>
                </a:lnTo>
                <a:lnTo>
                  <a:pt x="10800" y="7496"/>
                </a:lnTo>
                <a:lnTo>
                  <a:pt x="14308" y="3989"/>
                </a:lnTo>
                <a:lnTo>
                  <a:pt x="17981" y="7496"/>
                </a:lnTo>
                <a:lnTo>
                  <a:pt x="16144" y="7496"/>
                </a:lnTo>
                <a:lnTo>
                  <a:pt x="16144" y="12832"/>
                </a:lnTo>
                <a:cubicBezTo>
                  <a:pt x="16144" y="15599"/>
                  <a:pt x="13568" y="18158"/>
                  <a:pt x="10800" y="18158"/>
                </a:cubicBezTo>
                <a:lnTo>
                  <a:pt x="9138" y="18158"/>
                </a:lnTo>
                <a:cubicBezTo>
                  <a:pt x="6370" y="18158"/>
                  <a:pt x="3794" y="15599"/>
                  <a:pt x="3794" y="12832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#1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true card interoperability between card-awar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profiling for particular uses, like Electronic Identity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 PKCS#11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entatively targeted for v1.0 in             Q1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700" spc="-1" strike="noStrike">
                <a:solidFill>
                  <a:srgbClr val="000000"/>
                </a:solidFill>
                <a:latin typeface="Times New Roman"/>
              </a:rPr>
              <a:t>PKCS#15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Part III: Issues and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ssues (in no particular order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to recognize supported algorithm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to recognize supported command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# of PINs? PKCS#11 only supports on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coding of data: ASN.1/[PD]er or XDR or other (or several)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ssues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lationship to other initiatives (MultOS, PC/SC (CAPI), JavaCard)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pport for pure memory card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pecific card implementation detail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 certificates on the card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ral ODFs (keys, certs, etc) or none (implicit searching via File Identifiers)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How to proceed?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ggest a separate mailing list, e.g.      pkcs-15@rsa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is to reach a ‘final’ version during Q1 ‘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, feedback is solicited and 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16765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,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posal - an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s from the SEIS work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s Nilsson, AU Systems 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s from DC/SC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tt Guthery, Microso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n Alternative: Formal profili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- Information object class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-PROFILE ::= CLASS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id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BJECT IDENTIFIER UNIQUE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Ty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WITH SYNTAX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Type IDENTIFIED BY &amp;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ROFILE-PARAMETERS ::= CLASS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privKeyLength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NTEGER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noPrivateKeys INTEGER,..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WITH SYNTAX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NUMBER OF DATA OBJECTS ARE &amp;noDataObje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NUMBER OF PRIVATE KEYS IS &amp;noPrivateKey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PRIVATE KEY LENGTH SHALL BE &amp;privKeyLeng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OBJECT IDENTIFIER IS &amp;o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: Formal profiling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generic-pkcs15-profile { PKCS15-PARAMETERS : params } PKCS15-PROFILE ::=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F { params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DENTIFIED BY { params.&amp;oid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eid-params PROFILE-PARAMETERS ::=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NUMBER OF DATA OBJECTS IS 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NUMBER OF PRIVATE KEYS IS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PRIVATE KEY LENGTH SHALL BE 102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OBJECT IDENTIFIER IS { eid-oid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eid-profile PKCS15-PROFILE ::=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generic-pkcs15-profile { eid-params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: Formal Profiling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FContents {PKCS15-PARAMETERS params} ::= SEQUENCE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version INTEGER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rivateKeys     PrivateKeys {params}(SIZE(&amp;params.noPrivKeys)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ublicKeys      PublicKeys {params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ecretKeys      SecretKeys {params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ertificates    Certificates {params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dataObjects     DataObjects {params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PrivateKey {PKCS15-PARAMETERS : params }::= SEQUENCE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key                          INSTANCE OF PKCS15-KEY {params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CommonObjectAttributes PKCS15CommonObjectAttributes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CommonKeyAttributes    PKCS15CommonKeyAttributes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CommonPrivateKeyAttributes PKCS15CommonPrivateKeyAttribu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: Formal Profiling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PrivateRSAKey {PKCS15-PARAMETERS : params }::= SEQUENCE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modulusLength   INTEGER { params.&amp;privKeyLength 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ubjKeyHash     OCTET STRING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ath            [1] IMPLICIT PKCS15Path OPTIONAL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value           [2] IMPLICIT PKCS15RSAPrivateKey OPT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(WITH COMPONENTS {..., path PRESENT, value ABSENT} |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WITH COMPONENTS {..., path ABSENT, value PRESENT}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s to ASN.1: SSL not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num { xx_rsa_private_key(1), xx_ec_key(2), xx_certificate(3)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xx_secret_key(4) , (255) } XXObjectTyp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someth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RSAPrivate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someth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EC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someth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Certificat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s to ASN.1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someth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Secret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XXObjectType typ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 xx_rsa_private_key: XXRSAPrivate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 xx_ec_key: XXEC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 xx_certificate: XXCertificat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 xx_secret_key: XXSecret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Objec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XXObject objects&lt;0..2^16-1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WholeStuff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‘card format’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tailed description on how certain higher-level abstractions such as keys and certificates is represented on a particular card in terms of files, directory structure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an also contain recommendations about commands to use and access control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troduction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any standardized forma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has laid out the foundations in ISO 7816-4, defining file types and commands for accessing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generally recognized standard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troduction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card issuers have implemented their own formats, bound to their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standardized APIs aimed towards tokens like smart c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since there is no standard smart card format, users can’t receive full benefit from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mon card file format recommendation offers interoperability benefit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30960" y="2971800"/>
            <a:ext cx="37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sers (Card Hold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14040" y="3495600"/>
            <a:ext cx="25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ard Issu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9160" y="396252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pplication 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67400" y="4638600"/>
            <a:ext cx="576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goal of PKCS#15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CC File Format Recommen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700" spc="-1" strike="noStrike">
                <a:solidFill>
                  <a:srgbClr val="000000"/>
                </a:solidFill>
                <a:latin typeface="Times New Roman"/>
              </a:rPr>
              <a:t>PKCS#15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Part II: An Overview of the 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ormat Characteristics and Requiremen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on both crypto-capable cards as well as stored-value c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multiple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whole domain of PKCS#11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ormat Characteristics and Requirements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ightforward to do PKCS#11 interface, but not tied to PKCS#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ling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, and an application of,       ISO 78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SDTI</cp:lastModifiedBy>
  <dcterms:modified xsi:type="dcterms:W3CDTF">1998-10-13T17:15:29Z</dcterms:modified>
  <cp:revision>96</cp:revision>
  <dc:subject/>
  <dc:title>Emerging Standards for Public-Key Cryptography</dc:title>
</cp:coreProperties>
</file>