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0019-0FAA-4AE4-A7EA-600F97B43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99840" y="36734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2F89-C163-4796-A9A6-379306688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3116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1B8B-D40D-4A76-B1B1-E91C7260B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9600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9216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9984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99600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9216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14EA-EBBF-4BD0-BC4A-4A683B6D7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99840" y="22824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0B8E-E36E-4D2D-ACB8-09A24C25F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23116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599840" y="36734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23116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99600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39216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59984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99600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39216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5E86-A708-40D5-B620-6E99F5275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DE0A-5D6C-4454-AE4D-2F1868DDC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4FBD-B272-4CE2-9CA8-0D1517EBC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99840" y="22824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5704-D4F8-4700-8D09-6E43A82BC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5C42-1B52-472B-8C19-12417068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3116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BB53-DFBB-4DB5-A4A1-9230EE1F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50FB-8BB2-4A00-9DA4-6D933D0A1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371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RSA 199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560" y="640080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C3B20-9451-48AD-97D5-D69542810C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796160" y="6111720"/>
            <a:ext cx="1284480" cy="682920"/>
          </a:xfrm>
          <a:prstGeom prst="rect">
            <a:avLst/>
          </a:prstGeom>
          <a:ln w="0">
            <a:noFill/>
          </a:ln>
        </p:spPr>
      </p:pic>
      <p:pic>
        <p:nvPicPr>
          <p:cNvPr id="6" name="keys" descr=""/>
          <p:cNvPicPr/>
          <p:nvPr/>
        </p:nvPicPr>
        <p:blipFill>
          <a:blip r:embed="rId3"/>
          <a:stretch/>
        </p:blipFill>
        <p:spPr>
          <a:xfrm>
            <a:off x="0" y="0"/>
            <a:ext cx="13762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14400" y="1828800"/>
            <a:ext cx="8229600" cy="304920"/>
          </a:xfrm>
          <a:prstGeom prst="rect">
            <a:avLst/>
          </a:prstGeom>
          <a:solidFill>
            <a:srgbClr val="e48800"/>
          </a:solidFill>
          <a:ln w="0">
            <a:noFill/>
          </a:ln>
          <a:effectLst>
            <a:outerShdw dist="17819" dir="2700000" blurRad="0" rotWithShape="0">
              <a:srgbClr val="8851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14475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A Data Security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keys" descr=""/>
          <p:cNvPicPr/>
          <p:nvPr/>
        </p:nvPicPr>
        <p:blipFill>
          <a:blip r:embed="rId2"/>
          <a:stretch/>
        </p:blipFill>
        <p:spPr>
          <a:xfrm>
            <a:off x="0" y="0"/>
            <a:ext cx="13762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KCS #5: Password-Based Cryptography Standard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1237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rt Kalisk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SA Laborat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KCS Worksh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tober 9, 1998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ith minor edi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KCS #5 v2 Draf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assword-Based Cryptography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ft published 10/9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techniqu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ded v1.5 and new KD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ded v1.5 and new modular encryption sche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modular message authentication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New Key Derivation Function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BKDF2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kL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Compute block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ctr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0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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1) 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HMA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|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|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Output firs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kL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ctets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|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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|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Motivation for PBKDF2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MAC widely implemented, “provably secure” under reasonable assum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bitrary (iterated) hash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y be viewed as a PR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OR increases cost, preserves PR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 length through vary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New Encryption Schem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Select sal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teration coun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key lengt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k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Apply KDF to derive 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KDF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kL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Apply underlying encryption sche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En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meters such as IV selected separat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Message Authentication Schem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Select salt S, iteration coun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key lengt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k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Apply KDF to derive 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KDF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kL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Apply underlying message authentication sche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MA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Addressing the Limitation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gorithm restric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bitrary (iterated) hash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bitrary underlying encryption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oretical deficienc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al model / security proof for KD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ion still has “entropy bottleneck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can support wider hash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 practical problem for pass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 maximum length for ke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Supporting Technique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cryption schem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, DES-EDE3, RC2, RC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in CBC mode with PKCS #5 v1.5 pad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-EDE2, DESX, RC4 to be add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ssage authentication schem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MAC-SHA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ASN.1 Syntax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 derivation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PBKDF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cryption sche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ssage authentication sche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BKDF2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ic OI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-pbkdf2 ::= pkcs-5.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KDF2-params ::= SEQUENCE {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salt OCTET STRING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iterationCount INTEGER (1..)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keyLength [0] INTEGER DEFAULT 16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hashFunc [1] AlgID {{pbkdf2Hashs}}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DEFAULT sha1Identifier }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BES1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fic OIDs as in v1.5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eWithMD2AndDES-CBC ::= pkcs-5.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eWithMD5AndDES-CBC ::= pkcs-5.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eWithSHA1AndRC2-CBC ::= pkcs-5.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EParameter ::= SEQUENCE {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salt OCTET STRING SIZE (8)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iterationCount INTEGER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KCS #5 v1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KCS #5 v2 dra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BES2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ic OI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-pbes2 ::= pkcs-5.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ES2-params ::= SEQUENCE {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kdf AlgID {{pbes2KDFs}}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enc AlgID {{pbes2Encs}}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BMAC1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ic OI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-pbmac1 ::= pkcs-5.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MAC1-params ::=  SEQUENCE {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kdf AlgID {{pbmac1KDFs}}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mac AlgID {{pbmac1Macs}}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Discussion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KD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synt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pper” and usage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password-based techn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yptography with a password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ry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authent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ication, key establish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 some peculiar problem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swords are not conventional k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r are they very “random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General Model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ssword-based key deriv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e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PBKDF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sswor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al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u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al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events dictionary att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u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plicates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e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pplied to conventional crypto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KCS #5 v1.5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assword-Based Encryption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shed 11/9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encryption schem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D2 with DES-C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D5 with DES-C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KCS #5 v1.5 Encryption Schem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Generate sal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Hash with password to derive key, IV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||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Hash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coun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||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Pad message and encryp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||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d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DES-CBC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u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ent to recip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Limitations of v1.5 Schem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gorithm restric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two hash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underlying encryption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es padding, assumes CBC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oretical deficienc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formal model or security proof for KD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ion has “entropy bottleneck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xed maximum length for ke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Enhancement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SA Data Security extens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A-1 hash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C2-CBC encry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KCS #12 password-based sche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KCS Workshop ’97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ussion of PKCS #5 improv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New key derivation function to be specifi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Modular encryption, message authentication sche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for underlying scheme (e.g., IV) managed separ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urt Kaliski</cp:lastModifiedBy>
  <cp:lastPrinted>1998-08-07T15:04:05Z</cp:lastPrinted>
  <dcterms:modified xsi:type="dcterms:W3CDTF">1998-10-13T15:25:00Z</dcterms:modified>
  <cp:revision>185</cp:revision>
  <dc:subject/>
  <dc:title>Emerging Standards for Public-Key Cryptography</dc:title>
</cp:coreProperties>
</file>