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907588" cy="6858000"/>
  <p:notesSz cx="6727825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50760" y="786960"/>
            <a:ext cx="79632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11280" y="679320"/>
            <a:ext cx="8642160" cy="5778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610560" y="6464160"/>
            <a:ext cx="14950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Bruno Struif, GMD-TK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8676360" y="6515280"/>
            <a:ext cx="7149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F2D61D22-DBC1-41A8-9BE2-924D3DD4D04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914400" y="533520"/>
            <a:ext cx="1522440" cy="24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SmartCard-Techni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Logo" descr=""/>
          <p:cNvPicPr/>
          <p:nvPr/>
        </p:nvPicPr>
        <p:blipFill>
          <a:blip r:embed="rId2"/>
          <a:stretch/>
        </p:blipFill>
        <p:spPr>
          <a:xfrm>
            <a:off x="8763120" y="380880"/>
            <a:ext cx="753840" cy="83844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fc0128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459080" y="3886200"/>
            <a:ext cx="7018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7720" y="1828800"/>
            <a:ext cx="840924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German Digital Signature Card and</a:t>
            </a:r>
            <a:br>
              <a:rPr sz="3200"/>
            </a:b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Office Identity Card </a:t>
            </a:r>
            <a:br>
              <a:rPr sz="3200"/>
            </a:b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and </a:t>
            </a:r>
            <a:br>
              <a:rPr sz="3200"/>
            </a:b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PKCS #15</a:t>
            </a: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357560" y="4114800"/>
            <a:ext cx="70783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Bruno Strui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GM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German National Research Center for Information Technolog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Darmstad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762120" y="1981080"/>
            <a:ext cx="8381880" cy="41148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User Authentication</a:t>
            </a: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76176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c0128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PKCS15 describes PINs and passwords, but no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biometric user authent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c0128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The German Digital Signature law allows biometric user authent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c0128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It is technically already feasible to implement 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biometric feature matching algorithms in car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c0128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ISO/IEC will add an amendment to 7816-4 with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respect to biometric user authent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Times New Roman"/>
              </a:rPr>
              <a:t>VERIFY Command</a:t>
            </a: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143000" y="2057400"/>
            <a:ext cx="7543800" cy="40384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4" name=""/>
          <p:cNvGraphicFramePr/>
          <p:nvPr/>
        </p:nvGraphicFramePr>
        <p:xfrm>
          <a:off x="2590920" y="2209680"/>
          <a:ext cx="6072120" cy="2179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2209680"/>
                    <a:ext cx="6072120" cy="217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6" name=""/>
          <p:cNvSpPr/>
          <p:nvPr/>
        </p:nvSpPr>
        <p:spPr>
          <a:xfrm>
            <a:off x="1386000" y="4572000"/>
            <a:ext cx="61747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- If a digital signature is made on a private PC, 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  then the PIN is presented as plain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- If a digital signature is made on a public customer service terminal, 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  then the PIN shall be presented as cryptogram 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  followed by a cryptographic checks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Proposal for integration</a:t>
            </a:r>
            <a:br>
              <a:rPr sz="3200"/>
            </a:b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of bio objects (1)</a:t>
            </a: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371600" y="1981080"/>
            <a:ext cx="7086600" cy="426744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586520" y="2057400"/>
            <a:ext cx="671400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PKCS15Authentication  ::= CHOICE {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pin    PKCS15AuthenticationObject { PKCSPinAttributes }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bio   PKCS15AuthenticationObject { PKCSBioAttributes }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</a:t>
            </a: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PKCS15BioAttributes  ::= SEQUENCE {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bioFlags            PKCS15BioFlags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bioSubject         PKCS15BioSubject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bioType             PKCS15BioType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bioReference     [0] PKCSReference DEFAULT 0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lastBioChange   GeneralizedTime  OPTIONAL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path                    PKCS15Path OPTIONAL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...  -- For future extensions }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Proposal for integration</a:t>
            </a:r>
            <a:br>
              <a:rPr sz="3200"/>
            </a:b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of bio objects (2)</a:t>
            </a: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905120" y="1905120"/>
            <a:ext cx="5715000" cy="43434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356920" y="1981080"/>
            <a:ext cx="421488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PKCS15BioFlags  ::= BIT STRING {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reserved               (0)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local                     (1)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change-disabled   (2)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unblock-disabled (3)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initialized             (4)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reserved               (5)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reserved               (6)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reserved               (7)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disable-allowed     (8)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authentic               (9)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enciphered           (10)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 }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Proposal for integration</a:t>
            </a:r>
            <a:br>
              <a:rPr sz="3200"/>
            </a:b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of bio objects (3)</a:t>
            </a: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828800" y="2133720"/>
            <a:ext cx="6705720" cy="396216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9000" y="2133720"/>
            <a:ext cx="570816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PKCSBioSubject  ::= CHOICE {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fingerPrint                [0] FingerPrint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voicePrint                  [1] VoicePrint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irisPrint                     [2] IrisPrint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facePrint                    [3] FacePrint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retinaPrint                 [4] RetinaPrint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handGeometry          [5] HandGeometry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writeDynamics          [6] WriteDynamics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keystrokeDynamics  [7] KeystrokeDynamics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lipDynamics              [8] LipDynamics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... -- For future extensions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}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Proposal for integration</a:t>
            </a:r>
            <a:br>
              <a:rPr sz="3200"/>
            </a:b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of bio objects (4)</a:t>
            </a: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219320" y="2057400"/>
            <a:ext cx="7391160" cy="39625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892880" y="2438280"/>
            <a:ext cx="66744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FingerPrint ::=  SEQUENCE {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 handID      HandID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 fingerID    FingerID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 }</a:t>
            </a:r>
            <a:br>
              <a:rPr sz="2000"/>
            </a:b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HandID ::= ENUMERATED {righthand (0), lefthand (1) }</a:t>
            </a:r>
            <a:br>
              <a:rPr sz="2000"/>
            </a:b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FingerID ::= ENUMRATED { thumb(0), pointer finger (1),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middle finger (2), ring finger (3), little finger (4) }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Access to objects</a:t>
            </a: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523880" y="1752480"/>
            <a:ext cx="7467840" cy="41148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705720" y="2209680"/>
            <a:ext cx="167616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863760" y="2438280"/>
            <a:ext cx="1416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Public Ob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705720" y="3352680"/>
            <a:ext cx="167616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824160" y="3581280"/>
            <a:ext cx="149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Private Ob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705720" y="4495680"/>
            <a:ext cx="167616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768000" y="4724280"/>
            <a:ext cx="1610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 „</a:t>
            </a: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Entity Object“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724280" y="2514600"/>
            <a:ext cx="19814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866320" y="2314440"/>
            <a:ext cx="162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Access is fr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876920" y="373392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815920" y="2895480"/>
            <a:ext cx="19454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Object has to 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presen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(PIN, password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biometric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5029200" y="4876920"/>
            <a:ext cx="1676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815920" y="4648320"/>
            <a:ext cx="2369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proced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has to be perform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Management of Access Rights</a:t>
            </a: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990720" y="1600200"/>
            <a:ext cx="7924680" cy="4724280"/>
          </a:xfrm>
          <a:prstGeom prst="rect">
            <a:avLst/>
          </a:prstGeom>
          <a:solidFill>
            <a:srgbClr val="ffff00"/>
          </a:solidFill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523880" y="2286000"/>
            <a:ext cx="1600200" cy="251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447560" y="1828800"/>
            <a:ext cx="1753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Elementary F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Secur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Attribu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F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Co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523880" y="3124080"/>
            <a:ext cx="1600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187160" y="2057400"/>
            <a:ext cx="45514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AM = Re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SC = EXT AUTH (asym) with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CHA = ´x.01´ or ´x.02´ and User AU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AM = Upd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SC = EXT AUTH (asym) wi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CHA = ´x.01´ and 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X = Prefix denoting the AID or the ent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assigning the role 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219320" y="4876920"/>
            <a:ext cx="3597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AM = Access M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SC = Security Condi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CHA = Cert. Holder Authoris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(Prefix, Role 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SM = Secure Messag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Hashing</a:t>
            </a: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362320" y="1752480"/>
            <a:ext cx="5867280" cy="44197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2" name=""/>
          <p:cNvGraphicFramePr/>
          <p:nvPr/>
        </p:nvGraphicFramePr>
        <p:xfrm>
          <a:off x="3048120" y="2286000"/>
          <a:ext cx="4429080" cy="3238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8120" y="2286000"/>
                    <a:ext cx="4429080" cy="323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1600200" y="1752480"/>
            <a:ext cx="6553080" cy="44197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Certificates</a:t>
            </a: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2666520" y="2057400"/>
            <a:ext cx="5257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c0128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PKCS15 distinguishes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- x509Certificates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- x509Attribute Certificates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- spkiCertificates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- pgpCertificates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- wtlsCertificates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- x9-68Certificates</a:t>
            </a:r>
            <a:br>
              <a:rPr sz="2800"/>
            </a:b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but no cvCertificates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752480" y="1828800"/>
            <a:ext cx="5410440" cy="33526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General Configuration</a:t>
            </a: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133720" y="2514600"/>
            <a:ext cx="1904760" cy="1905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495680" y="3581280"/>
            <a:ext cx="914400" cy="838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038480" y="39625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498560" y="2971800"/>
            <a:ext cx="99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a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ermi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11480" y="2057400"/>
            <a:ext cx="5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5943600" y="2666880"/>
            <a:ext cx="990720" cy="609480"/>
            <a:chOff x="5943600" y="2666880"/>
            <a:chExt cx="990720" cy="609480"/>
          </a:xfrm>
        </p:grpSpPr>
        <p:sp>
          <p:nvSpPr>
            <p:cNvPr id="54" name=""/>
            <p:cNvSpPr/>
            <p:nvPr/>
          </p:nvSpPr>
          <p:spPr>
            <a:xfrm>
              <a:off x="5943600" y="2666880"/>
              <a:ext cx="990720" cy="609480"/>
            </a:xfrm>
            <a:prstGeom prst="flowChartAlternateProcess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6240" y="2819160"/>
              <a:ext cx="152280" cy="1526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249600" y="2819160"/>
              <a:ext cx="65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IC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5943600" y="3505320"/>
            <a:ext cx="990360" cy="609480"/>
            <a:chOff x="5943600" y="3505320"/>
            <a:chExt cx="990360" cy="609480"/>
          </a:xfrm>
        </p:grpSpPr>
        <p:sp>
          <p:nvSpPr>
            <p:cNvPr id="58" name=""/>
            <p:cNvSpPr/>
            <p:nvPr/>
          </p:nvSpPr>
          <p:spPr>
            <a:xfrm>
              <a:off x="5943600" y="3505320"/>
              <a:ext cx="990360" cy="609480"/>
            </a:xfrm>
            <a:prstGeom prst="flowChartAlternateProcess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095880" y="3657600"/>
              <a:ext cx="152280" cy="1519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249240" y="3657600"/>
              <a:ext cx="65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ICC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5943600" y="4343400"/>
            <a:ext cx="990720" cy="609480"/>
            <a:chOff x="5943600" y="4343400"/>
            <a:chExt cx="990720" cy="609480"/>
          </a:xfrm>
        </p:grpSpPr>
        <p:sp>
          <p:nvSpPr>
            <p:cNvPr id="62" name=""/>
            <p:cNvSpPr/>
            <p:nvPr/>
          </p:nvSpPr>
          <p:spPr>
            <a:xfrm>
              <a:off x="5943600" y="4343400"/>
              <a:ext cx="990720" cy="609480"/>
            </a:xfrm>
            <a:prstGeom prst="flowChartAlternateProcess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095880" y="4495680"/>
              <a:ext cx="152640" cy="1522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249600" y="4495680"/>
              <a:ext cx="65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ICC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" name=""/>
          <p:cNvSpPr/>
          <p:nvPr/>
        </p:nvSpPr>
        <p:spPr>
          <a:xfrm>
            <a:off x="2362320" y="2895480"/>
            <a:ext cx="1523880" cy="1371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30440" y="3024360"/>
            <a:ext cx="132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3733920"/>
            <a:ext cx="1523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668680" y="3429000"/>
            <a:ext cx="1026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KCS#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f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643720" y="1981080"/>
            <a:ext cx="1491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Different c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with PKCS#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34640" y="2957400"/>
            <a:ext cx="1756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Smartc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providing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same service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but possib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in a different wa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99840" y="5334120"/>
            <a:ext cx="8169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63de8"/>
                </a:solidFill>
                <a:latin typeface="Times New Roman"/>
              </a:rPr>
              <a:t>- If a PC application knows to deal with a card application, no directory files are necess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63de8"/>
                </a:solidFill>
                <a:latin typeface="Times New Roman"/>
              </a:rPr>
              <a:t>- If a PC application does not know how to deal with a card application, it needs in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96284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Card Verifiable Certificates</a:t>
            </a: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295280" y="1447920"/>
            <a:ext cx="7467840" cy="48006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447920" y="1676520"/>
            <a:ext cx="6933960" cy="7617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PI      CAR        CHR      CHA      OID        PK       SIG.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 flipV="1">
            <a:off x="2057400" y="1676520"/>
            <a:ext cx="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2971800" y="1676520"/>
            <a:ext cx="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 flipV="1">
            <a:off x="3962520" y="1676520"/>
            <a:ext cx="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flipV="1">
            <a:off x="4800600" y="1676520"/>
            <a:ext cx="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 flipV="1">
            <a:off x="5562720" y="1676520"/>
            <a:ext cx="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flipV="1">
            <a:off x="6324480" y="1676520"/>
            <a:ext cx="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521360" y="2514600"/>
            <a:ext cx="709524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- CPI = Certificate Profile Identifi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- CAR = Certification Authority Reference (Authority Key Identifie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- CHR = Certificate Holder Reference (Subject Key Identifie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- CHA = Certificate Holder Authorisation (Authority || Role Identifie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- OID  = Object Identifier of PK Algorith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- PK = Public Key of Certificate Hol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- SIG.CA = Signature of Certificate Issuing 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1371600" y="1752480"/>
            <a:ext cx="7327800" cy="4178520"/>
          </a:xfrm>
          <a:prstGeom prst="rect">
            <a:avLst/>
          </a:prstGeom>
          <a:solidFill>
            <a:srgbClr val="eaec5e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496520" y="1828800"/>
            <a:ext cx="6720840" cy="392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- Template tags for all security serv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(e.g. user authentication service, digital signature service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entity authentication service, key cipherment servic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- DO Instruction set mapping ISM (regular comman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- DO Command to perform (if command is different form that in IS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- DO Object Id of the algorith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- DO Algorithm reference (as used by the car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- DO Key reference (as used by the car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- DO Key file id (some cards select the key file containing the key to be use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- DO Certificate file id (if present then the file contains the certificate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- DO Certificate reference (used e.g. if the certificate is not stored in the car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- DO Certificate qualifier (e.g. X.509 certificate,  ICC certifica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- DO PIN usage policy (present if the security service is PIN protecte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283120" y="914400"/>
            <a:ext cx="49050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Security Service</a:t>
            </a:r>
            <a:r>
              <a:rPr b="1" lang="de-DE" sz="1600" spc="-1" strike="noStrike">
                <a:solidFill>
                  <a:srgbClr val="fc0128"/>
                </a:solidFill>
                <a:latin typeface="Times New Roman"/>
              </a:rPr>
              <a:t> </a:t>
            </a: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Descrip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Security Service Descriptors</a:t>
            </a: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76176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c0128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Indication of supported algorithms, DSI schemas, hash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c0128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Indication of user authentication meth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c0128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Indication where to find certific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c0128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Indication of implementation varia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c0128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Support of mig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990720" y="1752480"/>
            <a:ext cx="7848360" cy="426744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SSD construction (1)</a:t>
            </a: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033720" y="194616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1065240" y="1890720"/>
            <a:ext cx="7232400" cy="39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- For each security service provided by the card exists one or more SSD 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- Inside an SSS template is one DO mandatory: the DO „command to perform“</a:t>
            </a:r>
            <a:br>
              <a:rPr sz="1600"/>
            </a:b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- Use e.g. for VERIFY: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   - command class is present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  - PIN reference is present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  - PIN length is present possibly with padding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  - presentation form is present: plain value or with SM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- Use e.g. for CHANGE RD: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  - command class is present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  - PIN reference is present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  - usage option is present, e.g. old PIN required/not required in the command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  - PIN length is present possibly with padding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  - presentation form is present: plain value or with SM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990720" y="1752480"/>
            <a:ext cx="7848360" cy="426744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SSD construction (2)</a:t>
            </a: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033720" y="194616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747080" y="2514600"/>
            <a:ext cx="642456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- Use e.g. for digital signature function: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- the MANAGE SECURITY ENVIRONMENT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to perform is presented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- the HASH command, if needed, is presented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- The PERFORM SECURITY OPERATION command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is presented for the digital signature compuation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- Different methods for Dig. Sig. Input constructions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can be denoted by the DO OID or the DO AlgID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E.g. PKCS#1 or ISO 9796-2 r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- The FIDs of related certificate files are giv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/>
          <p:nvPr/>
        </p:nvSpPr>
        <p:spPr>
          <a:xfrm>
            <a:off x="990720" y="1981080"/>
            <a:ext cx="8001000" cy="41148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Working with PKCS#15 (1)</a:t>
            </a: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90360" y="2133360"/>
            <a:ext cx="78483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c0128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The usage of PKCS#15 requires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- selection of DF(PKCS15)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- selection of EF(ODF) for getting the pointer information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- reading EF(ODF)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- selection of EF(AODF) for getting the PIN information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- reading EF(AODF)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- selection of EF (PrKDF) for getting the signature key information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- reading EF(PrKDF)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- selection of EF(CDF) for getting the certificate information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- reading EF(CDF)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- selection of EF(PuKDF) for getting the root CA PuK information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- reading EF(PuKDF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/>
          <p:nvPr/>
        </p:nvSpPr>
        <p:spPr>
          <a:xfrm>
            <a:off x="762120" y="1828800"/>
            <a:ext cx="8305560" cy="40384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Working with PKCS#15 (2)</a:t>
            </a: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76176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c0128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To do this all is not very efficient. Therefor: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- Read the information once from the card and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store it under a card reference, e.g. the ICC Serial Number ICCSN</a:t>
            </a:r>
            <a:br>
              <a:rPr sz="2000"/>
            </a:b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- keep the information outside the card and store in the card the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card profile identifier pointing to the outside information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c0128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Open problem: there is no indication whether the PKCS15 files are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- reocrd-oriented or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- transpar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990360" y="685800"/>
            <a:ext cx="7962840" cy="660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File Structure of DF.SIG</a:t>
            </a: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362320" y="1295280"/>
            <a:ext cx="4800600" cy="51055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8" name=""/>
          <p:cNvGraphicFramePr/>
          <p:nvPr/>
        </p:nvGraphicFramePr>
        <p:xfrm>
          <a:off x="3352680" y="1447920"/>
          <a:ext cx="3270240" cy="4827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52680" y="1447920"/>
                    <a:ext cx="3270240" cy="482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838080" y="1905120"/>
            <a:ext cx="8077320" cy="40384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Is PKCS#15 powerful enough?</a:t>
            </a: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046520" y="1981080"/>
            <a:ext cx="77274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Some challeng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- cards may have a hash function or no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- cards may support different signature algorith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- cards may support a different set of Digital Signature Input forma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- a card may be configurated in such a way that it allows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- either after PIN presentation an unlimited number of DS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- or requires PIN presentation before each 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- a card may support ETSI PIN management commands instead of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ISO-commands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- a card may support a proprietary command for a certain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security serv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2286000" y="1981080"/>
            <a:ext cx="5181480" cy="37339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360" y="990360"/>
            <a:ext cx="796284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Card File Structure (1)</a:t>
            </a: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971800" y="2666880"/>
            <a:ext cx="3886200" cy="251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3276720" y="3048120"/>
            <a:ext cx="3431520" cy="1396800"/>
            <a:chOff x="3276720" y="3048120"/>
            <a:chExt cx="3431520" cy="1396800"/>
          </a:xfrm>
        </p:grpSpPr>
        <p:sp>
          <p:nvSpPr>
            <p:cNvPr id="79" name=""/>
            <p:cNvSpPr/>
            <p:nvPr/>
          </p:nvSpPr>
          <p:spPr>
            <a:xfrm>
              <a:off x="5676840" y="3771720"/>
              <a:ext cx="1031400" cy="5590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511520" y="3178080"/>
              <a:ext cx="761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flipH="1">
              <a:off x="3979800" y="3469680"/>
              <a:ext cx="609120" cy="409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902120" y="3546360"/>
              <a:ext cx="0" cy="36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268600" y="3386880"/>
              <a:ext cx="419040" cy="530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303520" y="3326760"/>
              <a:ext cx="847440" cy="43812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485960" y="3048120"/>
              <a:ext cx="812520" cy="5014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505040" y="3914640"/>
              <a:ext cx="812520" cy="5018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276720" y="3886200"/>
              <a:ext cx="103176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524200" y="3876480"/>
              <a:ext cx="1031760" cy="5590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549680" y="4035240"/>
              <a:ext cx="7617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F(DIR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11280" y="4019400"/>
              <a:ext cx="966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DF(PKCS#15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664240" y="3940200"/>
              <a:ext cx="761400" cy="43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900" spc="-1" strike="noStrike">
                  <a:solidFill>
                    <a:srgbClr val="000000"/>
                  </a:solidFill>
                  <a:latin typeface="Arial"/>
                </a:rPr>
                <a:t>Othe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900" spc="-1" strike="noStrike">
                  <a:solidFill>
                    <a:srgbClr val="000000"/>
                  </a:solidFill>
                  <a:latin typeface="Arial"/>
                </a:rPr>
                <a:t>DFs/EFs...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96284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Card File Structure (2)</a:t>
            </a: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95280" y="1523880"/>
            <a:ext cx="7391520" cy="46483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981080" y="1828800"/>
            <a:ext cx="5867640" cy="4038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2133720" y="2286000"/>
            <a:ext cx="5511600" cy="1517760"/>
            <a:chOff x="2133720" y="2286000"/>
            <a:chExt cx="5511600" cy="1517760"/>
          </a:xfrm>
        </p:grpSpPr>
        <p:sp>
          <p:nvSpPr>
            <p:cNvPr id="96" name=""/>
            <p:cNvSpPr/>
            <p:nvPr/>
          </p:nvSpPr>
          <p:spPr>
            <a:xfrm>
              <a:off x="4343400" y="2286000"/>
              <a:ext cx="1031760" cy="5590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362480" y="3245040"/>
              <a:ext cx="103176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476680" y="3245040"/>
              <a:ext cx="10321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600600" y="3245040"/>
              <a:ext cx="10321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133720" y="3245040"/>
              <a:ext cx="103176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247920" y="3245040"/>
              <a:ext cx="103176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863960" y="2870280"/>
              <a:ext cx="0" cy="36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flipH="1">
              <a:off x="3951360" y="2765520"/>
              <a:ext cx="581040" cy="49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258520" y="2768040"/>
              <a:ext cx="523800" cy="49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363280" y="2635560"/>
              <a:ext cx="1505160" cy="64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flipH="1">
              <a:off x="2979720" y="2670480"/>
              <a:ext cx="1409760" cy="637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360680" y="2444760"/>
              <a:ext cx="108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F(PKCS#15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263680" y="3397320"/>
              <a:ext cx="762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F(ODF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340080" y="3416400"/>
              <a:ext cx="866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EF(PrKDF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02160" y="3397320"/>
              <a:ext cx="762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F(CDF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540400" y="3407040"/>
              <a:ext cx="904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F(AODF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578640" y="3416400"/>
              <a:ext cx="1066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EF(TokenInfo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" name=""/>
          <p:cNvSpPr/>
          <p:nvPr/>
        </p:nvSpPr>
        <p:spPr>
          <a:xfrm>
            <a:off x="2450520" y="4038480"/>
            <a:ext cx="39985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EF(ODF) - Object Directoty File - points 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- EF (PrKDFs) - Private Key Directory Fi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- EF (PuKDFs) - Public Key Directory Fi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- EF (SKDFs) - Secret Key Directory Fi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- EF (CDFs) - Certificate Directory Fi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- EF (DODFs) - Data Object Directory Fi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219320" y="1676520"/>
            <a:ext cx="7467480" cy="441936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Cross-References </a:t>
            </a: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133720" y="1828800"/>
            <a:ext cx="5867280" cy="4114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2590920" y="2057400"/>
            <a:ext cx="4754160" cy="3611160"/>
            <a:chOff x="2590920" y="2057400"/>
            <a:chExt cx="4754160" cy="3611160"/>
          </a:xfrm>
        </p:grpSpPr>
        <p:sp>
          <p:nvSpPr>
            <p:cNvPr id="118" name=""/>
            <p:cNvSpPr/>
            <p:nvPr/>
          </p:nvSpPr>
          <p:spPr>
            <a:xfrm>
              <a:off x="6065280" y="2742840"/>
              <a:ext cx="1279800" cy="632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Times New Roman"/>
                </a:rPr>
                <a:t>EF(PrKDF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065280" y="4561560"/>
              <a:ext cx="1096920" cy="711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EF(AODF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425200" y="3533400"/>
              <a:ext cx="1279800" cy="711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EF(CDF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145040" y="3454560"/>
              <a:ext cx="1279800" cy="368640"/>
            </a:xfrm>
            <a:custGeom>
              <a:avLst/>
              <a:gdLst/>
              <a:ahLst/>
              <a:rect l="l" t="t" r="r" b="b"/>
              <a:pathLst>
                <a:path w="2016" h="672">
                  <a:moveTo>
                    <a:pt x="0" y="0"/>
                  </a:moveTo>
                  <a:cubicBezTo>
                    <a:pt x="480" y="240"/>
                    <a:pt x="960" y="480"/>
                    <a:pt x="1296" y="576"/>
                  </a:cubicBezTo>
                  <a:cubicBezTo>
                    <a:pt x="1632" y="672"/>
                    <a:pt x="1896" y="576"/>
                    <a:pt x="2016" y="57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145040" y="3771000"/>
              <a:ext cx="1919880" cy="1186200"/>
            </a:xfrm>
            <a:custGeom>
              <a:avLst/>
              <a:gdLst/>
              <a:ahLst/>
              <a:rect l="l" t="t" r="r" b="b"/>
              <a:pathLst>
                <a:path w="3024" h="2160">
                  <a:moveTo>
                    <a:pt x="0" y="0"/>
                  </a:moveTo>
                  <a:cubicBezTo>
                    <a:pt x="636" y="60"/>
                    <a:pt x="1272" y="120"/>
                    <a:pt x="1584" y="432"/>
                  </a:cubicBezTo>
                  <a:cubicBezTo>
                    <a:pt x="1896" y="744"/>
                    <a:pt x="1632" y="1584"/>
                    <a:pt x="1872" y="1872"/>
                  </a:cubicBezTo>
                  <a:cubicBezTo>
                    <a:pt x="2112" y="2160"/>
                    <a:pt x="2568" y="2160"/>
                    <a:pt x="3024" y="216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145040" y="4073760"/>
              <a:ext cx="1005480" cy="1410120"/>
            </a:xfrm>
            <a:custGeom>
              <a:avLst/>
              <a:gdLst/>
              <a:ahLst/>
              <a:rect l="l" t="t" r="r" b="b"/>
              <a:pathLst>
                <a:path w="1584" h="2568">
                  <a:moveTo>
                    <a:pt x="0" y="24"/>
                  </a:moveTo>
                  <a:cubicBezTo>
                    <a:pt x="408" y="12"/>
                    <a:pt x="816" y="0"/>
                    <a:pt x="864" y="312"/>
                  </a:cubicBezTo>
                  <a:cubicBezTo>
                    <a:pt x="912" y="624"/>
                    <a:pt x="264" y="1536"/>
                    <a:pt x="288" y="1896"/>
                  </a:cubicBezTo>
                  <a:cubicBezTo>
                    <a:pt x="312" y="2256"/>
                    <a:pt x="792" y="2376"/>
                    <a:pt x="1008" y="2472"/>
                  </a:cubicBezTo>
                  <a:cubicBezTo>
                    <a:pt x="1224" y="2568"/>
                    <a:pt x="1404" y="2520"/>
                    <a:pt x="1584" y="24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150880" y="5036400"/>
              <a:ext cx="1096920" cy="632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EF(DODF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071120" y="3365280"/>
              <a:ext cx="273960" cy="1371240"/>
            </a:xfrm>
            <a:custGeom>
              <a:avLst/>
              <a:gdLst/>
              <a:ahLst/>
              <a:rect l="l" t="t" r="r" b="b"/>
              <a:pathLst>
                <a:path w="432" h="2160">
                  <a:moveTo>
                    <a:pt x="0" y="0"/>
                  </a:moveTo>
                  <a:cubicBezTo>
                    <a:pt x="216" y="468"/>
                    <a:pt x="432" y="936"/>
                    <a:pt x="432" y="1296"/>
                  </a:cubicBezTo>
                  <a:cubicBezTo>
                    <a:pt x="432" y="1656"/>
                    <a:pt x="216" y="1908"/>
                    <a:pt x="0" y="216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613920" y="3382920"/>
              <a:ext cx="289440" cy="548280"/>
            </a:xfrm>
            <a:custGeom>
              <a:avLst/>
              <a:gdLst/>
              <a:ahLst/>
              <a:rect l="l" t="t" r="r" b="b"/>
              <a:pathLst>
                <a:path w="456" h="864">
                  <a:moveTo>
                    <a:pt x="0" y="0"/>
                  </a:moveTo>
                  <a:cubicBezTo>
                    <a:pt x="204" y="288"/>
                    <a:pt x="408" y="576"/>
                    <a:pt x="432" y="720"/>
                  </a:cubicBezTo>
                  <a:cubicBezTo>
                    <a:pt x="456" y="864"/>
                    <a:pt x="192" y="840"/>
                    <a:pt x="144" y="86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864880" y="4268880"/>
              <a:ext cx="91404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EF(ODF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590920" y="2642400"/>
              <a:ext cx="1554120" cy="165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Times New Roman"/>
                </a:rPr>
                <a:t>PuKDF point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Times New Roman"/>
                </a:rPr>
                <a:t>PrKDF point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Times New Roman"/>
                </a:rPr>
                <a:t>CDF point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Times New Roman"/>
                </a:rPr>
                <a:t>AODF point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Times New Roman"/>
                </a:rPr>
                <a:t>DODF point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590920" y="3282480"/>
              <a:ext cx="155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590920" y="3556800"/>
              <a:ext cx="155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590920" y="3840120"/>
              <a:ext cx="155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590920" y="2916720"/>
              <a:ext cx="155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968000" y="2102760"/>
              <a:ext cx="1279800" cy="632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Times New Roman"/>
                </a:rPr>
                <a:t>EF(PuKDF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145040" y="2651400"/>
              <a:ext cx="1096920" cy="198000"/>
            </a:xfrm>
            <a:custGeom>
              <a:avLst/>
              <a:gdLst/>
              <a:ahLst/>
              <a:rect l="l" t="t" r="r" b="b"/>
              <a:pathLst>
                <a:path w="1728" h="312">
                  <a:moveTo>
                    <a:pt x="0" y="144"/>
                  </a:moveTo>
                  <a:cubicBezTo>
                    <a:pt x="504" y="228"/>
                    <a:pt x="1008" y="312"/>
                    <a:pt x="1296" y="288"/>
                  </a:cubicBezTo>
                  <a:cubicBezTo>
                    <a:pt x="1584" y="264"/>
                    <a:pt x="1656" y="132"/>
                    <a:pt x="1728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065280" y="2057400"/>
              <a:ext cx="1005480" cy="685440"/>
            </a:xfrm>
            <a:custGeom>
              <a:avLst/>
              <a:gdLst/>
              <a:ahLst/>
              <a:rect l="l" t="t" r="r" b="b"/>
              <a:pathLst>
                <a:path w="1536" h="1080">
                  <a:moveTo>
                    <a:pt x="0" y="216"/>
                  </a:moveTo>
                  <a:cubicBezTo>
                    <a:pt x="312" y="108"/>
                    <a:pt x="624" y="0"/>
                    <a:pt x="864" y="72"/>
                  </a:cubicBezTo>
                  <a:cubicBezTo>
                    <a:pt x="1104" y="144"/>
                    <a:pt x="1344" y="480"/>
                    <a:pt x="1440" y="648"/>
                  </a:cubicBezTo>
                  <a:cubicBezTo>
                    <a:pt x="1536" y="816"/>
                    <a:pt x="1488" y="948"/>
                    <a:pt x="1440" y="108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flipV="1">
              <a:off x="4145040" y="3029400"/>
              <a:ext cx="1919880" cy="79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333760" y="2742840"/>
              <a:ext cx="273960" cy="914040"/>
            </a:xfrm>
            <a:custGeom>
              <a:avLst/>
              <a:gdLst/>
              <a:ahLst/>
              <a:rect l="l" t="t" r="r" b="b"/>
              <a:pathLst>
                <a:path w="432" h="1440">
                  <a:moveTo>
                    <a:pt x="432" y="0"/>
                  </a:moveTo>
                  <a:cubicBezTo>
                    <a:pt x="216" y="168"/>
                    <a:pt x="0" y="336"/>
                    <a:pt x="0" y="576"/>
                  </a:cubicBezTo>
                  <a:cubicBezTo>
                    <a:pt x="0" y="816"/>
                    <a:pt x="216" y="1128"/>
                    <a:pt x="432" y="14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523880" y="1981080"/>
            <a:ext cx="6705720" cy="3886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90360" y="990360"/>
            <a:ext cx="796284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Card File Structure (3)</a:t>
            </a: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752480" y="2209680"/>
            <a:ext cx="6172200" cy="3429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1981080" y="2286000"/>
            <a:ext cx="5661000" cy="3098880"/>
            <a:chOff x="1981080" y="2286000"/>
            <a:chExt cx="5661000" cy="3098880"/>
          </a:xfrm>
        </p:grpSpPr>
        <p:sp>
          <p:nvSpPr>
            <p:cNvPr id="142" name=""/>
            <p:cNvSpPr/>
            <p:nvPr/>
          </p:nvSpPr>
          <p:spPr>
            <a:xfrm>
              <a:off x="6610320" y="3009960"/>
              <a:ext cx="103176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445000" y="2415960"/>
              <a:ext cx="762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>
              <a:off x="4824360" y="2708280"/>
              <a:ext cx="698400" cy="466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835600" y="2784240"/>
              <a:ext cx="0" cy="36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201360" y="2625480"/>
              <a:ext cx="438120" cy="55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236280" y="2564640"/>
              <a:ext cx="847800" cy="43812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419440" y="2286000"/>
              <a:ext cx="812880" cy="5014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438520" y="3152520"/>
              <a:ext cx="812880" cy="5018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457680" y="3114720"/>
              <a:ext cx="1032120" cy="55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483160" y="3273480"/>
              <a:ext cx="7617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F(DIR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597360" y="3178080"/>
              <a:ext cx="762120" cy="43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900" spc="-1" strike="noStrike">
                  <a:solidFill>
                    <a:srgbClr val="000000"/>
                  </a:solidFill>
                  <a:latin typeface="Arial"/>
                </a:rPr>
                <a:t>Othe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900" spc="-1" strike="noStrike">
                  <a:solidFill>
                    <a:srgbClr val="000000"/>
                  </a:solidFill>
                  <a:latin typeface="Arial"/>
                </a:rPr>
                <a:t>DFs/EFs...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190760" y="3149640"/>
              <a:ext cx="10321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209840" y="4108320"/>
              <a:ext cx="103176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324400" y="4108320"/>
              <a:ext cx="103176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448320" y="4108320"/>
              <a:ext cx="103176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981080" y="4108320"/>
              <a:ext cx="103176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095280" y="4108320"/>
              <a:ext cx="10321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711680" y="3720240"/>
              <a:ext cx="0" cy="374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3798720" y="3628800"/>
              <a:ext cx="581040" cy="49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087880" y="3612960"/>
              <a:ext cx="542880" cy="511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11720" y="3498840"/>
              <a:ext cx="1504800" cy="64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flipH="1">
              <a:off x="2827080" y="3533760"/>
              <a:ext cx="1409760" cy="637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224240" y="3308400"/>
              <a:ext cx="1044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F(PKCS#15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111040" y="4260600"/>
              <a:ext cx="762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F(ODF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187440" y="4279680"/>
              <a:ext cx="866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EF(PrKDF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349520" y="4260600"/>
              <a:ext cx="762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F(CDF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387760" y="4270320"/>
              <a:ext cx="905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F(AODF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426000" y="4279680"/>
              <a:ext cx="1066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EF(TokenInfo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174840" y="4984560"/>
              <a:ext cx="3092400" cy="4003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00320" y="5060880"/>
              <a:ext cx="1451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Real object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3352320" y="4667040"/>
              <a:ext cx="158760" cy="324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720240" y="4667040"/>
              <a:ext cx="16524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>
              <a:off x="4457160" y="4673520"/>
              <a:ext cx="158760" cy="324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825080" y="4673520"/>
              <a:ext cx="16524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>
              <a:off x="5568840" y="4653720"/>
              <a:ext cx="164880" cy="336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43600" y="4654440"/>
              <a:ext cx="171360" cy="324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219320" y="1600200"/>
            <a:ext cx="7467480" cy="44956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Card File Structure (4)</a:t>
            </a: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23880" y="2057400"/>
            <a:ext cx="6782040" cy="373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1676520" y="2362320"/>
            <a:ext cx="6425640" cy="3326760"/>
            <a:chOff x="1676520" y="2362320"/>
            <a:chExt cx="6425640" cy="3326760"/>
          </a:xfrm>
        </p:grpSpPr>
        <p:sp>
          <p:nvSpPr>
            <p:cNvPr id="182" name=""/>
            <p:cNvSpPr/>
            <p:nvPr/>
          </p:nvSpPr>
          <p:spPr>
            <a:xfrm>
              <a:off x="5059800" y="2492280"/>
              <a:ext cx="743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4453560" y="2784240"/>
              <a:ext cx="681840" cy="466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441400" y="2860560"/>
              <a:ext cx="0" cy="36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799240" y="2701800"/>
              <a:ext cx="452880" cy="52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034960" y="2362320"/>
              <a:ext cx="793800" cy="5014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028840" y="3228840"/>
              <a:ext cx="793440" cy="50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869440" y="3203280"/>
              <a:ext cx="1007640" cy="55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072040" y="3349440"/>
              <a:ext cx="7441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F(DIR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005880" y="3362040"/>
              <a:ext cx="743760" cy="43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DF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834720" y="3225600"/>
              <a:ext cx="1007640" cy="558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760200" y="4184640"/>
              <a:ext cx="1008000" cy="558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811760" y="4178160"/>
              <a:ext cx="1008000" cy="558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859720" y="4190760"/>
              <a:ext cx="1008000" cy="558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676520" y="4184640"/>
              <a:ext cx="1007640" cy="558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715120" y="4184640"/>
              <a:ext cx="1008000" cy="558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343760" y="3796560"/>
              <a:ext cx="0" cy="37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H="1">
              <a:off x="3451680" y="3704400"/>
              <a:ext cx="567360" cy="495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710240" y="3688560"/>
              <a:ext cx="530280" cy="510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831200" y="3574800"/>
              <a:ext cx="1469880" cy="64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>
              <a:off x="2502360" y="3609720"/>
              <a:ext cx="1377000" cy="637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844080" y="3384360"/>
              <a:ext cx="1016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F(PKCS#15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803240" y="4336920"/>
              <a:ext cx="744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F(ODF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805120" y="4356000"/>
              <a:ext cx="846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EF(PrKDF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897000" y="4336920"/>
              <a:ext cx="743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F(CDF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874040" y="4340160"/>
              <a:ext cx="883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F(AODF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838480" y="4362120"/>
              <a:ext cx="1041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EF(TokenInfo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088040" y="3193920"/>
              <a:ext cx="1007640" cy="558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059960" y="3340080"/>
              <a:ext cx="1042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F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836680" y="2568240"/>
              <a:ext cx="1637280" cy="637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731640" y="4844880"/>
              <a:ext cx="924120" cy="3614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725160" y="4895640"/>
              <a:ext cx="914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Real object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171920" y="5327640"/>
              <a:ext cx="924120" cy="3614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171920" y="5384520"/>
              <a:ext cx="914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Real object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144960" y="5657760"/>
              <a:ext cx="3888720" cy="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174560" y="5505120"/>
              <a:ext cx="2859120" cy="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228640" y="5359320"/>
              <a:ext cx="1786320" cy="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140280" y="4749480"/>
              <a:ext cx="0" cy="92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288960" y="4743360"/>
              <a:ext cx="6120" cy="437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182120" y="4736880"/>
              <a:ext cx="0" cy="767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H="1">
              <a:off x="4318200" y="4736880"/>
              <a:ext cx="6120" cy="27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>
              <a:off x="5223600" y="4736880"/>
              <a:ext cx="6120" cy="622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>
              <a:off x="5373360" y="4730400"/>
              <a:ext cx="5760" cy="120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293640" y="5180760"/>
              <a:ext cx="3299760" cy="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317120" y="5016240"/>
              <a:ext cx="2263680" cy="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371560" y="4850640"/>
              <a:ext cx="1203120" cy="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652520" y="3745440"/>
              <a:ext cx="275760" cy="156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653160" y="3727440"/>
              <a:ext cx="499320" cy="1120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1219320" y="1752480"/>
            <a:ext cx="7543800" cy="449604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Card File Structure (5)</a:t>
            </a: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905120" y="2057400"/>
            <a:ext cx="6476760" cy="3962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2133720" y="2286000"/>
            <a:ext cx="6168960" cy="3463560"/>
            <a:chOff x="2133720" y="2286000"/>
            <a:chExt cx="6168960" cy="3463560"/>
          </a:xfrm>
        </p:grpSpPr>
        <p:sp>
          <p:nvSpPr>
            <p:cNvPr id="233" name=""/>
            <p:cNvSpPr/>
            <p:nvPr/>
          </p:nvSpPr>
          <p:spPr>
            <a:xfrm>
              <a:off x="4165560" y="2286000"/>
              <a:ext cx="103176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305240" y="2444760"/>
              <a:ext cx="762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165560" y="3152880"/>
              <a:ext cx="103176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305240" y="3311640"/>
              <a:ext cx="7621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F(DIR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060720" y="3162240"/>
              <a:ext cx="1031760" cy="5590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086280" y="3338640"/>
              <a:ext cx="9000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F(PKCS#15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578640" y="3152880"/>
              <a:ext cx="103176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718320" y="3311640"/>
              <a:ext cx="7621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F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295960" y="3152880"/>
              <a:ext cx="1031760" cy="55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435640" y="3311640"/>
              <a:ext cx="7621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F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136960" y="4324320"/>
              <a:ext cx="698400" cy="432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133720" y="4444920"/>
              <a:ext cx="7617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F(ODF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908440" y="4324320"/>
              <a:ext cx="698400" cy="432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854440" y="4449960"/>
              <a:ext cx="8445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EF(TokenInfo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679920" y="4324320"/>
              <a:ext cx="698400" cy="432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606840" y="4426200"/>
              <a:ext cx="9079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EF(PrKDF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441680" y="4324320"/>
              <a:ext cx="698760" cy="432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432320" y="4426200"/>
              <a:ext cx="7621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F(CDF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213520" y="4324320"/>
              <a:ext cx="698400" cy="432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165640" y="4419720"/>
              <a:ext cx="8254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F(AODF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985000" y="4324320"/>
              <a:ext cx="698400" cy="432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756480" y="4324320"/>
              <a:ext cx="698400" cy="432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527960" y="4324320"/>
              <a:ext cx="698400" cy="432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673520" y="2841840"/>
              <a:ext cx="0" cy="342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 flipH="1">
              <a:off x="3645000" y="2745720"/>
              <a:ext cx="637920" cy="428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063400" y="2745720"/>
              <a:ext cx="701640" cy="42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207040" y="2555280"/>
              <a:ext cx="1876320" cy="600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flipH="1">
              <a:off x="3292200" y="3717360"/>
              <a:ext cx="27612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flipH="1">
              <a:off x="2502000" y="3613320"/>
              <a:ext cx="666720" cy="74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>
              <a:off x="4054320" y="3622680"/>
              <a:ext cx="1362240" cy="69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flipH="1">
              <a:off x="4797360" y="3708360"/>
              <a:ext cx="876240" cy="619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flipH="1">
              <a:off x="5578560" y="3699000"/>
              <a:ext cx="333360" cy="628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6349680" y="3641760"/>
              <a:ext cx="428760" cy="704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7112160" y="3708360"/>
              <a:ext cx="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7473240" y="3632400"/>
              <a:ext cx="399960" cy="704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635200" y="4734000"/>
              <a:ext cx="0" cy="784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739960" y="5194440"/>
              <a:ext cx="1295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 flipH="1">
              <a:off x="2419200" y="4756320"/>
              <a:ext cx="6480" cy="87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>
              <a:off x="2527200" y="5299200"/>
              <a:ext cx="2270160" cy="6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206800" y="4670640"/>
              <a:ext cx="6120" cy="1076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>
              <a:off x="2305080" y="4737240"/>
              <a:ext cx="6480" cy="669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527200" y="4753080"/>
              <a:ext cx="0" cy="54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743200" y="4702320"/>
              <a:ext cx="0" cy="504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317680" y="5407200"/>
              <a:ext cx="326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635200" y="5515200"/>
              <a:ext cx="3718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419200" y="5635800"/>
              <a:ext cx="4689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flipV="1">
              <a:off x="2209680" y="5743440"/>
              <a:ext cx="5686560" cy="6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flipH="1" flipV="1">
              <a:off x="4012920" y="4743360"/>
              <a:ext cx="12960" cy="453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 flipV="1">
              <a:off x="4789800" y="4740480"/>
              <a:ext cx="7200" cy="557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flipH="1" flipV="1">
              <a:off x="5564520" y="4732200"/>
              <a:ext cx="7560" cy="671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flipH="1" flipV="1">
              <a:off x="6344280" y="4751640"/>
              <a:ext cx="6480" cy="760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H="1" flipV="1">
              <a:off x="7098120" y="4751280"/>
              <a:ext cx="7200" cy="87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H="1" flipV="1">
              <a:off x="7885440" y="4744800"/>
              <a:ext cx="10440" cy="1004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899320" y="4432320"/>
              <a:ext cx="9079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EF(PrKDF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730920" y="4426200"/>
              <a:ext cx="7621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F(CDF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477200" y="4426200"/>
              <a:ext cx="8254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F(AODF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0T13:33:42Z</dcterms:created>
  <dc:creator>Misniker</dc:creator>
  <dc:description/>
  <dc:language>en-US</dc:language>
  <cp:lastModifiedBy>Magnus Nystrom</cp:lastModifiedBy>
  <cp:lastPrinted>1997-11-11T22:03:13Z</cp:lastPrinted>
  <dcterms:modified xsi:type="dcterms:W3CDTF">1999-09-30T14:57:46Z</dcterms:modified>
  <cp:revision>28</cp:revision>
  <dc:subject/>
  <dc:title>I S D N</dc:title>
</cp:coreProperties>
</file>