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5D0-5E06-4582-9916-68B4B1ED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9CB-5D4A-4C61-B79B-5DAAF279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4F0-775B-47EF-86C3-EFA57874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34D-1227-4F22-BAD3-74926834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8D2-8794-4845-942E-0EBC40B3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4B8-4CFF-47DA-B637-1EAAF894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214-E104-4592-8065-A57599CF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2A1-A41F-481D-8FC3-0BE02F10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6A8-539A-4120-9D9F-8F8CE91B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AD0-BCCE-4E1F-8131-8A4C5D9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D26-C657-4E9E-AD35-B3B79F70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336-BE8D-449D-B17A-33AC5C0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6130-03F5-4CF8-8863-774DCE5CC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: Password-Based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9, 1998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minor 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Cryptography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ublished 10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modular encryp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dular message authentic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Key Derivation Fun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KDF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pute block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H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utput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MAC widely implemented, “provably secure” under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viewed as a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increases cost, preserves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length through vary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encryp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such as IV select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ssage Authentica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S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message authentic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ddressing the Limit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model /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still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support wider 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practical problem for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pporting Techniqu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, DES-EDE3, RC2, RC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 CBC mode with PKCS #5 v1.5 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-EDE2, DESX, RC4 to be ad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deriv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BKD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kdf2 ::= pkcs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KDF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 (1..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eyLength [0] INTEGER DEFAULT 16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hFunc [1] AlgID {{pbkdf2Hashs}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EFAULT sha1Identifier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IDs as in v1.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2AndDES-CBC ::= pkcs-5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5AndDES-CBC ::= pkcs-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SHA1AndRC2-CBC ::= pkcs-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Parameter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 SIZE (8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es2 ::= pkcs-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S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es2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nc AlgID {{pbes2En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MAC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mac1 ::= pkcs-5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MAC1-params ::= 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mac1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c AlgID {{pbmac1Ma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pper” and usag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ssword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with a passwor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,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peculiar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s are not convention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are they very “rando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-based key deri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BKD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vents dictionary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licates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conventional crypto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Encryption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ed 11/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5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erate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sh with password to derive key, I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as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ad message and encry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-CBC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t to recip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imitations of v1.5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wo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padding, assumes CB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mal model or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hanc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Data Security 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2-CBC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2 password-based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Workshop ’97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PKCS #5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New key derivation function to b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Modular encryption, message authentic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for underlying scheme (e.g., IV)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urt Kaliski</cp:lastModifiedBy>
  <cp:lastPrinted>1998-08-07T15:04:05Z</cp:lastPrinted>
  <dcterms:modified xsi:type="dcterms:W3CDTF">1998-10-13T15:25:00Z</dcterms:modified>
  <cp:revision>185</cp:revision>
  <dc:subject/>
  <dc:title>Emerging Standards for Public-Key Cryptography</dc:title>
</cp:coreProperties>
</file>