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63711"/>
        <c:axId val="57809999"/>
      </c:barChart>
      <c:catAx>
        <c:axId val="43363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09999"/>
        <c:crosses val="autoZero"/>
        <c:auto val="1"/>
        <c:lblAlgn val="ctr"/>
        <c:lblOffset val="100"/>
        <c:noMultiLvlLbl val="0"/>
      </c:catAx>
      <c:valAx>
        <c:axId val="57809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63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C04-92B7-41EF-9F11-FBD6DCAC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E01-C997-464D-9523-ECD6C727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325-F737-49BC-A063-F90FE59E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474-209D-475C-9DE4-0C312E49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65E-02CE-4E65-8E78-AF591CE1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E09-8700-4B55-848D-4718A29B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8D4-FF23-40A5-804E-CCFFFC13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59E-5AFF-4F8C-82E5-062BFA73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F60-0166-4E71-A95A-0F94DE40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90BA-1432-4175-9FDE-60B77D71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E19-57A6-48F1-B62A-5C834FC3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A11-AF3E-4788-9F1E-A7AA9D17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B2C9E-637A-4E37-B384-E1DD607389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