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08550"/>
        <c:axId val="10010134"/>
      </c:barChart>
      <c:catAx>
        <c:axId val="3340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10134"/>
        <c:crosses val="autoZero"/>
        <c:auto val="1"/>
        <c:lblAlgn val="ctr"/>
        <c:lblOffset val="100"/>
        <c:noMultiLvlLbl val="0"/>
      </c:catAx>
      <c:valAx>
        <c:axId val="10010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A37-394F-44CB-B071-CF27DDB8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088-D6F8-4140-AA88-CB52FA8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26D-4CA1-4AE2-8893-22F698CD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D57-C872-4CD2-BC98-705E2537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F84-C17F-4891-81DF-16ACF308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2CE-31CC-45B0-9D0A-2B02466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794-33F6-4178-A9C2-235A26C9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DAA-0A88-42F5-9BDC-EBCEE380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D54-E85F-492A-B572-DF95696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C39-89CD-45A3-92A1-1DD399D5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522-AE1A-461F-B36E-887996C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A5B-DAA7-4F41-9B5A-0DA823D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C1B11-5443-49A0-8A31-35F29C500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