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798933"/>
        <c:axId val="44438702"/>
      </c:barChart>
      <c:catAx>
        <c:axId val="37798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38702"/>
        <c:crosses val="autoZero"/>
        <c:auto val="1"/>
        <c:lblAlgn val="ctr"/>
        <c:lblOffset val="100"/>
        <c:noMultiLvlLbl val="0"/>
      </c:catAx>
      <c:valAx>
        <c:axId val="444387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98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5462-8DD9-441C-9146-9F12B35A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C65C-4B37-4300-A3EB-2F1357F0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7D2F-A87B-4887-A376-1F1E64CD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E5B0-34EC-4BDC-9419-0704E68A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2D0D-3355-4070-A923-4E1D98B5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E09B-A9DC-441B-9767-5830A149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86CA-3CA7-4190-87DA-DE742D5E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E7BA-E80F-45EE-A2AF-4785A2BC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C18C-6191-4A5C-962E-CF846012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1BCA-4897-4518-8A8B-07149AB4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8376-FAA7-4696-9F58-8DC855AF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0A53-2681-4D76-8164-78E5673E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E37E9-6926-4CE2-812A-D39D1EA658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