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57592"/>
        <c:axId val="25602880"/>
      </c:barChart>
      <c:catAx>
        <c:axId val="716575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02880"/>
        <c:crosses val="autoZero"/>
        <c:auto val="1"/>
        <c:lblAlgn val="ctr"/>
        <c:lblOffset val="100"/>
        <c:noMultiLvlLbl val="0"/>
      </c:catAx>
      <c:valAx>
        <c:axId val="256028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575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1130-446E-4A83-9DF8-C526B855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E0F-E901-422C-A81C-1AC2D8497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5B5-E78E-4024-A216-1C77B0F94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D595-679E-47F2-A894-FA66717D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9C30-A12D-4261-997D-CB0B7FCD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D80F-3888-490F-A247-03F82376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E067-AA12-4FBF-87C9-E4DB2A7F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A35-ADBF-4824-A524-319FE190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CA05-54D4-451B-91B2-0C260DFA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BAA0-E616-4E3F-A76C-9C517C88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1C7B-99F9-4FB8-94B4-00465B00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7E1F-2876-435D-9581-513C9EA7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DD8AA-9AAE-40D3-9AEF-D3337563B8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