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808308"/>
        <c:axId val="85647650"/>
      </c:barChart>
      <c:catAx>
        <c:axId val="67808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647650"/>
        <c:crosses val="autoZero"/>
        <c:auto val="1"/>
        <c:lblAlgn val="ctr"/>
        <c:lblOffset val="100"/>
        <c:noMultiLvlLbl val="0"/>
      </c:catAx>
      <c:valAx>
        <c:axId val="856476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808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377-BC7B-4CB9-B599-E5AAFE9F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A044-4D5F-43B5-AA5C-00CA293E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8B7-C27A-489C-AE8B-06807786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0553-0B82-49CA-8E4D-FC34F05BC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3011-2CDE-47BB-AEBE-95E9889A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37FA-8753-4E9D-8BEA-24DC382B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A0E5-9E88-4329-93BE-884E3B88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DC63-DBF4-4DD4-9788-0DC562E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2B6C-4949-4C7A-B196-45D71B44E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FCB3-F376-4E1C-9995-27AF2207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C5C-D3C3-4C0C-8738-014E0EA9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7B49-7DD2-49F5-B510-6098869E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75703-22A5-4ED0-A549-297C7B6E80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