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599990"/>
        <c:axId val="62857147"/>
      </c:barChart>
      <c:catAx>
        <c:axId val="365999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857147"/>
        <c:crosses val="autoZero"/>
        <c:auto val="1"/>
        <c:lblAlgn val="ctr"/>
        <c:lblOffset val="100"/>
        <c:noMultiLvlLbl val="0"/>
      </c:catAx>
      <c:valAx>
        <c:axId val="628571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999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41DA-F8C2-4710-9603-68FFD2CA6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D959-15AD-4E3B-824A-A635DF81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857F-DBFC-4DD3-A3CC-6562FEA9F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AA46-9977-4DDE-97B1-0EE865D0C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A4DA-7322-4D8D-908D-7645BD8F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AECB-7CE3-4094-98EA-7A4AC3E2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1C4C-3F34-44AD-8031-F0A1D9A5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F871-3202-43FD-9602-EFE4866C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51A9-E744-478E-83AF-5490A77A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5ED3-AAE4-432F-B490-65A5C011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B284-4A7B-477E-B77E-458F0022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083D-9F4B-4899-9A4C-F974C28E7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1CF2A-EEED-4C14-A5A0-41355B2254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