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497-E206-480E-A5B0-D2F7D150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7CF-1A5E-49BB-89B1-A4A93EFB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EF2-F608-4D83-8B89-DA66E0A5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A1C-F05A-43DF-B9F0-BF265327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AE8-5428-4B6A-B6CB-66665E12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531-1881-4B50-A30D-B88B0BE7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39D-FBBF-41C1-A006-AB370566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A18-CBCE-4951-892C-15171F8D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DCB-C505-46CC-AE9E-B58BCB3E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3D2-7EFF-40E2-87C6-9320097E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9E3-E3A8-4E43-B1B5-80E630B3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F3E-2B4F-4AF3-B35A-3C2FFCE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B661-AFF0-4F12-BCA1-901FF5161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 : RSA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Sta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En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E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D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De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unde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bitrary length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ME-OAEP-Encode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ction 9.1.1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utpu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G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ask gen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ng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ncod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length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message, EM (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, “message too long”, or “parameter string too l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ES-OAEP-Encrypt calls thi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52480" y="838080"/>
          <a:ext cx="632484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838080"/>
                    <a:ext cx="6324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-OAEP-En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uxiliary Functions (Section 10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, variable length input, fixed length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resistance important to deter forgery of v1.5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recommended for EME-O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, MD5 and SHA-1 are recommended for all other encod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-6120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k gener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variable length input and output string of any predetermined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.0 defines an MGF based on a hash function,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the recommended hash function for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GF1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mask (the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 be the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ength 4 with the primitive I2OS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2OS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catenate the hash of the s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the le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 for RSA-OAEP (Section 11.2.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allows for increased functionality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ash functions, other types of MGF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D for the RSAES-OAEP encryption sche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RSAES-OAEP OBJECT IDENTIFIER ::= {pkcs-1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 associated with this OI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P-OAEP-param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S-OAEP-params ::=  SEQUEN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Func [0] AlgorithmIdentifier{{oaepDigest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kGenFunc [1] AlgorithmIdentifier{{pkcs1MGF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mgf1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ourceFunc [2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 {{pkcs1pSource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pSpecifiedEmptyIdentifi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-2376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2.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ctet string t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explicitly, although the syntax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kcs1pSourceAlgorithms ALGORITHM-IDENTIFIER ::= {{OCTET STRING IDENTIFIED BY id-pSpecified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coding parameters are specified explicitl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 OBJECT IDENTIFIER ::= {pkcs-1 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C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aining the encoding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pecifiedEmptyIdentifier ::=AlgorithmIdentifier {id-pSpecified, OCTET STRING SIZE (0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efaults for all the fields in RSAES-OAEP-params are used then the AlgID has th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SAES-OAEP-Default-Identifier ::= AlgorithmIdentifier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id-RSAES-OAE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{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mgf1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pSpecifiedEmptyIdentifier 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on status of v2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v2.0 cont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highlights of v2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ties for 2.x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ilities for v2.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ble security (P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recovery (PSS-R, ISO/IEC 97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ptions (X9.31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O/IEC 9796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national standard for signatures with messag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volves padding, extending and adding redundancy to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X9.31 rDS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sh based encoding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header || padding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| tr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otes the signature op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 generation methods from ANSI draft X9.79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 Number Generation and Validatio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ving proced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ity tests (probabilistic/deterministic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validation method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an area of researc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il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sh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t of two 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Liskov and Silverman for showing that the two facto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early eq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posted for 30-day review on 7/14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submitted as an Internet-Draft to the IETF on 8/6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comments were received…and the final document was posted on 9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-based encryption (Bellare-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.5 encryption, for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1.5 signature scheme with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IDs for the OAEP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echnical Highligh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yle and terminology of v2.0 is similar to IEEE P1363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and 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and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nd 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cryption and signatures w/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mathematical op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 are used i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 RSAEP(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between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output “message representative out of range” and s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Out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primitives and other techniques (e.g. encoding methods) to achieve a particular security g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 (Section 7.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random oracl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ie security to the RS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ext-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” generate valid ciphertext w/o the plai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sen-ciphertext attacks are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essica Staddon</cp:lastModifiedBy>
  <dcterms:modified xsi:type="dcterms:W3CDTF">1998-10-07T03:17:20Z</dcterms:modified>
  <cp:revision>93</cp:revision>
  <dc:subject/>
  <dc:title>Emerging Standards for Public-Key Cryptography</dc:title>
</cp:coreProperties>
</file>