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BB1C-3353-4492-AB45-D92EB5DE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72D5-8F7F-4A18-A0DC-89B804552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FBD8-C041-4A90-B6E6-0F066174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F93F-2F97-4DA0-9D1C-275EAB334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7E6-4EF4-42FF-95EB-0EBEC897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99600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392160" y="152388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59984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99600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392160" y="3673440"/>
            <a:ext cx="228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A7EF-A47D-417A-912D-DD56F03C8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EE22-82BD-4161-8A99-78D76E918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0781-9D2C-45BA-B475-88694C54C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99840" y="22824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D4F-60A9-49D7-AF98-628CEC90F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3A52-87E8-410F-B343-1C5D3F46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231160" y="367344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EFB-8FFA-4475-9023-B37E929B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31160" y="1523880"/>
            <a:ext cx="3458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99840" y="3673440"/>
            <a:ext cx="7086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5D10-2FF7-419E-B948-9E6DA1FD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© RSA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33560" y="640080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D1D7-E790-4420-A09A-8F91DB1B96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796160" y="6111720"/>
            <a:ext cx="1284480" cy="682920"/>
          </a:xfrm>
          <a:prstGeom prst="rect">
            <a:avLst/>
          </a:prstGeom>
          <a:ln w="0">
            <a:noFill/>
          </a:ln>
        </p:spPr>
      </p:pic>
      <p:pic>
        <p:nvPicPr>
          <p:cNvPr id="6" name="keys" descr=""/>
          <p:cNvPicPr/>
          <p:nvPr/>
        </p:nvPicPr>
        <p:blipFill>
          <a:blip r:embed="rId3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14400" y="1828800"/>
            <a:ext cx="8229600" cy="304920"/>
          </a:xfrm>
          <a:prstGeom prst="rect">
            <a:avLst/>
          </a:prstGeom>
          <a:solidFill>
            <a:srgbClr val="e48800"/>
          </a:solidFill>
          <a:ln w="0">
            <a:noFill/>
          </a:ln>
          <a:effectLst>
            <a:outerShdw dist="17819" dir="2700000" blurRad="0" rotWithShape="0">
              <a:srgbClr val="8851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1447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A Data Security, In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keys" descr=""/>
          <p:cNvPicPr/>
          <p:nvPr/>
        </p:nvPicPr>
        <p:blipFill>
          <a:blip r:embed="rId2"/>
          <a:stretch/>
        </p:blipFill>
        <p:spPr>
          <a:xfrm>
            <a:off x="0" y="0"/>
            <a:ext cx="13762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KCS#15 - </a:t>
            </a: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ICC File Format Recommend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us Nyströ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SA Laborat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KCS Worksho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ctober 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ard layou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562720" y="19810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257800" y="457200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b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or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629400" y="3352680"/>
            <a:ext cx="83808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952520" y="25909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259092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885840" y="39625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39625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3886200"/>
            <a:ext cx="160020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096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2742840" y="38098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914400" y="1905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25909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37339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56386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43400" y="4648320"/>
            <a:ext cx="838080" cy="685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4572000"/>
            <a:ext cx="83844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inInf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40384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4724280" y="49528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The TokenInfo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information about the tok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er 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its capabilities (and peculiar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s roughly to PKCS#11 CK_TOKEN_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ODF - Object Directory File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inters to all objects on the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ir attributes (or pointers to their attribu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1" action="ppaction://hlinksldjump"/>
          </p:cNvPr>
          <p:cNvSpPr/>
          <p:nvPr/>
        </p:nvSpPr>
        <p:spPr>
          <a:xfrm>
            <a:off x="16002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Pin Information File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s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PIN is case-sensi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a given PIN needs to be ‘padded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several PINs, there is a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associate PINs with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know if a PIN is local or 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167652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Object F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ins values for one or more token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ld contain their other attribute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not be in same DF as O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16765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KCS#15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s true card interoperability between card-awar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profiling for particular uses, like Electronic Identity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based on PKCS#11 ob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entatively targeted for v1.0 in             Q1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I: Issues and 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 (in no particular order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algorithm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w to recognize supported comman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# of PINs? PKCS#11 only supports on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ncoding of data: ASN.1/[PD]er or XDR or other (or several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ssue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lationship to other initiatives (MultOS, PC/SC (CAPI), JavaCard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 for pure memory card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pecific card implementation detail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 certificates on the card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ral ODFs (keys, certs, etc) or none (implicit searching via File Identifiers)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How to proceed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ggest a separate mailing list, e.g.      pkcs-15@rsa.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 is to reach a ‘final’ version during Q1 ‘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, feedback is solicited and welc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1676520" y="50292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gend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, moti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posal - an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the SEIS work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s Nilsson, AU Systems 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eriences from DC/SC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ott Guthery, Microso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n Alternative: Formal profil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-- Information object class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-PROFILE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id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BJECT IDENTIFIER UNIQUE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Type IDENTIFIED BY &amp;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OFILE-PARAMETERS ::= CLASS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privKeyLength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&amp;noPrivateKeys INTEGER,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SYNTAX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ARE &amp;noDataObje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&amp;noPrivateKey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&amp;privKeyLengt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&amp;oi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PKCS15-PARAMETERS : params } PKCS15-PROFILE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 { 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IDENTIFIED BY { params.&amp;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arams PROFILE-PARAMETERS ::=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DATA OBJECTS IS 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NUMBER OF PRIVATE KEYS IS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PRIVATE KEY LENGTH SHALL BE 102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THE OBJECT IDENTIFIER IS { eid-oid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eid-profile PKCS15-PROFILE ::=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generic-pkcs15-profile { eid-params 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ODFContents {PKCS15-PARAMETERS params} 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ersion INTEGER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rivateKeys     PrivateKeys {params}(SIZE(&amp;params.noPrivKeys)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ublicKeys      Public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ecretKeys      SecretKey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certificates    Certificate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dataObjects     DataObjects {params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key                          INSTANCE OF PKCS15-KEY {params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ObjectAttributes PKCS15CommonObject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KeyAttributes    PKCS15CommonKeyAttributes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CommonPrivateKeyAttributes PKCS15CommonPrivateKeyAttribu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: Formal Profiling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KCS15PrivateRSAKey {PKCS15-PARAMETERS : params }::= SEQUENCE {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modulusLength   INTEGER { params.&amp;privKeyLength }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subjKeyHash     OCTET STRING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path            [1] IMPLICIT PKCS15Path OPTIONAL,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value           [2] IMPLICIT PKCS15RSAPrivateKey OPT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} (WITH COMPONENTS {..., path PRESENT, value ABSENT} |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1300" spc="-1" strike="noStrike">
                <a:solidFill>
                  <a:srgbClr val="000000"/>
                </a:solidFill>
                <a:latin typeface="Courier New"/>
              </a:rPr>
              <a:t>WITH COMPONENTS {..., path ABSENT, value PRESENT}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: SSL nota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enum { xx_rsa_private_key(1), xx_ec_key(2), xx_certificate(3),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_secret_key(4) , (255) } XXObject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Alternatives to ASN.1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/* something */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Type typ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rsa_private_key: XXRSAPrivate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ec_key: XXEC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certificate: XXCertificate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case xx_secret_key: XXSecretKey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Objec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XXObject objects&lt;0..2^16-1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ourier New"/>
              </a:rPr>
              <a:t>} XXWholeStuff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‘card format’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detailed description on how certain higher-level abstractions such as keys and certificates is represented on a particular card in terms of files, directory structur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can also contain recommendations about commands to use and access control r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any standardized forma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 has laid out the foundations in ISO 7816-4, defining file types and commands for accessing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is no generally recognized standard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Introduction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card issuers have implemented their own formats, bound to their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standardized APIs aimed towards tokens like smart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since there is no standard smart card format, users can’t receive full benefit from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99840" y="1523880"/>
            <a:ext cx="70102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mmon card file format recommendation offers interoperability benefits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30960" y="2971800"/>
            <a:ext cx="379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sers (Card Holde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14040" y="34956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Card Issu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9160" y="3962520"/>
            <a:ext cx="37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Application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67400" y="4638600"/>
            <a:ext cx="576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the goal of PKCS#15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ICC File Format Recommen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000000"/>
                </a:solidFill>
                <a:latin typeface="Times New Roman"/>
              </a:rPr>
              <a:t>PKCS#15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447920" y="3123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Part II: An Overview of the Propo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on both crypto-capable cards as well as stored-value c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multiple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s whole domain of PKCS#11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</a:rPr>
              <a:t>Format Characteristics and Requirements, cont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998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ghtforward to do PKCS#11 interface, but not tied to PKCS#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ling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, and an application of,       ISO 78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SDTI</cp:lastModifiedBy>
  <dcterms:modified xsi:type="dcterms:W3CDTF">1998-10-13T17:15:29Z</dcterms:modified>
  <cp:revision>96</cp:revision>
  <dc:subject/>
  <dc:title>Emerging Standards for Public-Key Cryptography</dc:title>
</cp:coreProperties>
</file>