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7204"/>
        <c:axId val="80184165"/>
      </c:barChart>
      <c:catAx>
        <c:axId val="1577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84165"/>
        <c:crosses val="autoZero"/>
        <c:auto val="1"/>
        <c:lblAlgn val="ctr"/>
        <c:lblOffset val="100"/>
        <c:noMultiLvlLbl val="0"/>
      </c:catAx>
      <c:valAx>
        <c:axId val="80184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7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9A6-11F7-49E6-98C5-1B4C670A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C588-982F-48B0-8AA9-9CC45875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558-FFA4-4597-9D17-9937EC23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989-34DD-4F42-8D1E-43F67424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257-4512-456C-AA06-11A1E25D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2B3-0FB2-40E6-B75D-0431CE2E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38E-150C-401F-B5D4-B89E36BF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6E3-A912-4D3A-8EF8-1EA10687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E4C-07B6-4B61-8249-B9FF877B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128-7E64-4C0D-98D5-D1C9809A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58D-34E5-42F6-AEA2-83096594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760-BC41-4335-BD49-77369E71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AA396-B1AB-4E20-8D32-D97B443C82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