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17307"/>
        <c:axId val="46246255"/>
      </c:barChart>
      <c:catAx>
        <c:axId val="25017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6255"/>
        <c:crosses val="autoZero"/>
        <c:auto val="1"/>
        <c:lblAlgn val="ctr"/>
        <c:lblOffset val="100"/>
        <c:noMultiLvlLbl val="0"/>
      </c:catAx>
      <c:valAx>
        <c:axId val="46246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17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BDD-4003-47CE-A457-A7EAB93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AB6-893C-479C-88E3-ADF5D9A8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077-C7A5-4649-A0B9-0FDE6371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6C5-A209-494E-9C9B-91E9348C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074-E8A6-44D2-8F28-7612CAF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97A-7F80-472D-B0AE-F8D40DF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687-ED9C-46F7-9757-9539FF47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041-B0C9-49E8-A599-63300A87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5A3-44D7-4E27-9D1E-A385F0F8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0B6-B107-4468-9904-E170598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FA1-C0E3-43BD-A791-F5671FA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831-9CF8-49A2-B91D-D0065E4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710CD-313D-42CE-BF89-E6E261050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