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038337"/>
        <c:axId val="40997146"/>
      </c:barChart>
      <c:catAx>
        <c:axId val="220383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997146"/>
        <c:crosses val="autoZero"/>
        <c:auto val="1"/>
        <c:lblAlgn val="ctr"/>
        <c:lblOffset val="100"/>
        <c:noMultiLvlLbl val="0"/>
      </c:catAx>
      <c:valAx>
        <c:axId val="409971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0383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4088-60BB-4BC2-989D-1FBC9376A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FFED-A74F-4A9A-8EC5-FD104512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B328-ED4B-48CD-A2ED-45EA60891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7D2E-3494-4E7C-A6C8-63B71E2A9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FBC5-BB09-4426-9632-2AAA2546C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31D1-19BA-4C4B-88E1-DB03B4AD3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A0C6-2884-442E-B05E-CFB51D9A5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B581-DB88-46B2-AC72-D0F905A36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59F9-CE8A-44F7-B0DE-56B6E922B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EA4F-85F8-41E7-88D5-98888C8E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8726-A669-49B4-B476-E02C5598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E08D-340D-481A-A491-8C3BC525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2FF49F-317B-44E8-82E3-6293D4F6458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