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38758"/>
        <c:axId val="66172602"/>
      </c:barChart>
      <c:catAx>
        <c:axId val="63038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72602"/>
        <c:crosses val="autoZero"/>
        <c:auto val="1"/>
        <c:lblAlgn val="ctr"/>
        <c:lblOffset val="100"/>
        <c:noMultiLvlLbl val="0"/>
      </c:catAx>
      <c:valAx>
        <c:axId val="66172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38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369-B877-4289-8ACE-82E9F9AD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215-D95F-4185-9276-947FD49A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F17-A6DE-4A40-840A-79FAACE0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C4D-D84F-4EA7-AF5D-27AC49E8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9EB-69B4-47D2-B2BE-F2D50ED7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44A-2D04-40C3-B7B7-9A2D9375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093-1219-43EF-8DF9-F3615142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388-404C-4E04-B0D9-4ABCADD4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55F-F748-4D0C-8969-CC1EA21F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4F2-03DC-4029-9597-5F6E1C9B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521-14D6-4F97-9C71-F10C8FD1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678-88ED-46D7-8E5D-6B33F9D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A0BD9-8F29-49C1-966A-4D81792C61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