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679133"/>
        <c:axId val="51582464"/>
      </c:barChart>
      <c:catAx>
        <c:axId val="746791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582464"/>
        <c:crosses val="autoZero"/>
        <c:auto val="1"/>
        <c:lblAlgn val="ctr"/>
        <c:lblOffset val="100"/>
        <c:noMultiLvlLbl val="0"/>
      </c:catAx>
      <c:valAx>
        <c:axId val="515824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791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EFAA-97E1-4642-A597-8E5A8A79F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DAD7-D5A4-44FA-BBB1-FDDDE81A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6594-A2B3-408D-A98D-88639CB39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3B0C-CE99-48D4-ACBA-36B369B6D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E0A5-71B9-4DB9-A8C1-563216B4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2C51-E647-4152-9582-3E137D53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9D04-D92A-4190-869E-3B01FCBA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B1F1-59D6-43E3-B48E-D2FFC958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0850-52CC-4C24-99CA-F8F38633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BE9D-8D6D-47B7-AC02-D214F80E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5221-7B02-48FF-A035-23A82011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9647-DA50-41D6-9D6A-412C9E35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0A309-3576-47F8-9D85-36C6DBBDC6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