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19114"/>
        <c:axId val="24259688"/>
      </c:barChart>
      <c:catAx>
        <c:axId val="46619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9688"/>
        <c:crosses val="autoZero"/>
        <c:auto val="1"/>
        <c:lblAlgn val="ctr"/>
        <c:lblOffset val="100"/>
        <c:noMultiLvlLbl val="0"/>
      </c:catAx>
      <c:valAx>
        <c:axId val="24259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19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2CD-9B88-4131-8B87-7A1EEC0E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C8E-D3DE-4775-84E6-F080A9C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69F-F771-483F-86CB-3BC9B900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37-3A6C-4A5B-B52F-07BF6FAD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5BA-E4D7-4F3D-B628-64BB626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672-954E-4DE6-ABEF-967CF468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B13-7F55-4B23-A047-51B3579E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693-FCC2-4AFC-A45F-058EC051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537-2E59-4B5A-8587-4F00E2FA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4FF-3971-40F8-B74A-8EA208C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DD9-CBBD-47EC-9EC2-1BF707C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2F7-4614-4FB5-9FE2-858C3D4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994CC-C357-4F0C-8A28-82B5FE9CC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