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92046"/>
        <c:axId val="95981775"/>
      </c:barChart>
      <c:catAx>
        <c:axId val="610920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81775"/>
        <c:crosses val="autoZero"/>
        <c:auto val="1"/>
        <c:lblAlgn val="ctr"/>
        <c:lblOffset val="100"/>
        <c:noMultiLvlLbl val="0"/>
      </c:catAx>
      <c:valAx>
        <c:axId val="95981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920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4376-28B8-467E-958F-44CC1DA8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241-8E2B-4224-B344-1F2E546B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2CDB-F56D-44B7-81F1-E9A8984C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C0E-7311-4341-9660-B1D182E8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AA2-368A-4180-ACA4-F98F5A12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17F-0BB8-4FFD-9833-96966556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0696-8C76-4906-B387-8D060E02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26AD-B09D-4E5B-87C6-FD66AE56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DF3-ED0B-4193-90A1-0A7033E8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BB8-A799-4390-BD81-1CE84B46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DABB-81FF-4B0F-AF1F-2947876D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BE2D-BE4D-4539-8981-006A3842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85CD6-2B12-465D-AC7F-81B86D7759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