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92350"/>
        <c:axId val="4442019"/>
      </c:barChart>
      <c:catAx>
        <c:axId val="61192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2019"/>
        <c:crosses val="autoZero"/>
        <c:auto val="1"/>
        <c:lblAlgn val="ctr"/>
        <c:lblOffset val="100"/>
        <c:noMultiLvlLbl val="0"/>
      </c:catAx>
      <c:valAx>
        <c:axId val="4442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92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692-D163-44CC-96B4-C5AB2F1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86A-A04E-479C-8E33-8FB26842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332-46AF-420F-B58C-F648AD25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ED9-6F7A-4967-8A03-B6FC697D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B3F-DCD4-4918-958F-5FEA5C0C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7D6-CFE2-4D83-B603-803631A6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EEF-2C37-434A-A476-B853C447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A07-9EE6-4174-A0CC-E2A48771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82B-2BD9-4032-9AE6-9BBF4313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AC4-0C11-4CC7-8590-3A64904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1B4-9AA3-48DC-8F5C-A859E870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DA4-099C-4DAC-95CC-6812306E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EAD2F-E885-4D72-9CDD-D1ECF40C5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