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34287"/>
        <c:axId val="88270306"/>
      </c:barChart>
      <c:catAx>
        <c:axId val="73934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70306"/>
        <c:crosses val="autoZero"/>
        <c:auto val="1"/>
        <c:lblAlgn val="ctr"/>
        <c:lblOffset val="100"/>
        <c:noMultiLvlLbl val="0"/>
      </c:catAx>
      <c:valAx>
        <c:axId val="88270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34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A20-09AA-4562-A270-A2521C01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133-6AD4-45DB-831F-E62437B4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563-A9C6-40AA-8A30-E42690A8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6C5-2899-45C9-8B64-9125EAB2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EB1-8614-449B-A76D-B15676E0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E83-D78C-44DD-BEF1-52B43721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4DA-8107-40F3-88D6-686DB301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FF6-DFAF-4780-A24C-8767BCB9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4B4-2DB7-417C-9F64-05C4CC04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D00-3CAF-4CBE-9986-156355E7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21D-AB95-4ED5-853C-F6D6B4C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8F5-DCFF-479F-8573-CDAB3238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B9013-105A-4E3D-B4D8-43BA104864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