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75079"/>
        <c:axId val="20410636"/>
      </c:barChart>
      <c:catAx>
        <c:axId val="75575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10636"/>
        <c:crosses val="autoZero"/>
        <c:auto val="1"/>
        <c:lblAlgn val="ctr"/>
        <c:lblOffset val="100"/>
        <c:noMultiLvlLbl val="0"/>
      </c:catAx>
      <c:valAx>
        <c:axId val="20410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75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F1B-F608-4E42-A901-BE2D20AC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22C-2BA2-4738-AF67-633AB96C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362-A42B-44F9-A36C-3A1B9E82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6AD-87A7-486B-8288-37A497AB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F84-8910-443A-803A-CF119618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FD8-1D69-4DBD-AC48-E4F4B789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1F6-5B39-49B6-9AE2-37D6A439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B6D-5D9A-4144-B2AE-AE2D67B4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DA2-4D77-48EA-9E82-4101D348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A8C-5555-4F5C-BCF3-95F3576D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408-116F-4F00-92DB-E37D4AD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02E-B3F8-45FB-A8BC-53993EFC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258B5-D25F-4743-8CC8-3DC6D32D5E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